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1F0-0F48-4C05-9422-DE8E1EFB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4B1-EF17-42E0-A68B-D109A5CB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9ED-88E1-470D-8213-DFCBDAD0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299-3D1E-4D6D-8E68-CDA55417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F7A-49E7-4AEF-850E-61297FC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BE2-916E-4A40-AB3D-27A93946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0BE-47E6-4399-A031-516F50BC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1AA-747A-42CC-956F-A91352F0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BE4-8AA5-43AB-BE5A-178F42A5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5FF-77E1-4BFE-B2C9-3B4A156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7F4-EF0C-4AF7-BF9B-6DDF98CA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DF8-56F9-4F80-B3D9-B8398CC9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2C31-E454-463C-AC37-D9EB02D6A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gbatemp.net/img/nds-boxart/static/5647.png&amp;imgrefurl=http://gbatemp.net/index.php%3Fshowtopic%3D190259&amp;usg=__7E02smlcG_Sez-8qJrYejj7UvWc=&amp;h=708&amp;w=800&amp;sz=673&amp;hl=en&amp;start=9&amp;um=1&amp;itbs=1&amp;tbnid=jVarh2JHu2j-_M:&amp;tbnh=127&amp;tbnw=143&amp;prev=/images%3Fq%3Dcooking%2Bmama%2Bjeu%2Bde%2Bconsole%26um%3D1%26hl%3Den%26sa%3DN%26rls%3Dcom.microsoft:en-gb:IE-SearchBox%26rlz%3D1I7ACAW_enGB313GB313%26tbs%3Disch: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.uk/imgres?imgurl=http://www.gameworld.fr/gameworld/images/jaquette_cerebrale_academie_wii&amp;imgrefurl=http://www.gameworld.fr/test-399-par-Bloodysunday-wii-Cerebrale-Academie-Wii.html&amp;usg=__EEKK5as4ZmdAfU-7A1oYmUgktgM=&amp;h=424&amp;w=300&amp;sz=61&amp;hl=en&amp;start=3&amp;um=1&amp;itbs=1&amp;tbnid=xWDbNkNeKUh1QM:&amp;tbnh=126&amp;tbnw=89&amp;prev=/images%3Fq%3DC%25C3%25A9r%25C3%25A9brale%2BAcad%25C3%25A9mie%2BWii%26um%3D1%26hl%3Den%26sa%3DN%26rls%3Dcom.microsoft:en-gb:IE-SearchBox%26rlz%3D1I7ACAW_enGB313GB313%26tbs%3Disch: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o.uk/imgres?imgurl=http://rohanmanoharlovetobe.files.wordpress.com/2007/11/jeans.jpg&amp;imgrefurl=http://rohanmanoharlovetobe.wordpress.com/2007/11/01/my-blue-jeans/&amp;usg=__mU-3Sd_pJHRLddsn4jny6W5fYvI=&amp;h=360&amp;w=360&amp;sz=25&amp;hl=en&amp;start=9&amp;um=1&amp;itbs=1&amp;tbnid=XI0AxsBs7JRxsM:&amp;tbnh=121&amp;tbnw=121&amp;prev=/images%3Fq%3Djeans%26um%3D1%26hl%3Den%26rls%3Dcom.microsoft:en-gb:IE-SearchBox%26rlz%3D1I7ACAW_enGB313GB313%26tbs%3Disch:1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gossipcheck.com/blog/wp-content/uploads/2010/04/justin_bieber.jpg&amp;imgrefurl=http://www.gossipcheck.com/blog/2010/05/18/justin-bieber-sucked-it-up-while-getting-tattoo-studio-owner-says/&amp;usg=__790kAGALDWhK05-Q22sAu3iYNiM=&amp;h=428&amp;w=450&amp;sz=51&amp;hl=en&amp;start=3&amp;um=1&amp;itbs=1&amp;tbnid=G5iMyLeO8dTQCM:&amp;tbnh=121&amp;tbnw=127&amp;prev=/images%3Fq%3Djustin%2Bbieber%26um%3D1%26hl%3Den%26sa%3DN%26rls%3Dcom.microsoft:en-gb:IE-SearchBox%26rlz%3D1I7ACAW_enGB313GB313%26tbs%3Disch: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.uk/imgres?imgurl=http://ideagirlconsulting.files.wordpress.com/2009/11/daniel_radcliffe-harry-potter-ministry-of-music-luke-conrad-idea-girl-consulting.jpg&amp;imgrefurl=http://ideagirlconsulting.wordpress.com/2009/11/28/goodbye-privet-drive-lovegood-the-bravest-man-i-ever-knew-luke-conrad-ministry-of-magic-harry-potter-music/pd29948824-2/&amp;usg=__5HN7iUA5zVvtglTjPDSUjpjVJ6o=&amp;h=420&amp;w=310&amp;sz=13&amp;hl=en&amp;start=9&amp;um=1&amp;itbs=1&amp;tbnid=2Iu_S8qUZ37LKM:&amp;tbnh=125&amp;tbnw=92&amp;prev=/images%3Fq%3Ddaniel%2Bradcliffe%26um%3D1%26hl%3Den%26sa%3DN%26rls%3Dcom.microsoft:en-gb:IE-SearchBox%26rlz%3D1I7ACAW_enGB313GB313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.uk/imgres?imgurl=http://alvinandthechipmunks.files.wordpress.com/2008/06/alvin_and_the_chipmunks_14_.jpg&amp;imgrefurl=http://www.sodahead.com/living/whose-your-favorite-chipmunk/question-810463/&amp;usg=__ARwhhfM_-5ik-hejtULXvRTJMbk=&amp;h=1400&amp;w=993&amp;sz=119&amp;hl=en&amp;start=8&amp;um=1&amp;itbs=1&amp;tbnid=unuUl3H6bPYy4M:&amp;tbnh=150&amp;tbnw=106&amp;prev=/images%3Fq%3Dalvin%2Bchipmunk%26um%3D1%26hl%3Den%26rls%3Dcom.microsoft:en-gb:IE-SearchBox%26rlz%3D1I7ACAW_enGB313GB313%26tbs%3Disch:1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.uk/imgres?imgurl=http://msnbcmedia1.msn.com/j/msnbc/Components/Photo_StoryLevel/080109/080109-MileyCyrus-vmed-12p.widec.jpg&amp;imgrefurl=http://today.msnbc.msn.com/id/22574997/ns/today-today_pets_and_animals/&amp;usg=__g18nlTmgb0Vut5K9Bm03iluCads=&amp;h=393&amp;w=298&amp;sz=16&amp;hl=en&amp;start=67&amp;um=1&amp;itbs=1&amp;tbnid=7M4MuKtS-_ax0M:&amp;tbnh=124&amp;tbnw=94&amp;prev=/images%3Fq%3Dmiley%2Bcyrus%26start%3D60%26um%3D1%26hl%3Den%26sa%3DN%26rls%3Dcom.microsoft:en-gb:IE-SearchBox%26rlz%3D1I7ACAW_enGB313GB313%26ndsp%3D20%26tbs%3Disch:1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celldvsn.com/blog/images/cell%2520focus/public2couv.jpg&amp;imgrefurl=http://www.celldvsn.com/blog/index.php%3Fp4%26l%3Den&amp;usg=__Hki3wtcL7I9ZVFOxkcDJiB4SGok=&amp;h=798&amp;w=610&amp;sz=190&amp;hl=en&amp;start=1&amp;um=1&amp;itbs=1&amp;tbnid=G1XTisM-eYZzZM:&amp;tbnh=143&amp;tbnw=109&amp;prev=/images%3Fq%3Dpublic%2Bmagazine%26um%3D1%26hl%3Den%26rls%3Dcom.microsoft:en-gb:IE-SearchBox%26rlz%3D1I7ACAW_enGB313GB313%26tbs%3Disch: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hyperlink" Target="http://www.google.co.uk/imgres?imgurl=http://culture.froggytest.com/modules/xoopsgallery/cache/albums/albuq38/pirates_des_caraibes_3_jusqu_au_bout_du_monde.jpg&amp;imgrefurl=http://culture.froggytest.com/modules/news/article.php%3Fstoryid%3D3532&amp;usg=__g8eqSFwNdZVuwAVlyVtx2nAtHSw=&amp;h=533&amp;w=400&amp;sz=78&amp;hl=en&amp;start=3&amp;um=1&amp;itbs=1&amp;tbnid=cwbH0A6qkgMpfM:&amp;tbnh=132&amp;tbnw=99&amp;prev=/images%3Fq%3Dpirates%2Bde%2Bla%2Bcaraibe%2Bdvd%26um%3D1%26hl%3Den%26sa%3DX%26rls%3Dcom.microsoft:en-gb:IE-SearchBox%26rlz%3D1I7ACAW_enGB313GB313%26tbs%3Disch:1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www.google.co.uk/imgres?imgurl=http://i129.photobucket.com/albums/p221/UbuntuUser/Alizee.jpg&amp;imgrefurl=http://ghaint.blogspot.com/2008/05/alizee-psychedelices.html&amp;usg=__TA0Ja8VGOWRsI7bhmLtKo1pdOIg=&amp;h=394&amp;w=400&amp;sz=31&amp;hl=en&amp;start=1&amp;um=1&amp;itbs=1&amp;tbnid=WJIa3a_zGaf1GM:&amp;tbnh=122&amp;tbnw=124&amp;prev=/images%3Fq%3Dalizee%2Bcd%26um%3D1%26hl%3Den%26rls%3Dcom.microsoft:en-gb:IE-SearchBox%26rlz%3D1I7ACAW_enGB313GB313%26tbs%3Disch:1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google.co.uk/imgres?imgurl=http://www.textually.org/ringtonia/archives/images/set3/CD-Blank.gif&amp;imgrefurl=http://www.textually.org/ringtonia/archives/2007/09/017228.htm&amp;usg=__7_wnWbFMI_yg20c1emAE3eg6mKs=&amp;h=306&amp;w=308&amp;sz=43&amp;hl=en&amp;start=2&amp;um=1&amp;itbs=1&amp;tbnid=vlKp9mKvI-dX7M:&amp;tbnh=116&amp;tbnw=117&amp;prev=/images%3Fq%3Dcd%26um%3D1%26hl%3Den%26rls%3Dcom.microsoft:en-gb:IE-SearchBox%26rlz%3D1I7ACAW_enGB313GB313%26tbs%3Disch:1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google.co.uk/imgres?imgurl=http://1.bp.blogspot.com/_Hyt7-07y61Q/SMqsvRxrNVI/AAAAAAAAA68/q9XhXC6mpos/s400/la-gamme-de-maquillage-clan-fashion-de-bourjois-2607656_1350.jpg&amp;imgrefurl=http://paoland.blogspot.com/2008/09/bourjois-clan-fashion.html&amp;usg=__LkzKUnjZEz5Z9UI3eS13cwTYqi8=&amp;h=372&amp;w=372&amp;sz=22&amp;hl=en&amp;start=5&amp;um=1&amp;itbs=1&amp;tbnid=EUb4rAv8Ne_W-M:&amp;tbnh=122&amp;tbnw=122&amp;prev=/images%3Fq%3Dbourjois%2Bmaquillage%26um%3D1%26hl%3Den%26rls%3Dcom.microsoft:en-gb:IE-SearchBox%26rlz%3D1I7ACAW_enGB313GB313%26tbs%3Disch:1" TargetMode="External"/><Relationship Id="rId11" Type="http://schemas.openxmlformats.org/officeDocument/2006/relationships/image" Target="../media/image23.jpeg"/><Relationship Id="rId12" Type="http://schemas.openxmlformats.org/officeDocument/2006/relationships/hyperlink" Target="http://www.google.co.uk/imgres?imgurl=http://www.paris-hallal.com/blog/wp-content/uploads/2009/04/bonbons-hallal.JPG&amp;imgrefurl=http://www.paris-hallal.com/blog/index.php/2009/04/06/bonbons-hallal-bientot-en-france/&amp;usg=__SuM658KAxGHrxcYae0oi9M8GPWw=&amp;h=407&amp;w=540&amp;sz=198&amp;hl=en&amp;start=1&amp;um=1&amp;itbs=1&amp;tbnid=G1oYyBpJl2iPsM:&amp;tbnh=99&amp;tbnw=132&amp;prev=/images%3Fq%3Ddes%2Bbonbons%26um%3D1%26hl%3Den%26rls%3Dcom.microsoft:en-gb:IE-SearchBox%26rlz%3D1I7ACAW_enGB313GB313%26tbs%3Disch:1" TargetMode="External"/><Relationship Id="rId13" Type="http://schemas.openxmlformats.org/officeDocument/2006/relationships/image" Target="../media/image24.jpeg"/><Relationship Id="rId14" Type="http://schemas.openxmlformats.org/officeDocument/2006/relationships/hyperlink" Target="http://www.google.co.uk/imgres?imgurl=http://www.tkaap.com/blog/wp-content/uploads/2009/08/petitprince_livre.gif&amp;imgrefurl=http://www.tkaap.com/blog/2009/09/&amp;usg=__0NkYH5rAfWiTocTw15uHUXKAPLA=&amp;h=475&amp;w=334&amp;sz=33&amp;hl=en&amp;start=1&amp;um=1&amp;itbs=1&amp;tbnid=ycBoiU7RlLN6KM:&amp;tbnh=129&amp;tbnw=91&amp;prev=/images%3Fq%3Dpetit%2Bprince%2Blivre%26um%3D1%26hl%3Den%26rls%3Dcom.microsoft:en-gb:IE-SearchBox%26rlz%3D1I7ACAW_enGB313GB313%26tbs%3Disch:1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www.google.co.uk/imgres?imgurl=http://www.blog-o-book.com/wp-content/uploads/2009/01/couverture_cf.jpg&amp;imgrefurl=http://www.blog-o-book.com/harry-potter-et-la-coupe-de-feu&amp;usg=__A_tR5qLv-VWZVUkp3B9poAJbBro=&amp;h=470&amp;w=300&amp;sz=88&amp;hl=en&amp;start=2&amp;um=1&amp;itbs=1&amp;tbnid=zrVYsABU8d9mjM:&amp;tbnh=129&amp;tbnw=82&amp;prev=/images%3Fq%3Dharry%2Bpotter%2Blivre%26um%3D1%26hl%3Den%26rls%3Dcom.microsoft:en-gb:IE-SearchBox%26rlz%3D1I7ACAW_enGB313GB313%26tbs%3Disch:1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www.google.co.uk/imgres?imgurl=http://www.weefiz.com/chaussures-sport/Image/tendances/sneakers3.jpg&amp;imgrefurl=http://www.weefiz.com/fr/tendances/actualites-32_40.html&amp;usg=__RGSse_ac4IY4BEcjOfMyGLsqTRI=&amp;h=364&amp;w=485&amp;sz=43&amp;hl=en&amp;start=5&amp;um=1&amp;itbs=1&amp;tbnid=oh-cvaj2rL076M:&amp;tbnh=97&amp;tbnw=129&amp;prev=/images%3Fq%3Ddes%2Bbaskets%26um%3D1%26hl%3Den%26sa%3DN%26rlz%3D1R2ADFA_enGB374%26tbs%3Disch:1" TargetMode="External"/><Relationship Id="rId19" Type="http://schemas.openxmlformats.org/officeDocument/2006/relationships/image" Target="../media/image25.png"/><Relationship Id="rId20" Type="http://schemas.openxmlformats.org/officeDocument/2006/relationships/hyperlink" Target="http://www.google.co.uk/imgres?imgurl=http://gbatemp.net/img/nds-boxart/static/5647.png&amp;imgrefurl=http://gbatemp.net/index.php%3Fshowtopic%3D190259&amp;usg=__7E02smlcG_Sez-8qJrYejj7UvWc=&amp;h=708&amp;w=800&amp;sz=673&amp;hl=en&amp;start=9&amp;um=1&amp;itbs=1&amp;tbnid=jVarh2JHu2j-_M:&amp;tbnh=127&amp;tbnw=143&amp;prev=/images%3Fq%3Dcooking%2Bmama%2Bjeu%2Bde%2Bconsole%26um%3D1%26hl%3Den%26sa%3DN%26rls%3Dcom.microsoft:en-gb:IE-SearchBox%26rlz%3D1I7ACAW_enGB313GB313%26tbs%3Disch:1" TargetMode="External"/><Relationship Id="rId21" Type="http://schemas.openxmlformats.org/officeDocument/2006/relationships/image" Target="../media/image16.jpeg"/><Relationship Id="rId22" Type="http://schemas.openxmlformats.org/officeDocument/2006/relationships/hyperlink" Target="http://www.google.co.uk/imgres?imgurl=http://www.gameworld.fr/gameworld/images/jaquette_cerebrale_academie_wii&amp;imgrefurl=http://www.gameworld.fr/test-399-par-Bloodysunday-wii-Cerebrale-Academie-Wii.html&amp;usg=__EEKK5as4ZmdAfU-7A1oYmUgktgM=&amp;h=424&amp;w=300&amp;sz=61&amp;hl=en&amp;start=3&amp;um=1&amp;itbs=1&amp;tbnid=xWDbNkNeKUh1QM:&amp;tbnh=126&amp;tbnw=89&amp;prev=/images%3Fq%3DC%25C3%25A9r%25C3%25A9brale%2BAcad%25C3%25A9mie%2BWii%26um%3D1%26hl%3Den%26sa%3DN%26rls%3Dcom.microsoft:en-gb:IE-SearchBox%26rlz%3D1I7ACAW_enGB313GB313%26tbs%3Disch:1" TargetMode="External"/><Relationship Id="rId23" Type="http://schemas.openxmlformats.org/officeDocument/2006/relationships/image" Target="../media/image17.jpeg"/><Relationship Id="rId24" Type="http://schemas.openxmlformats.org/officeDocument/2006/relationships/image" Target="../media/image26.jpeg"/><Relationship Id="rId25" Type="http://schemas.openxmlformats.org/officeDocument/2006/relationships/hyperlink" Target="http://www.google.co.uk/imgres?imgurl=http://rohanmanoharlovetobe.files.wordpress.com/2007/11/jeans.jpg&amp;imgrefurl=http://rohanmanoharlovetobe.wordpress.com/2007/11/01/my-blue-jeans/&amp;usg=__mU-3Sd_pJHRLddsn4jny6W5fYvI=&amp;h=360&amp;w=360&amp;sz=25&amp;hl=en&amp;start=9&amp;um=1&amp;itbs=1&amp;tbnid=XI0AxsBs7JRxsM:&amp;tbnh=121&amp;tbnw=121&amp;prev=/images%3Fq%3Djeans%26um%3D1%26hl%3Den%26rls%3Dcom.microsoft:en-gb:IE-SearchBox%26rlz%3D1I7ACAW_enGB313GB313%26tbs%3Disch:1" TargetMode="External"/><Relationship Id="rId26" Type="http://schemas.openxmlformats.org/officeDocument/2006/relationships/image" Target="../media/image20.png"/><Relationship Id="rId27" Type="http://schemas.openxmlformats.org/officeDocument/2006/relationships/image" Target="../media/image15.png"/><Relationship Id="rId28" Type="http://schemas.openxmlformats.org/officeDocument/2006/relationships/image" Target="../media/image7.png"/><Relationship Id="rId2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gossipcheck.com/blog/wp-content/uploads/2010/04/justin_bieber.jpg&amp;imgrefurl=http://www.gossipcheck.com/blog/2010/05/18/justin-bieber-sucked-it-up-while-getting-tattoo-studio-owner-says/&amp;usg=__790kAGALDWhK05-Q22sAu3iYNiM=&amp;h=428&amp;w=450&amp;sz=51&amp;hl=en&amp;start=3&amp;um=1&amp;itbs=1&amp;tbnid=G5iMyLeO8dTQCM:&amp;tbnh=121&amp;tbnw=127&amp;prev=/images%3Fq%3Djustin%2Bbieber%26um%3D1%26hl%3Den%26sa%3DN%26rls%3Dcom.microsoft:en-gb:IE-SearchBox%26rlz%3D1I7ACAW_enGB313GB313%26tbs%3Disch: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.uk/imgres?imgurl=http://ideagirlconsulting.files.wordpress.com/2009/11/daniel_radcliffe-harry-potter-ministry-of-music-luke-conrad-idea-girl-consulting.jpg&amp;imgrefurl=http://ideagirlconsulting.wordpress.com/2009/11/28/goodbye-privet-drive-lovegood-the-bravest-man-i-ever-knew-luke-conrad-ministry-of-magic-harry-potter-music/pd29948824-2/&amp;usg=__5HN7iUA5zVvtglTjPDSUjpjVJ6o=&amp;h=420&amp;w=310&amp;sz=13&amp;hl=en&amp;start=9&amp;um=1&amp;itbs=1&amp;tbnid=2Iu_S8qUZ37LKM:&amp;tbnh=125&amp;tbnw=92&amp;prev=/images%3Fq%3Ddaniel%2Bradcliffe%26um%3D1%26hl%3Den%26sa%3DN%26rls%3Dcom.microsoft:en-gb:IE-SearchBox%26rlz%3D1I7ACAW_enGB313GB313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.uk/imgres?imgurl=http://alvinandthechipmunks.files.wordpress.com/2008/06/alvin_and_the_chipmunks_14_.jpg&amp;imgrefurl=http://www.sodahead.com/living/whose-your-favorite-chipmunk/question-810463/&amp;usg=__ARwhhfM_-5ik-hejtULXvRTJMbk=&amp;h=1400&amp;w=993&amp;sz=119&amp;hl=en&amp;start=8&amp;um=1&amp;itbs=1&amp;tbnid=unuUl3H6bPYy4M:&amp;tbnh=150&amp;tbnw=106&amp;prev=/images%3Fq%3Dalvin%2Bchipmunk%26um%3D1%26hl%3Den%26rls%3Dcom.microsoft:en-gb:IE-SearchBox%26rlz%3D1I7ACAW_enGB313GB313%26tbs%3Disch:1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.uk/imgres?imgurl=http://msnbcmedia1.msn.com/j/msnbc/Components/Photo_StoryLevel/080109/080109-MileyCyrus-vmed-12p.widec.jpg&amp;imgrefurl=http://today.msnbc.msn.com/id/22574997/ns/today-today_pets_and_animals/&amp;usg=__g18nlTmgb0Vut5K9Bm03iluCads=&amp;h=393&amp;w=298&amp;sz=16&amp;hl=en&amp;start=67&amp;um=1&amp;itbs=1&amp;tbnid=7M4MuKtS-_ax0M:&amp;tbnh=124&amp;tbnw=94&amp;prev=/images%3Fq%3Dmiley%2Bcyrus%26start%3D60%26um%3D1%26hl%3Den%26sa%3DN%26rls%3Dcom.microsoft:en-gb:IE-SearchBox%26rlz%3D1I7ACAW_enGB313GB313%26ndsp%3D20%26tbs%3Disch:1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google.co.uk/imgres?imgurl=http://www.celldvsn.com/blog/images/cell%2520focus/public2couv.jpg&amp;imgrefurl=http://www.celldvsn.com/blog/index.php%3Fp4%26l%3Den&amp;usg=__Hki3wtcL7I9ZVFOxkcDJiB4SGok=&amp;h=798&amp;w=610&amp;sz=190&amp;hl=en&amp;start=1&amp;um=1&amp;itbs=1&amp;tbnid=G1XTisM-eYZzZM:&amp;tbnh=143&amp;tbnw=109&amp;prev=/images%3Fq%3Dpublic%2Bmagazine%26um%3D1%26hl%3Den%26rls%3Dcom.microsoft:en-gb:IE-SearchBox%26rlz%3D1I7ACAW_enGB313GB313%26tbs%3Disch:1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tkaap.com/blog/wp-content/uploads/2009/08/petitprince_livre.gif&amp;imgrefurl=http://www.tkaap.com/blog/2009/09/&amp;usg=__0NkYH5rAfWiTocTw15uHUXKAPLA=&amp;h=475&amp;w=334&amp;sz=33&amp;hl=en&amp;start=1&amp;um=1&amp;itbs=1&amp;tbnid=ycBoiU7RlLN6KM:&amp;tbnh=129&amp;tbnw=91&amp;prev=/images%3Fq%3Dpetit%2Bprince%2Blivre%26um%3D1%26hl%3Den%26rls%3Dcom.microsoft:en-gb:IE-SearchBox%26rlz%3D1I7ACAW_enGB313GB313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.uk/imgres?imgurl=http://www.blog-o-book.com/wp-content/uploads/2009/01/couverture_cf.jpg&amp;imgrefurl=http://www.blog-o-book.com/harry-potter-et-la-coupe-de-feu&amp;usg=__A_tR5qLv-VWZVUkp3B9poAJbBro=&amp;h=470&amp;w=300&amp;sz=88&amp;hl=en&amp;start=2&amp;um=1&amp;itbs=1&amp;tbnid=zrVYsABU8d9mjM:&amp;tbnh=129&amp;tbnw=82&amp;prev=/images%3Fq%3Dharry%2Bpotter%2Blivre%26um%3D1%26hl%3Den%26rls%3Dcom.microsoft:en-gb:IE-SearchBox%26rlz%3D1I7ACAW_enGB313GB313%26tbs%3Disch: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culture.froggytest.com/modules/xoopsgallery/cache/albums/albuq38/pirates_des_caraibes_3_jusqu_au_bout_du_monde.jpg&amp;imgrefurl=http://culture.froggytest.com/modules/news/article.php%3Fstoryid%3D3532&amp;usg=__g8eqSFwNdZVuwAVlyVtx2nAtHSw=&amp;h=533&amp;w=400&amp;sz=78&amp;hl=en&amp;start=3&amp;um=1&amp;itbs=1&amp;tbnid=cwbH0A6qkgMpfM:&amp;tbnh=132&amp;tbnw=99&amp;prev=/images%3Fq%3Dpirates%2Bde%2Bla%2Bcaraibe%2Bdvd%26um%3D1%26hl%3Den%26sa%3DX%26rls%3Dcom.microsoft:en-gb:IE-SearchBox%26rlz%3D1I7ACAW_enGB313GB313%26tbs%3Disch:1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w.google.co.uk/imgres?imgurl=http://i129.photobucket.com/albums/p221/UbuntuUser/Alizee.jpg&amp;imgrefurl=http://ghaint.blogspot.com/2008/05/alizee-psychedelices.html&amp;usg=__TA0Ja8VGOWRsI7bhmLtKo1pdOIg=&amp;h=394&amp;w=400&amp;sz=31&amp;hl=en&amp;start=1&amp;um=1&amp;itbs=1&amp;tbnid=WJIa3a_zGaf1GM:&amp;tbnh=122&amp;tbnw=124&amp;prev=/images%3Fq%3Dalizee%2Bcd%26um%3D1%26hl%3Den%26rls%3Dcom.microsoft:en-gb:IE-SearchBox%26rlz%3D1I7ACAW_enGB313GB313%26tbs%3Disch: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www.google.co.uk/imgres?imgurl=http://www.textually.org/ringtonia/archives/images/set3/CD-Blank.gif&amp;imgrefurl=http://www.textually.org/ringtonia/archives/2007/09/017228.htm&amp;usg=__7_wnWbFMI_yg20c1emAE3eg6mKs=&amp;h=306&amp;w=308&amp;sz=43&amp;hl=en&amp;start=2&amp;um=1&amp;itbs=1&amp;tbnid=vlKp9mKvI-dX7M:&amp;tbnh=116&amp;tbnw=117&amp;prev=/images%3Fq%3Dcd%26um%3D1%26hl%3Den%26rls%3Dcom.microsoft:en-gb:IE-SearchBox%26rlz%3D1I7ACAW_enGB313GB313%26tbs%3Disch:1" TargetMode="External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417080" cy="1109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ffffff"/>
                </a:solidFill>
                <a:uFillTx/>
                <a:latin typeface="Comic Sans MS"/>
              </a:rPr>
              <a:t>L’argent de po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3933720"/>
            <a:ext cx="8642160" cy="266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 to revis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 to be able to say how much pocket money you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 to be able to say what you do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6597720"/>
            <a:ext cx="752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/LRichardson 2014 http://www.lightbulblanguages.co.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072400">
            <a:off x="1834920" y="1916280"/>
            <a:ext cx="3747960" cy="333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205000"/>
            <a:ext cx="2338560" cy="33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4894" t="4870" r="3655" b="5763"/>
          <a:stretch/>
        </p:blipFill>
        <p:spPr>
          <a:xfrm>
            <a:off x="1692360" y="1700280"/>
            <a:ext cx="5688000" cy="417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 rot="20538000">
            <a:off x="1833480" y="165744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213372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6481800" cy="6769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233400">
            <a:off x="2195280" y="255600"/>
            <a:ext cx="5903640" cy="68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radley Hand ITC"/>
              </a:rPr>
              <a:t>Liste de souhaits pour  mes vacanc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- quatre paquets de bon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(2 par semai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quelquechose à jouer s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mon Nintendo 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trois nouveaux t-shi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Cosmopolitan et Public magaz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la nouvelle disque de Rih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…</a:t>
            </a: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c’est tou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radley Hand ITC"/>
              </a:rPr>
              <a:t>Mais…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Bradley Hand ITC"/>
              </a:rPr>
              <a:t>ça va coûter combien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907920"/>
            <a:ext cx="1152360" cy="576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2133720"/>
            <a:ext cx="1152720" cy="576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2637000"/>
            <a:ext cx="1152360" cy="576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1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96360" y="3860640"/>
            <a:ext cx="1152360" cy="576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4292640"/>
            <a:ext cx="1152360" cy="576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4941720"/>
            <a:ext cx="1944720" cy="1656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417080" cy="1109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ffffff"/>
                </a:solidFill>
                <a:uFillTx/>
                <a:latin typeface="Comic Sans MS"/>
              </a:rPr>
              <a:t>L’argent de po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42560" y="2636640"/>
            <a:ext cx="6985080" cy="3889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 to revis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 to be able to say how much pocket money you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 to be able to say what you do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076640"/>
            <a:ext cx="2447640" cy="2332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43280" y="3716280"/>
            <a:ext cx="2449800" cy="1368360"/>
          </a:xfrm>
          <a:prstGeom prst="wedgeRoundRectCallout">
            <a:avLst>
              <a:gd name="adj1" fmla="val 68277"/>
              <a:gd name="adj2" fmla="val 47217"/>
              <a:gd name="adj3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73360"/>
            <a:ext cx="1377720" cy="1871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63640" y="1916280"/>
            <a:ext cx="2521080" cy="1657080"/>
          </a:xfrm>
          <a:prstGeom prst="wedgeRoundRectCallout">
            <a:avLst>
              <a:gd name="adj1" fmla="val -83375"/>
              <a:gd name="adj2" fmla="val -7277"/>
              <a:gd name="adj3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vec mon argent de poche, j’achè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3933720"/>
            <a:ext cx="1627200" cy="2303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79640" y="3860640"/>
            <a:ext cx="2449440" cy="1368720"/>
          </a:xfrm>
          <a:prstGeom prst="wedgeRoundRectCallout">
            <a:avLst>
              <a:gd name="adj1" fmla="val -71000"/>
              <a:gd name="adj2" fmla="val 2076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20000" y="1700280"/>
            <a:ext cx="1365120" cy="1800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27640" y="1628640"/>
            <a:ext cx="2449440" cy="1368720"/>
          </a:xfrm>
          <a:prstGeom prst="wedgeRoundRectCallout">
            <a:avLst>
              <a:gd name="adj1" fmla="val 70222"/>
              <a:gd name="adj2" fmla="val 30856"/>
              <a:gd name="adj3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059800">
            <a:off x="826920" y="2491920"/>
            <a:ext cx="1038240" cy="1362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agazine subscription Planète jeunes"/>
          <p:cNvPicPr/>
          <p:nvPr/>
        </p:nvPicPr>
        <p:blipFill>
          <a:blip r:embed="rId3"/>
          <a:stretch/>
        </p:blipFill>
        <p:spPr>
          <a:xfrm>
            <a:off x="1258920" y="2565360"/>
            <a:ext cx="952560" cy="1343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20542800">
            <a:off x="6875640" y="2636640"/>
            <a:ext cx="942840" cy="1257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378560" y="3068640"/>
            <a:ext cx="792360" cy="851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20000" y="3284640"/>
            <a:ext cx="865080" cy="857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77080" y="476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11280" y="47628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 rot="21280200">
            <a:off x="3851280" y="2563560"/>
            <a:ext cx="866880" cy="1228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889200">
            <a:off x="4355640" y="2707920"/>
            <a:ext cx="781200" cy="1228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3708360" y="4797360"/>
            <a:ext cx="1619280" cy="121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 rot="20072400">
            <a:off x="684360" y="4941360"/>
            <a:ext cx="1152360" cy="1024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1547640" y="4869000"/>
            <a:ext cx="847800" cy="1199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6443640" y="4508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164360" y="50846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7"/>
          <a:stretch/>
        </p:blipFill>
        <p:spPr>
          <a:xfrm>
            <a:off x="7020000" y="3284640"/>
            <a:ext cx="865080" cy="857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8"/>
          <a:stretch/>
        </p:blipFill>
        <p:spPr>
          <a:xfrm>
            <a:off x="3851280" y="54936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C’est quel numé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04840" y="1557360"/>
          <a:ext cx="7570440" cy="604800"/>
        </p:xfrm>
        <a:graphic>
          <a:graphicData uri="http://schemas.openxmlformats.org/drawingml/2006/table">
            <a:tbl>
              <a:tblPr/>
              <a:tblGrid>
                <a:gridCol w="841680"/>
                <a:gridCol w="839880"/>
                <a:gridCol w="842040"/>
                <a:gridCol w="841680"/>
                <a:gridCol w="839520"/>
                <a:gridCol w="842040"/>
                <a:gridCol w="841680"/>
                <a:gridCol w="840240"/>
                <a:gridCol w="8416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116000" y="2421000"/>
          <a:ext cx="7570440" cy="604800"/>
        </p:xfrm>
        <a:graphic>
          <a:graphicData uri="http://schemas.openxmlformats.org/drawingml/2006/table">
            <a:tbl>
              <a:tblPr/>
              <a:tblGrid>
                <a:gridCol w="841680"/>
                <a:gridCol w="839880"/>
                <a:gridCol w="842040"/>
                <a:gridCol w="841680"/>
                <a:gridCol w="839520"/>
                <a:gridCol w="842040"/>
                <a:gridCol w="841680"/>
                <a:gridCol w="840240"/>
                <a:gridCol w="8416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116000" y="3357720"/>
          <a:ext cx="7570440" cy="604800"/>
        </p:xfrm>
        <a:graphic>
          <a:graphicData uri="http://schemas.openxmlformats.org/drawingml/2006/table">
            <a:tbl>
              <a:tblPr/>
              <a:tblGrid>
                <a:gridCol w="841680"/>
                <a:gridCol w="839880"/>
                <a:gridCol w="842040"/>
                <a:gridCol w="841680"/>
                <a:gridCol w="839520"/>
                <a:gridCol w="842040"/>
                <a:gridCol w="841680"/>
                <a:gridCol w="840240"/>
                <a:gridCol w="8416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116000" y="4292640"/>
          <a:ext cx="7570440" cy="604800"/>
        </p:xfrm>
        <a:graphic>
          <a:graphicData uri="http://schemas.openxmlformats.org/drawingml/2006/table">
            <a:tbl>
              <a:tblPr/>
              <a:tblGrid>
                <a:gridCol w="841680"/>
                <a:gridCol w="839880"/>
                <a:gridCol w="842040"/>
                <a:gridCol w="841680"/>
                <a:gridCol w="839520"/>
                <a:gridCol w="842040"/>
                <a:gridCol w="841680"/>
                <a:gridCol w="840240"/>
                <a:gridCol w="8416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16000" y="5300640"/>
          <a:ext cx="7570440" cy="604800"/>
        </p:xfrm>
        <a:graphic>
          <a:graphicData uri="http://schemas.openxmlformats.org/drawingml/2006/table">
            <a:tbl>
              <a:tblPr/>
              <a:tblGrid>
                <a:gridCol w="841680"/>
                <a:gridCol w="839880"/>
                <a:gridCol w="842040"/>
                <a:gridCol w="841680"/>
                <a:gridCol w="839520"/>
                <a:gridCol w="842040"/>
                <a:gridCol w="841680"/>
                <a:gridCol w="840240"/>
                <a:gridCol w="8416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-ce que tu reçois de l’argent de poc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076640"/>
            <a:ext cx="2447640" cy="2332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3280" y="3716280"/>
            <a:ext cx="2449800" cy="1368360"/>
          </a:xfrm>
          <a:prstGeom prst="wedgeRoundRectCallout">
            <a:avLst>
              <a:gd name="adj1" fmla="val 68277"/>
              <a:gd name="adj2" fmla="val 47217"/>
              <a:gd name="adj3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Je ne reçois pas d’argent de poc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73360"/>
            <a:ext cx="1377720" cy="187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63640" y="1916280"/>
            <a:ext cx="2449440" cy="1368360"/>
          </a:xfrm>
          <a:prstGeom prst="wedgeRoundRectCallout">
            <a:avLst>
              <a:gd name="adj1" fmla="val -84347"/>
              <a:gd name="adj2" fmla="val 1740"/>
              <a:gd name="adj3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Je reçois 5 euros par s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3933720"/>
            <a:ext cx="1627200" cy="230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79640" y="3860640"/>
            <a:ext cx="2449440" cy="1368720"/>
          </a:xfrm>
          <a:prstGeom prst="wedgeRoundRectCallout">
            <a:avLst>
              <a:gd name="adj1" fmla="val -71000"/>
              <a:gd name="adj2" fmla="val 2076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reçois 20 euros par m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20000" y="1700280"/>
            <a:ext cx="1365120" cy="180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27640" y="1628640"/>
            <a:ext cx="2449440" cy="1368720"/>
          </a:xfrm>
          <a:prstGeom prst="wedgeRoundRectCallout">
            <a:avLst>
              <a:gd name="adj1" fmla="val 70222"/>
              <a:gd name="adj2" fmla="val 30856"/>
              <a:gd name="adj3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Je reçois 10 euros par s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143320" cy="3876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Magazine subscription Planète jeunes"/>
          <p:cNvPicPr/>
          <p:nvPr/>
        </p:nvPicPr>
        <p:blipFill>
          <a:blip r:embed="rId1"/>
          <a:stretch/>
        </p:blipFill>
        <p:spPr>
          <a:xfrm>
            <a:off x="4932360" y="1916280"/>
            <a:ext cx="2452680" cy="345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059800">
            <a:off x="2877840" y="2103120"/>
            <a:ext cx="2414520" cy="316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1280200">
            <a:off x="1798560" y="1671120"/>
            <a:ext cx="2540160" cy="360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889200">
            <a:off x="3995640" y="1773000"/>
            <a:ext cx="2610000" cy="410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2880" y="404640"/>
            <a:ext cx="84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vec mon argent de poche, j’achète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542800">
            <a:off x="4284720" y="1557360"/>
            <a:ext cx="2832120" cy="3776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2421000"/>
            <a:ext cx="2294280" cy="2463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3500280"/>
            <a:ext cx="2016000" cy="199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3:12Z</dcterms:created>
  <dc:creator>Lynne</dc:creator>
  <dc:description/>
  <dc:language>en-US</dc:language>
  <cp:lastModifiedBy>Clare Seccombe</cp:lastModifiedBy>
  <dcterms:modified xsi:type="dcterms:W3CDTF">2014-04-25T12:43:34Z</dcterms:modified>
  <cp:revision>12</cp:revision>
  <dc:subject/>
  <dc:title>L’argent de poche</dc:title>
</cp:coreProperties>
</file>