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D91-1BEB-4994-A115-F7CBF255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738-8772-41CF-8018-24F8B132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6B8-03C8-452F-ACA2-B0B173D9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784-3368-49F2-950F-4A37D159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FBC2-41D7-4F2B-B594-F633231C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E103-7F4C-4392-8B38-7F4F961A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F537-E565-4FE3-96B0-BF9A27FF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8993-990D-431F-9A6E-AEA88128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AA22-71C2-411A-89BC-0513685B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F8FB-C7BE-4132-872C-98674927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59E9-3FF0-4E85-B596-54A60135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C0F-D553-4B85-9897-9AF6614C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5585-69F6-4D6E-A942-21238EDF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6F56-EF9E-4DEB-8932-54D74D01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7402-99EC-4A0F-9150-9776B196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B2DC-A6B0-4EEE-9DD7-0DB99741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586F-D426-4B03-8A5D-1B15B3F5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666-D960-4CC3-BFDD-9E1004C0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E5D-4F80-4F9E-B3F4-007CA4EE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18C-F30D-4003-91C8-494DECD1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BC95-4F66-4D2E-8B1A-39EC7777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6AE-A882-4274-B5C3-CAA4FAD7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867-E154-46C1-BBE0-04F39337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FCB-A89C-425C-90E5-C8FB2BC8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274D-9B11-41D8-8B80-734DF8BC6F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7B60-1502-4D40-9F06-E3D81BC1FBD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addamsfamily.com/addams/afmama1.jpg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5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8973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Matura MT Script Capitals"/>
              </a:rPr>
              <a:t>Ma famille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Matura MT Script Capitals"/>
              </a:rPr>
              <a:t> </a:t>
            </a:r>
            <a:r>
              <a:rPr b="0" lang="en-GB" sz="4800" spc="-1" strike="noStrike">
                <a:solidFill>
                  <a:srgbClr val="ffffcc"/>
                </a:solidFill>
                <a:latin typeface="Matura MT Script Capitals"/>
              </a:rPr>
              <a:t>Gomez, c’est mon p</a:t>
            </a:r>
            <a:r>
              <a:rPr b="0" lang="en-US" sz="4800" spc="-1" strike="noStrike">
                <a:solidFill>
                  <a:srgbClr val="ffffcc"/>
                </a:solidFill>
                <a:latin typeface="Matura MT Script Capitals"/>
              </a:rPr>
              <a:t>ère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Matura MT Script Capitals"/>
              </a:rPr>
              <a:t>Morticia, c’est ma mère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Matura MT Script Capitals"/>
              </a:rPr>
              <a:t>Wednesday, c’est ma soeur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Matura MT Script Capitals"/>
              </a:rPr>
              <a:t>Pugsley, c’est mon frère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3714480" cy="51339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84914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ur commencer…qui est l’intr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01680" y="1600200"/>
          <a:ext cx="8540640" cy="449892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 p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 fr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 soeur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 cousin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 cousin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 m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 m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 p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s parents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6012000" y="1628640"/>
            <a:ext cx="2808000" cy="1008360"/>
          </a:xfrm>
          <a:prstGeom prst="ellipse">
            <a:avLst/>
          </a:prstGeom>
          <a:solidFill>
            <a:srgbClr val="9966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5280" y="3068640"/>
            <a:ext cx="2808360" cy="1440000"/>
          </a:xfrm>
          <a:prstGeom prst="ellipse">
            <a:avLst/>
          </a:prstGeom>
          <a:solidFill>
            <a:srgbClr val="9966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12000" y="3141720"/>
            <a:ext cx="2808000" cy="1008000"/>
          </a:xfrm>
          <a:prstGeom prst="ellipse">
            <a:avLst/>
          </a:prstGeom>
          <a:solidFill>
            <a:srgbClr val="9966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12000" y="4724280"/>
            <a:ext cx="2808000" cy="1370160"/>
          </a:xfrm>
          <a:prstGeom prst="ellipse">
            <a:avLst/>
          </a:prstGeom>
          <a:solidFill>
            <a:srgbClr val="9966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es objectifs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y the end of this lesson we will be able to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ive a description of different members of our fam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rite a family tree for your own fam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e p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è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J’ai u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s’appelle Gom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a 45 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habite 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ooksvi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aime le spor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rce que c’est 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n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3273120" cy="421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a m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è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J’ai une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s’appelle Morti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 mère a 44 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 mère habite 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ooksvi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aime le ciném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rce que c’est reposa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30859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Tu as un fr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è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464360" cy="3348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95280" y="1484280"/>
            <a:ext cx="2374920" cy="1008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J’ai un fr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è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40360" y="1197000"/>
            <a:ext cx="4608360" cy="1224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on fr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ère s’appelle Pugs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3068640"/>
            <a:ext cx="2374920" cy="1224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on fr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è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 12 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39640" y="4941720"/>
            <a:ext cx="4608720" cy="1224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l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habite ave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es parents, à Spooksvil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940360" y="2781360"/>
            <a:ext cx="2735280" cy="302400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024000"/>
              <a:gd name="textAreaBottom" fmla="*/ 2890800 h 3024000"/>
            </a:gdLst>
            <a:ahLst/>
            <a:rect l="textAreaLeft" t="textAreaTop" r="textAreaRight" b="textAreaBottom"/>
            <a:pathLst>
              <a:path w="21600" h="23880">
                <a:moveTo>
                  <a:pt x="3600" y="0"/>
                </a:moveTo>
                <a:arcTo wR="3600" hR="3600" stAng="16200000" swAng="-5400000"/>
                <a:lnTo>
                  <a:pt x="0" y="20280"/>
                </a:lnTo>
                <a:arcTo wR="3600" hR="3600" stAng="10800000" swAng="-5400000"/>
                <a:lnTo>
                  <a:pt x="18000" y="238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l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a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ahoma"/>
              </a:rPr>
              <a:t>la lec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ahoma"/>
              </a:rPr>
              <a:t>parce que c’e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ahoma"/>
              </a:rPr>
              <a:t>intéress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 toi maintenant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J’ai 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l/elle s’appelle 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l/elle a______ 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l/elle habite 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l/elle aime ____________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cc"/>
                </a:solidFill>
                <a:latin typeface="Tahoma"/>
              </a:rPr>
              <a:t>Une arbre généalogiqu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1726920" cy="12952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1820880" cy="13651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1535040" cy="11509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Grandmama Addams #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125360"/>
            <a:ext cx="1439640" cy="10814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6"/>
          <a:stretch/>
        </p:blipFill>
        <p:spPr>
          <a:xfrm>
            <a:off x="5219640" y="458136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7"/>
          <a:stretch/>
        </p:blipFill>
        <p:spPr>
          <a:xfrm>
            <a:off x="2556000" y="4581360"/>
            <a:ext cx="1800000" cy="13510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859280" y="2205000"/>
            <a:ext cx="865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84720" y="3213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95640" y="3933720"/>
            <a:ext cx="647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788000" y="3933720"/>
            <a:ext cx="7207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284360" y="4365720"/>
            <a:ext cx="431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716360" y="4365720"/>
            <a:ext cx="432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43280" y="4292640"/>
            <a:ext cx="216000" cy="14436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50920" y="4005360"/>
            <a:ext cx="2592360" cy="2303280"/>
          </a:xfrm>
          <a:prstGeom prst="wedgeRoundRectCallout">
            <a:avLst>
              <a:gd name="adj1" fmla="val 60412"/>
              <a:gd name="adj2" fmla="val -7203"/>
              <a:gd name="adj3" fmla="val 1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Je m’appelle Wednesday. J’ai 13 ans et voici ma famill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580000" y="1197000"/>
            <a:ext cx="3095640" cy="863640"/>
          </a:xfrm>
          <a:prstGeom prst="roundRect">
            <a:avLst>
              <a:gd name="adj" fmla="val 16667"/>
            </a:avLst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’est ma grand-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è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s’appelle Mam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 toi maintenant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sign you own family tree including the maximum description of each per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nne ch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8:47:42Z</dcterms:created>
  <dc:creator>Chris Harte</dc:creator>
  <dc:description/>
  <dc:language>en-US</dc:language>
  <cp:lastModifiedBy>Chris Harte</cp:lastModifiedBy>
  <dcterms:modified xsi:type="dcterms:W3CDTF">2004-01-13T20:11:21Z</dcterms:modified>
  <cp:revision>4</cp:revision>
  <dc:subject/>
  <dc:title>Ma famille  Gomez c’est mon père Morticia c’est ma mère Friday c’est ma soeur Pugsley c’est mon frère  </dc:title>
</cp:coreProperties>
</file>