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FCE4-1A4C-453D-AE26-1623E68C7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69AB-0345-468F-BFE1-BFD33B28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BB44-A00B-44D8-80A9-FF8998379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CC97-189D-41A6-A159-7375E54A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6F84-D83D-4DE3-B051-0770DB84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A991-7461-4E36-80F0-A242ED7E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60C0-0453-4833-B182-03A3FD1C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E2E6-7FCC-490D-A5D3-24918E7A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F74A-1A50-4978-9FBA-397C5BFF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1845-2B05-4BFD-A76F-477CA08E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1E52-F6C4-44A0-91C5-7F52DA97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622A-AA0C-43B2-AA18-E8A6A748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E9A2-A2C6-4AA0-AF66-14491C3A5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’histoire extraordinaire d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nsieur Grosgour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..il a bu.. Et il a regardé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and il avait fini le petit déjeuner – après avoir mangé, il a bu du thé, et du café et du lait aussi – il a regardé par la fenêtre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l a fait très beau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a fait du sole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a fait cha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a fait beau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ors il a décidé de faire une petite promenade dans la forêt avant 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 déjeun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..il a quitté la masion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uis monsieur Grosgourmand – avec le très très grand estomac – a quitté la ma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l a regardé les fleur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est entré dans la forê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a regardé les fle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a écouté les oiseaux et les petits animau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a marché parmi les arbres … son très grand estomac deva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l a commencé à avoir faim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près quelques minutes il a commencé à avoir faim encore une fo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ors il a décidé de rentrer à la maison pour préparer son déjeuner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près tout, il avait un très très grand estom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el horre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.Mais il n’a pas trouvé la bonne rout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el horreu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. Dans la forêt sans déjeuner! (même sur l’herbe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l a pleuré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nsieur Grosgourmand a pleuré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a crié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t puis… soudain il a vu une ma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h voilà! Je vais demander la route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l a réalisé que la maison était énorme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s’est approché de la maison, le pauvre monsieur Grosgourmand ( avec le très grand estomac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t soudain il a réalisé que la maison était énorm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l a pensé.. “une très grande cuisine.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e maison énorme – ils ont bien sûr une très grande cuisine … avec beaucoup de choses à manger et à boire…” a pensé monsieur Grosgrourmand, avec le très grand estoma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..il est tombé par ter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est arrivé à la maison après quelques minutes, et il est tombé par terre devant la maison, parce qu’il avait très très fa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666880" y="609480"/>
          <a:ext cx="3810240" cy="56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609480"/>
                    <a:ext cx="381024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l a écouté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a frappé à la porte, et il a écouté …ri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a frappé à la porte encore une fois …ri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t puis il a senti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l a senti …un déjeune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 déjeuner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h il avait très faim et il avait un très grand estomac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or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l est entré .. Personne n’était là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est entré dans la ma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a regardé ..personn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a écout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erson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uite il est entré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l a vu une table énorm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.dans une salle à manger énorm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nsieur Grosgourmand – avec le très grand estomac- a vu une table – pas une table normale… mais une table super-gran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..beaucoup à manger et à boir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r la table il y avait toutes sortes de choses à manger  et à boi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l a commencé… il a mangé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ors Monsieur Grosgourmand – avec le très grand estomac – a commencé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a mang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 bananes et des poi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 carrottes et des petits pois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rc.. Et pain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u porc et du boeu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… il avait un très très grand estoma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u pain et du gâtea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l a bu 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a b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u thé et du caf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u jus d’or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u v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 l’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 la bière et 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core du v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l a écouté..et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nsieur Grosgourmand était très cont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uis il a écouté encore une fois et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l y avait un 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ns la maison il y avait une très grand homme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 très très grand hom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 très très très grand homme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 mat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 jour en été, monsieur Grosgourmand s’est réveillé à 7 heures et quar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’était une très belle journé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48320" y="1981080"/>
          <a:ext cx="29638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29638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!!!???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.dans la maison il y avait …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 GÉA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l a crié “Pardon…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nsieur Grosgourmand était choqué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a pleur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a cri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don, monsieur le Géant, excusez-moi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t le géant a dit “….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.j’ai un très grand estomac… et j’avais très faim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t le géant a dit, “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aarrgh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u es trop gros..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e vais te donner une punitio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 mora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t la morale de cette histoire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!!!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ites attention aux Géant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ans la salle de b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ut d’abord il s’est levé, et il est allé dans la salle de bains où il s’est douché. Après, il s’est habillé dans sa chamb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intenant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l est descendu dans la cui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nsieur Grosgourmand ( avec le très grand estomac) a commencé à avoir fa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ors il est descendu dans la cuisin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716360" y="1989000"/>
          <a:ext cx="326700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989000"/>
                    <a:ext cx="326700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l a regardé dans le frigo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t il s’est demandé  “ qu’est-ce que je vais prendre pour mon petit déjeuner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a regardé dans tous les placard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t dans le frig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l a décidé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fin monsieur Grosgourmand (avec le très grand estomac) a décidé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’il avait aussi très grand faim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l a beaucoup mangé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.alors pour commencer, il a mangé cinq tranches de toast avec de la marmelade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a continué avec des oeufs et du bac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a pris aussi deux yaourts et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..quel estomac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AT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“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hredded Wheat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el gourman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el estomac énorm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19:52:39Z</dcterms:created>
  <dc:creator>CHRIS CAMPBELL</dc:creator>
  <dc:description/>
  <dc:language>en-US</dc:language>
  <cp:lastModifiedBy>CSeccombe</cp:lastModifiedBy>
  <dcterms:modified xsi:type="dcterms:W3CDTF">2005-02-01T15:33:06Z</dcterms:modified>
  <cp:revision>40</cp:revision>
  <dc:subject/>
  <dc:title>L’histoire extraordinaire de…</dc:title>
</cp:coreProperties>
</file>