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media/CAMERA.WAV" ContentType="audio/x-wav"/>
  <Override PartName="/ppt/media/image4.wmf" ContentType="image/x-wmf"/>
  <Override PartName="/ppt/media/image2.wmf" ContentType="image/x-wmf"/>
  <Override PartName="/ppt/media/TYPE.WAV" ContentType="audio/x-wav"/>
  <Override PartName="/ppt/media/image3.wmf" ContentType="image/x-wmf"/>
  <Override PartName="/ppt/media/DRIVEBY.WAV" ContentType="audio/x-wav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F98-CFCA-471B-A4E7-0BFB0A6C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CAD-A4BF-4BC0-B242-5E11F7CA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704-DE89-484C-ABB3-B6FC60F4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58E-CFF7-4D53-A881-6D8A1AAC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EC8-E813-4E90-BCE3-8D13499A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CB2-E142-4326-9527-8E18712F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07C-30DA-47BC-BFE3-B2FC71FE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A0A-F701-4428-B6C9-849F370B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337-C37E-4DCB-B1DE-8E3C29F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A0D-4808-480B-9D43-95EE6AD7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1FE-3BBA-4237-A8E0-6994E398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E90-23A6-420F-BBA6-889F13F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AF03-4504-42E9-908F-5577DF48E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IVEBY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DRIVEBY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RIVEBY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RIVEBY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IN THIS LESSON YOU WILL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1337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</a:rPr>
              <a:t>Revise vocabulary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on parts of the bod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657600"/>
            <a:ext cx="7543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</a:rPr>
              <a:t>Learn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how to say </a:t>
            </a: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</a:rPr>
              <a:t>what’s wrong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with you / what hu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À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 toi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6629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1828800"/>
            <a:ext cx="4876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392640" cy="3881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05120" y="20574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51814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181120" y="5257800"/>
            <a:ext cx="17528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495680" y="2895480"/>
            <a:ext cx="22860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638320" y="3962160"/>
            <a:ext cx="160020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76560" y="1905120"/>
            <a:ext cx="1447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029200" y="1905120"/>
            <a:ext cx="12952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676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438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3657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4876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800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2220840" cy="2643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1752480" y="1676520"/>
            <a:ext cx="175284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cheveu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429000" y="3657240"/>
            <a:ext cx="762120" cy="2133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57150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c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181120" y="1600200"/>
            <a:ext cx="16002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495680" y="1600200"/>
            <a:ext cx="22860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1295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yeu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105160" y="3124080"/>
            <a:ext cx="1600200" cy="152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30481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ne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2666520"/>
            <a:ext cx="1904760" cy="1676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2670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’orei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724280" y="3352320"/>
            <a:ext cx="1371600" cy="175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5105520"/>
            <a:ext cx="2743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bouc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648320" y="609480"/>
            <a:ext cx="12952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2286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tê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1. VOCABULAI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392640" cy="3881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2438280" y="3809520"/>
            <a:ext cx="68580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3434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19520" y="4952520"/>
            <a:ext cx="11430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60199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p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4120" y="42667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41911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jam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6920" y="2514600"/>
            <a:ext cx="83844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22860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b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828800"/>
            <a:ext cx="12193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143000"/>
            <a:ext cx="23619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c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gor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352680"/>
            <a:ext cx="1905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514600"/>
            <a:ext cx="2666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e ven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’estoma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SAYING WHAT HU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19051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You need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124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9966ff"/>
                </a:solidFill>
                <a:uFillTx/>
                <a:latin typeface="Arial"/>
              </a:rPr>
              <a:t>J’ai mal </a:t>
            </a:r>
            <a:r>
              <a:rPr b="1" lang="en-GB" sz="4400" spc="-1" strike="noStrike" u="sng">
                <a:solidFill>
                  <a:srgbClr val="9966ff"/>
                </a:solidFill>
                <a:uFillTx/>
                <a:latin typeface="Arial"/>
                <a:ea typeface="Arial"/>
              </a:rPr>
              <a:t>à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Arial"/>
              </a:rPr>
              <a:t> + body pa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380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TTENTION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1430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à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is a preposition and needs to </a:t>
            </a: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hange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according to what follow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666880"/>
            <a:ext cx="4267440" cy="3484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 + le </a:t>
            </a:r>
            <a:r>
              <a:rPr b="1" lang="en-GB" sz="4000" spc="-1" strike="noStrike">
                <a:solidFill>
                  <a:srgbClr val="ff6600"/>
                </a:solidFill>
                <a:latin typeface="Wingdings 3"/>
                <a:ea typeface="Wingdings 3"/>
              </a:rPr>
              <a:t></a:t>
            </a: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a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+ la </a:t>
            </a:r>
            <a:r>
              <a:rPr b="0" lang="en-GB" sz="4000" spc="-1" strike="noStrike">
                <a:solidFill>
                  <a:srgbClr val="ff6600"/>
                </a:solidFill>
                <a:latin typeface="Wingdings 3"/>
                <a:ea typeface="Wingdings 3"/>
              </a:rPr>
              <a:t>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l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+ l’ </a:t>
            </a:r>
            <a:r>
              <a:rPr b="0" lang="en-GB" sz="4000" spc="-1" strike="noStrike">
                <a:solidFill>
                  <a:srgbClr val="ff6600"/>
                </a:solidFill>
                <a:latin typeface="Wingdings 3"/>
                <a:ea typeface="Wingdings 3"/>
              </a:rPr>
              <a:t>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l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 + les </a:t>
            </a:r>
            <a:r>
              <a:rPr b="1" lang="en-GB" sz="4000" spc="-1" strike="noStrike">
                <a:solidFill>
                  <a:srgbClr val="ff6600"/>
                </a:solidFill>
                <a:latin typeface="Wingdings 3"/>
                <a:ea typeface="Wingdings 3"/>
              </a:rPr>
              <a:t></a:t>
            </a: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au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2666880"/>
            <a:ext cx="914400" cy="44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28600"/>
            <a:ext cx="8381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ven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c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p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ven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3623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c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0384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7150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p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9625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228600"/>
            <a:ext cx="8381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gor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tê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jam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gor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3623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0384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tê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150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jam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7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381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bouc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b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fes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ne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bouc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3623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b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0384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fes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7150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ne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228600"/>
            <a:ext cx="8381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b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d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’estoma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b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3623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x 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0384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d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7150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’estoma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2:33:53Z</dcterms:created>
  <dc:creator>CSeccombe</dc:creator>
  <dc:description/>
  <dc:language>en-US</dc:language>
  <cp:lastModifiedBy>CSeccombe</cp:lastModifiedBy>
  <dcterms:modified xsi:type="dcterms:W3CDTF">2005-02-03T11:49:21Z</dcterms:modified>
  <cp:revision>5</cp:revision>
  <dc:subject/>
  <dc:title>No Slide Title</dc:title>
</cp:coreProperties>
</file>