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media/CAMERA.WAV" ContentType="audio/x-wav"/>
  <Override PartName="/ppt/media/image4.wmf" ContentType="image/x-wmf"/>
  <Override PartName="/ppt/media/image2.wmf" ContentType="image/x-wmf"/>
  <Override PartName="/ppt/media/TYPE.WAV" ContentType="audio/x-wav"/>
  <Override PartName="/ppt/media/image3.wmf" ContentType="image/x-wmf"/>
  <Override PartName="/ppt/media/DRIVEBY.WAV" ContentType="audio/x-wav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77D-B0B9-422E-B504-24E67ED4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4F3-50ED-4707-9D8E-9AFAC125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720-F584-4EAF-B3D6-34D312C5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12D-CC0A-4F66-9456-7F7B8E0D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9D8-FA33-498A-AF6E-EE4B640C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7AD-3AF4-4BAA-9D79-8487CD46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020-A71A-45CE-8D3F-EAD7D5E5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6F7-5358-4CE7-965F-D84D0644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F8B-DF5B-4CAC-AC90-AED49C44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593-17E8-42BC-8E7A-8DE2FB09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510-32DA-4C3A-B3D0-2F989653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1B2-7D7C-4574-B463-AAE37F3D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F20C-9D8C-457D-8E54-D6B5CBB3A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IVEBY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DRIVEBY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DRIVEBY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DRIVEBY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335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IN THIS LESSON YOU WILL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1337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"/>
              </a:rPr>
              <a:t>Revise vocabulary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on parts of the bod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657600"/>
            <a:ext cx="7543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"/>
              </a:rPr>
              <a:t>Learn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how to say </a:t>
            </a: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"/>
              </a:rPr>
              <a:t>what’s wrong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with you / what hu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838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GB" sz="4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À</a:t>
            </a:r>
            <a:r>
              <a:rPr b="1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 toi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6629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1828800"/>
            <a:ext cx="4876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392640" cy="3881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05120" y="205740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51814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181120" y="5257800"/>
            <a:ext cx="175284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495680" y="2895480"/>
            <a:ext cx="22860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638320" y="3962160"/>
            <a:ext cx="160020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76560" y="1905120"/>
            <a:ext cx="14475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029200" y="1905120"/>
            <a:ext cx="12952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676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2438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36576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4876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8006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886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2220840" cy="2643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1752480" y="1676520"/>
            <a:ext cx="175284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 cheveu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429000" y="3657240"/>
            <a:ext cx="762120" cy="2133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57150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c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181120" y="1600200"/>
            <a:ext cx="160020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495680" y="1600200"/>
            <a:ext cx="22860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12952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 yeu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105160" y="3124080"/>
            <a:ext cx="1600200" cy="152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30481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nez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2666520"/>
            <a:ext cx="1904760" cy="1676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2670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’oreil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724280" y="3352320"/>
            <a:ext cx="1371600" cy="175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5105520"/>
            <a:ext cx="2743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bouch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 d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648320" y="609480"/>
            <a:ext cx="129528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22860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tê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1. VOCABULAI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3392640" cy="3881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2438280" y="3809520"/>
            <a:ext cx="68580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3434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819520" y="4952520"/>
            <a:ext cx="114300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601992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p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334120" y="42667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41911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jamb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66920" y="2514600"/>
            <a:ext cx="83844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22860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b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828800"/>
            <a:ext cx="12193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1143000"/>
            <a:ext cx="236196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c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gor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3352680"/>
            <a:ext cx="1905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514600"/>
            <a:ext cx="2666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e vent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’estoma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66680" y="838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SAYING WHAT HU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19051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You need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1240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9966ff"/>
                </a:solidFill>
                <a:uFillTx/>
                <a:latin typeface="Arial"/>
              </a:rPr>
              <a:t>J’ai mal </a:t>
            </a:r>
            <a:r>
              <a:rPr b="1" lang="en-GB" sz="4400" spc="-1" strike="noStrike" u="sng">
                <a:solidFill>
                  <a:srgbClr val="9966ff"/>
                </a:solidFill>
                <a:uFillTx/>
                <a:latin typeface="Arial"/>
                <a:ea typeface="Arial"/>
              </a:rPr>
              <a:t>à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Arial"/>
              </a:rPr>
              <a:t> + body pa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3808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TTENTION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1430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à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is a preposition and needs to </a:t>
            </a:r>
            <a:r>
              <a:rPr b="0" lang="en-GB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hange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 according to what follow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666880"/>
            <a:ext cx="4267440" cy="3484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à + le </a:t>
            </a:r>
            <a:r>
              <a:rPr b="1" lang="en-GB" sz="4000" spc="-1" strike="noStrike">
                <a:solidFill>
                  <a:srgbClr val="ff6600"/>
                </a:solidFill>
                <a:latin typeface="Wingdings 3"/>
                <a:ea typeface="Wingdings 3"/>
              </a:rPr>
              <a:t></a:t>
            </a:r>
            <a:r>
              <a:rPr b="1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a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à</a:t>
            </a:r>
            <a:r>
              <a:rPr b="0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 + la </a:t>
            </a:r>
            <a:r>
              <a:rPr b="0" lang="en-GB" sz="4000" spc="-1" strike="noStrike">
                <a:solidFill>
                  <a:srgbClr val="ff6600"/>
                </a:solidFill>
                <a:latin typeface="Wingdings 3"/>
                <a:ea typeface="Wingdings 3"/>
              </a:rPr>
              <a:t></a:t>
            </a:r>
            <a:r>
              <a:rPr b="0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1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à</a:t>
            </a:r>
            <a:r>
              <a:rPr b="0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 l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à</a:t>
            </a:r>
            <a:r>
              <a:rPr b="0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 + l’ </a:t>
            </a:r>
            <a:r>
              <a:rPr b="0" lang="en-GB" sz="4000" spc="-1" strike="noStrike">
                <a:solidFill>
                  <a:srgbClr val="ff6600"/>
                </a:solidFill>
                <a:latin typeface="Wingdings 3"/>
                <a:ea typeface="Wingdings 3"/>
              </a:rPr>
              <a:t></a:t>
            </a:r>
            <a:r>
              <a:rPr b="0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1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à</a:t>
            </a:r>
            <a:r>
              <a:rPr b="0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 l’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à + les </a:t>
            </a:r>
            <a:r>
              <a:rPr b="1" lang="en-GB" sz="4000" spc="-1" strike="noStrike">
                <a:solidFill>
                  <a:srgbClr val="ff6600"/>
                </a:solidFill>
                <a:latin typeface="Wingdings 3"/>
                <a:ea typeface="Wingdings 3"/>
              </a:rPr>
              <a:t></a:t>
            </a:r>
            <a:r>
              <a:rPr b="1" lang="en-GB" sz="4000" spc="-1" strike="noStrike">
                <a:solidFill>
                  <a:srgbClr val="ff6600"/>
                </a:solidFill>
                <a:latin typeface="Arial"/>
                <a:ea typeface="Arial"/>
              </a:rPr>
              <a:t> au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2666880"/>
            <a:ext cx="914400" cy="44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228600"/>
            <a:ext cx="838188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vent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c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d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p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838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au vent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3623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au c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0384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au d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7150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au p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9625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228600"/>
            <a:ext cx="838188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gor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tê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jamb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838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à la gor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23623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à la 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0384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à la tê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7150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à la jamb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067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838188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bouch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b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fes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nez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838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à la bouch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3623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au b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40384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à la fes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57150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au nez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505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228600"/>
            <a:ext cx="838188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b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 d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d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’estoma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838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au b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3623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aux d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0384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à la d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7150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J’ai mal à l’estoma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505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2:33:53Z</dcterms:created>
  <dc:creator>CSeccombe</dc:creator>
  <dc:description/>
  <dc:language>en-US</dc:language>
  <cp:lastModifiedBy>CSeccombe</cp:lastModifiedBy>
  <dcterms:modified xsi:type="dcterms:W3CDTF">2005-02-03T11:49:21Z</dcterms:modified>
  <cp:revision>5</cp:revision>
  <dc:subject/>
  <dc:title>No Slide Title</dc:title>
</cp:coreProperties>
</file>