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2030-38A5-476E-9700-7849F4B8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A052-C005-4FF0-8F3B-86EEFED9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0DA-E217-4BE2-9AFE-0EFA55CE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861-A21D-4881-8248-E1D07325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44E-4D88-4108-8DB4-F626A023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BE46-C7BA-4D16-8FFA-C0AA8B7E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C84-A5F0-4C7A-A4B8-E713FBF2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8C5B-8557-446E-BBF9-CFA99E9B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D211-9499-4E26-9149-9609E40E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C4B-7007-47B8-8353-93E2AB01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CA4-1564-4B95-B7C8-DDA7318A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BC7B-B6D7-41EE-94EF-695A29F0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0E1A-2BD8-4A92-A42D-21BD54B80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15920"/>
            <a:ext cx="878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Arial"/>
              </a:rPr>
              <a:t>Use these infinitives: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nter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sing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jouer au foot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play football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oisir un CD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choose a CD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endre la veste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sell the j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565360"/>
            <a:ext cx="86421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am going to play foo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 is going to choose a 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are going to sell a j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(sg.) are going to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(f.) are going to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(pl.) are going to play foo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115920"/>
            <a:ext cx="878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Arial"/>
              </a:rPr>
              <a:t>Use these infinitives: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écrire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write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lire un livre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read a book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regarder la télé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watch TV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endre un café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have a cup of coff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565360"/>
            <a:ext cx="86421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 is going to read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(m.) are going to watch T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(sg.) are going to have a cup of coff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is going to wr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am going to watch T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(pl.) are going to read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15920"/>
            <a:ext cx="878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Arial"/>
              </a:rPr>
              <a:t>Use these infinitives: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nter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sing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jouer au foot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play football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oisir un CD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choose a CD</a:t>
            </a:r>
            <a:br>
              <a:rPr sz="2800"/>
            </a:b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endre la veste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o sell the j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2565360"/>
            <a:ext cx="86421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ine is going to play foo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ulien is going to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rt and Alain-Marcel are going to sell the j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ice-Marie and I are going to choose a 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2:07:13Z</dcterms:created>
  <dc:creator>CSeccombe</dc:creator>
  <dc:description/>
  <dc:language>en-US</dc:language>
  <cp:lastModifiedBy>CSeccombe</cp:lastModifiedBy>
  <dcterms:modified xsi:type="dcterms:W3CDTF">2007-10-05T12:45:43Z</dcterms:modified>
  <cp:revision>2</cp:revision>
  <dc:subject/>
  <dc:title>Slide 1</dc:title>
</cp:coreProperties>
</file>