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0B9-6EC2-4E8B-AE62-DC307148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B35-2D94-49C9-BDEC-7F1022B0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FF9-1897-4B92-B6B3-659543CC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2A9-49BD-4FD2-814D-5E29A095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572-BF5C-445C-9DAE-647A0A9F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977-593E-4139-A71D-0EB46629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534-C87D-4BD6-8A26-EE16987A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E9B-BA8A-4538-BACC-80A0349E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037-2748-4B5D-A89F-72F5963F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A89-CEDD-40BA-AB75-76C9F23E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0C2-9792-4D96-BED7-AC124A9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332-8093-4E86-B2E9-EC18009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6D42-304A-428E-AD90-B292E9583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1592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Use these infinitives: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nter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sing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jouer au foot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play football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oisir un CD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choose a CD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endre la vest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sell the 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565360"/>
            <a:ext cx="8642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am going to play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going to choose a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re going to sell a j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(sg.) are going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(f.) are going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(pl.) are going to play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1592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Use these infinitives: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écrir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write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lire un livr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read a book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regarder la télé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watch TV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endre un café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have a cup of 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565360"/>
            <a:ext cx="8642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going to read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(m.) are going to 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(sg.) are going to have a cup of cof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is going to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am going to 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(pl.) are going to read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1592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Use these infinitives: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nter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sing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jouer au foot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play football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oisir un CD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choose a CD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endre la vest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sell the 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565360"/>
            <a:ext cx="8642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ine is going to play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lien is going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rt and Alain-Marcel are going to sell the j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ice-Marie and I are going to choose a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2:07:13Z</dcterms:created>
  <dc:creator>CSeccombe</dc:creator>
  <dc:description/>
  <dc:language>en-US</dc:language>
  <cp:lastModifiedBy>CSeccombe</cp:lastModifiedBy>
  <dcterms:modified xsi:type="dcterms:W3CDTF">2007-10-05T12:45:43Z</dcterms:modified>
  <cp:revision>2</cp:revision>
  <dc:subject/>
  <dc:title>Slide 1</dc:title>
</cp:coreProperties>
</file>