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.gif" ContentType="image/gif"/>
  <Override PartName="/ppt/media/image12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4F0-CAAA-40E9-B98F-76045A41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EC5-4966-45F9-8317-A5BDB28D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33E-DD2A-476D-B022-955C9448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398-0207-461B-BEBE-DF8E24BA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A47C-9D56-454A-93A1-B39339F8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5DC7-CECD-4A73-9541-96189FB3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F684-5273-43B3-91E7-7EEA6242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12BE-E83F-4585-9E5C-3548A2D2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3C46-F987-4E1F-81EE-22AC78FD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2C27-D13E-428F-A8F0-12022EC1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E178-2351-414B-B768-AD0E9A93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A8E-4C71-487D-BD20-3723DA1B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15F4-C18B-46D0-A065-B9D721CF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53A0-FEFF-4D6E-BDAE-0ED59BC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5F77-94D7-4AAB-B216-619E06C3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2CF0-E397-4722-89A1-5F97DE6A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9D7A-D2C8-4851-AF88-F61BD163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27E-6D44-41C0-A697-6805934B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218-3E04-4A8B-83DA-1A4A6C0D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011-F850-451C-AFF8-8B9571A8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C0A-C285-47FE-A937-11F0F9DB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9F0-DE53-4B11-9E8B-EF932B3D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EDE-478F-462B-9921-D2EA5052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CF0-733C-4308-AB3B-C51AFE3A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1278-19C2-4C01-878A-8CD5D2F1341C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0C4A-98CD-4196-9FDA-315DC0AB7F36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Comic Sans MS"/>
              </a:rPr>
              <a:t>Trouvez l’intrus…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1341360"/>
          <a:ext cx="8892720" cy="5256000"/>
        </p:xfrm>
        <a:graphic>
          <a:graphicData uri="http://schemas.openxmlformats.org/drawingml/2006/table">
            <a:tbl>
              <a:tblPr/>
              <a:tblGrid>
                <a:gridCol w="2222640"/>
                <a:gridCol w="2224440"/>
                <a:gridCol w="2223000"/>
                <a:gridCol w="2222640"/>
              </a:tblGrid>
              <a:tr h="97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bea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ple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du sole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cha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nei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pleuva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a fait fro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sait du v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2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 troisième jour de mes vacan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 j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i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us les j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de l’orag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a fait du brouillar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sait du solei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y avait des avers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9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x jour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 15 octob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sema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ux moi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Sydnie"/>
              </a:rPr>
              <a:t>Remettez le dialogue dans l’ord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5229360"/>
            <a:ext cx="3851280" cy="865080"/>
          </a:xfrm>
          <a:prstGeom prst="wedgeRoundRectCallout">
            <a:avLst>
              <a:gd name="adj1" fmla="val 63398"/>
              <a:gd name="adj2" fmla="val 3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3213000"/>
            <a:ext cx="3961080" cy="1152720"/>
          </a:xfrm>
          <a:prstGeom prst="wedgeRoundRectCallout">
            <a:avLst>
              <a:gd name="adj1" fmla="val 57657"/>
              <a:gd name="adj2" fmla="val -53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i. Quelle sorte de chambre voul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341360"/>
            <a:ext cx="2950920" cy="1440000"/>
          </a:xfrm>
          <a:prstGeom prst="wedgeRoundRectCallout">
            <a:avLst>
              <a:gd name="adj1" fmla="val -65439"/>
              <a:gd name="adj2" fmla="val 32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Je voudrais une chambre double avec salle de bains et vue sur la m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1557360"/>
            <a:ext cx="4248000" cy="503280"/>
          </a:xfrm>
          <a:prstGeom prst="wedgeRoundRectCallout">
            <a:avLst>
              <a:gd name="adj1" fmla="val 51833"/>
              <a:gd name="adj2" fmla="val -9826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4221000"/>
            <a:ext cx="3025800" cy="792360"/>
          </a:xfrm>
          <a:prstGeom prst="wedgeRoundRectCallout">
            <a:avLst>
              <a:gd name="adj1" fmla="val -62749"/>
              <a:gd name="adj2" fmla="val -3857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deux nuits du 7 mai ou 9ma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141720"/>
            <a:ext cx="3025800" cy="792000"/>
          </a:xfrm>
          <a:prstGeom prst="wedgeRoundRectCallout">
            <a:avLst>
              <a:gd name="adj1" fmla="val -50787"/>
              <a:gd name="adj2" fmla="val -1001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t-ce qu’il y une pisci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51280" y="2349360"/>
            <a:ext cx="4141800" cy="503280"/>
          </a:xfrm>
          <a:prstGeom prst="wedgeRoundRectCallout">
            <a:avLst>
              <a:gd name="adj1" fmla="val 54597"/>
              <a:gd name="adj2" fmla="val -97004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Non, mais il y a un sau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51280" y="5373720"/>
            <a:ext cx="4213440" cy="720720"/>
          </a:xfrm>
          <a:prstGeom prst="wedgeRoundRectCallout">
            <a:avLst>
              <a:gd name="adj1" fmla="val 51810"/>
              <a:gd name="adj2" fmla="val -97134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as de problème. Je vous la rése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4360" y="333360"/>
            <a:ext cx="6840360" cy="865080"/>
          </a:xfrm>
          <a:prstGeom prst="wedgeRoundRectCallout">
            <a:avLst>
              <a:gd name="adj1" fmla="val 65199"/>
              <a:gd name="adj2" fmla="val 3642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2349360"/>
            <a:ext cx="7272360" cy="863640"/>
          </a:xfrm>
          <a:prstGeom prst="wedgeRoundRectCallout">
            <a:avLst>
              <a:gd name="adj1" fmla="val 61287"/>
              <a:gd name="adj2" fmla="val 17277"/>
              <a:gd name="adj3" fmla="val 16667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Je voudrai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une chambre doubl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avec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salle de bain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vue sur la mer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3500280"/>
            <a:ext cx="7201080" cy="503280"/>
          </a:xfrm>
          <a:prstGeom prst="wedgeRoundRectCallout">
            <a:avLst>
              <a:gd name="adj1" fmla="val -58222"/>
              <a:gd name="adj2" fmla="val -8785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4221000"/>
            <a:ext cx="7417080" cy="503280"/>
          </a:xfrm>
          <a:prstGeom prst="wedgeRoundRectCallout">
            <a:avLst>
              <a:gd name="adj1" fmla="val 62606"/>
              <a:gd name="adj2" fmla="val 37379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deux nuit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du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7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9 ma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5516640"/>
            <a:ext cx="7921440" cy="431640"/>
          </a:xfrm>
          <a:prstGeom prst="wedgeRoundRectCallout">
            <a:avLst>
              <a:gd name="adj1" fmla="val 61564"/>
              <a:gd name="adj2" fmla="val 110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t-ce qu’il y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une piscin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6165720"/>
            <a:ext cx="7418520" cy="503280"/>
          </a:xfrm>
          <a:prstGeom prst="wedgeRoundRectCallout">
            <a:avLst>
              <a:gd name="adj1" fmla="val -58152"/>
              <a:gd name="adj2" fmla="val -71449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Non, mais il y a un sau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4797360"/>
            <a:ext cx="7200720" cy="576360"/>
          </a:xfrm>
          <a:prstGeom prst="wedgeRoundRectCallout">
            <a:avLst>
              <a:gd name="adj1" fmla="val -58157"/>
              <a:gd name="adj2" fmla="val -5330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as de problème. Je vous la rése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1628640"/>
            <a:ext cx="7056360" cy="576360"/>
          </a:xfrm>
          <a:prstGeom prst="wedgeRoundRectCallout">
            <a:avLst>
              <a:gd name="adj1" fmla="val -57287"/>
              <a:gd name="adj2" fmla="val -7534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i. Quelle sorte de chambre voul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Objectives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14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the end of the lesson you will be able 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ook an hotel roo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 ask questions about the facili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588000" y="4437000"/>
            <a:ext cx="2376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lors?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for a single with show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for a double room for two nigh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if there is a restaur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k if there is a lift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Objectives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14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the end of the lesson you will be able 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ook an hotel roo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 ask questions about the facili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88000" y="4437000"/>
            <a:ext cx="2376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À l’hôtel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3848400" cy="403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264360" y="1989000"/>
            <a:ext cx="2879640" cy="1224000"/>
          </a:xfrm>
          <a:prstGeom prst="wedgeRoundRectCallout">
            <a:avLst>
              <a:gd name="adj1" fmla="val -105898"/>
              <a:gd name="adj2" fmla="val 67898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on, désolé.C’est comple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64360" y="4653000"/>
            <a:ext cx="2879640" cy="720720"/>
          </a:xfrm>
          <a:prstGeom prst="wedgeRoundRectCallout">
            <a:avLst>
              <a:gd name="adj1" fmla="val -103527"/>
              <a:gd name="adj2" fmla="val -21189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ui, bien sû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1484280"/>
            <a:ext cx="6840720" cy="503280"/>
          </a:xfrm>
          <a:prstGeom prst="wedgeRoundRectCallout">
            <a:avLst>
              <a:gd name="adj1" fmla="val 453"/>
              <a:gd name="adj2" fmla="val 293847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87320" cy="1819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4199"/>
              <a:gd name="adj2" fmla="val 117768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2133720"/>
            <a:ext cx="8893080" cy="4103640"/>
          </a:xfrm>
          <a:prstGeom prst="wedgeRoundRectCallout">
            <a:avLst>
              <a:gd name="adj1" fmla="val -40787"/>
              <a:gd name="adj2" fmla="val -79245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e voudrai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3280" y="2998800"/>
            <a:ext cx="1940040" cy="752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843280" y="2852640"/>
            <a:ext cx="108108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84360" y="2852640"/>
            <a:ext cx="1008000" cy="938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556000" y="2998800"/>
            <a:ext cx="1295280" cy="75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877080" y="3213000"/>
            <a:ext cx="1940040" cy="754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 flipH="1">
            <a:off x="7812000" y="3357720"/>
            <a:ext cx="1332000" cy="780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39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pour une person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4076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pour deux personnes avec deux petits l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4221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do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429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de fami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87320" cy="1819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3796"/>
              <a:gd name="adj2" fmla="val 4724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2708280"/>
            <a:ext cx="8713800" cy="2951280"/>
          </a:xfrm>
          <a:prstGeom prst="wedgeRoundRectCallout">
            <a:avLst>
              <a:gd name="adj1" fmla="val -40597"/>
              <a:gd name="adj2" fmla="val -110138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e voudrais une chambre…ave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458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u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4581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alle de b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508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C/toilet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1008000" cy="966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1081080" cy="905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750960" cy="861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796000" y="3284640"/>
            <a:ext cx="1095480" cy="1141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867280" y="4581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al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4653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vue sur la 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7524720" y="3357720"/>
            <a:ext cx="11527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6125"/>
              <a:gd name="adj2" fmla="val 1446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1197000"/>
          <a:ext cx="8280360" cy="5476680"/>
        </p:xfrm>
        <a:graphic>
          <a:graphicData uri="http://schemas.openxmlformats.org/drawingml/2006/table">
            <a:tbl>
              <a:tblPr/>
              <a:tblGrid>
                <a:gridCol w="2073240"/>
                <a:gridCol w="3399120"/>
                <a:gridCol w="1081080"/>
                <a:gridCol w="1726920"/>
              </a:tblGrid>
              <a:tr h="551844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voudra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pour une person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dou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de fami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pour deux personnes avec deux petits lit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ouch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alle de bain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oilett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lc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ue sur la m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87320" cy="1819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564000" y="404640"/>
            <a:ext cx="4392720" cy="1008360"/>
          </a:xfrm>
          <a:prstGeom prst="wedgeRoundRectCallout">
            <a:avLst>
              <a:gd name="adj1" fmla="val -93800"/>
              <a:gd name="adj2" fmla="val 874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4200" y="2421000"/>
            <a:ext cx="8389800" cy="2592360"/>
          </a:xfrm>
          <a:prstGeom prst="wedgeRoundRectCallout">
            <a:avLst>
              <a:gd name="adj1" fmla="val -44097"/>
              <a:gd name="adj2" fmla="val -104625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’est p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3500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64000" y="3429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3429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 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48360" y="3284640"/>
            <a:ext cx="924120" cy="695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050920" y="3357720"/>
            <a:ext cx="924120" cy="695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9237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687320" cy="1819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4000" y="1773360"/>
            <a:ext cx="4679640" cy="4751280"/>
          </a:xfrm>
          <a:prstGeom prst="wedgeRoundRectCallout">
            <a:avLst>
              <a:gd name="adj1" fmla="val -34902"/>
              <a:gd name="adj2" fmla="val -68842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st-ce qu’il y 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1187640" cy="1198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1225440" cy="1174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11280" y="4653000"/>
            <a:ext cx="1152360" cy="1117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843280" y="4653000"/>
            <a:ext cx="1081080" cy="1042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9640" y="3933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n pa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393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n restau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pis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 ascens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404640"/>
            <a:ext cx="2879640" cy="648000"/>
          </a:xfrm>
          <a:prstGeom prst="wedgeRoundRectCallout">
            <a:avLst>
              <a:gd name="adj1" fmla="val -178060"/>
              <a:gd name="adj2" fmla="val 1617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on, désolé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1557360"/>
            <a:ext cx="2880000" cy="647640"/>
          </a:xfrm>
          <a:prstGeom prst="wedgeRoundRectCallout">
            <a:avLst>
              <a:gd name="adj1" fmla="val -178060"/>
              <a:gd name="adj2" fmla="val -12843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ui, bien sûr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Écoutez: à l’hôtel (ex1ap106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600200"/>
          <a:ext cx="8075520" cy="4530600"/>
        </p:xfrm>
        <a:graphic>
          <a:graphicData uri="http://schemas.openxmlformats.org/drawingml/2006/table">
            <a:tbl>
              <a:tblPr/>
              <a:tblGrid>
                <a:gridCol w="1616040"/>
                <a:gridCol w="1616040"/>
                <a:gridCol w="1611360"/>
                <a:gridCol w="1616040"/>
                <a:gridCol w="1616040"/>
              </a:tblGrid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ype de chamb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96000" y="1700280"/>
            <a:ext cx="923760" cy="695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851280" y="1700280"/>
            <a:ext cx="647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1:00:26Z</dcterms:created>
  <dc:creator>Laure S</dc:creator>
  <dc:description/>
  <dc:language>en-US</dc:language>
  <cp:lastModifiedBy>PSeccombe</cp:lastModifiedBy>
  <dcterms:modified xsi:type="dcterms:W3CDTF">2003-11-19T22:36:01Z</dcterms:modified>
  <cp:revision>3</cp:revision>
  <dc:subject/>
  <dc:title>Trouvez l’intrus…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