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.gif" ContentType="image/gif"/>
  <Override PartName="/ppt/media/image12.wmf" ContentType="image/x-wmf"/>
  <Override PartName="/ppt/media/image8.wmf" ContentType="image/x-wm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082-D559-473A-8607-C4075373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ED4-C30F-4437-8F8F-012D3B0E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382C-57D5-46AB-8C9C-AC7281A0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8DC-9165-4824-B129-E68F9E96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2EE9-9E95-4D77-96E0-1CA04554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9B6D-8CAB-4772-A0E9-B3B82A17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1E54-C0FD-489D-A39A-60BCEE31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70D0-BCAE-47DB-A46B-3062749F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E929-14EE-4BCF-8B93-B2FE139B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6814-5751-4D89-8C4C-E3ACF7B4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7714-D0FD-4722-B54B-59AF61F3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57FC-5455-4150-A557-BBC969F4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BD2F-6F1B-40AA-A7AA-BE7CD2F6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0271-0D01-45FE-9FED-4CE98817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19B1-1361-43A5-AD2A-3B6903BC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0BF7-9B41-4BE6-91B5-F5642432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A737-3ACC-49BC-A89D-2BBFC14F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34D8-A133-4FBD-90DA-C23D540C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E58-9C31-46F4-AC6A-2A200C01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5F93-6F79-4A86-9A96-E2529B9C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5FF3-E83E-4ACF-8D2E-30EC9679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C504-BEF4-49F3-B7B3-DB5924C8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8660-AFFC-44DD-91D7-F76FAA72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39EE-F8D1-4838-800B-22B2B5FE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EC88-3656-4A21-8495-6D55F28E9F36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CE10-C250-490A-8745-F11291BBAE19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ecff"/>
                </a:solidFill>
                <a:latin typeface="Comic Sans MS"/>
              </a:rPr>
              <a:t>Trouvez l’intrus…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1341360"/>
          <a:ext cx="8892720" cy="5256000"/>
        </p:xfrm>
        <a:graphic>
          <a:graphicData uri="http://schemas.openxmlformats.org/drawingml/2006/table">
            <a:tbl>
              <a:tblPr/>
              <a:tblGrid>
                <a:gridCol w="2222640"/>
                <a:gridCol w="2224440"/>
                <a:gridCol w="2223000"/>
                <a:gridCol w="2222640"/>
              </a:tblGrid>
              <a:tr h="97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fait bea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ple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fait du sole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fait cha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nei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pleuva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a fait fro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faisait du v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2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e troisième jour de mes vacanc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 j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i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ous les j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fait de l’orag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a fait du brouillard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faisait du soleil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y avait des averse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9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x jour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e 15 octobr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e sema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ux moi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ecff"/>
                </a:solidFill>
                <a:latin typeface="Sydnie"/>
              </a:rPr>
              <a:t>Remettez le dialogue dans l’ord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5229360"/>
            <a:ext cx="3851280" cy="865080"/>
          </a:xfrm>
          <a:prstGeom prst="wedgeRoundRectCallout">
            <a:avLst>
              <a:gd name="adj1" fmla="val 63398"/>
              <a:gd name="adj2" fmla="val 3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vez-vous une chambre de libre, s‘il vous plaî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3213000"/>
            <a:ext cx="3961080" cy="1152720"/>
          </a:xfrm>
          <a:prstGeom prst="wedgeRoundRectCallout">
            <a:avLst>
              <a:gd name="adj1" fmla="val 57657"/>
              <a:gd name="adj2" fmla="val -53856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Oui. Quelle sorte de chambre voulez-vou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1341360"/>
            <a:ext cx="2950920" cy="1440000"/>
          </a:xfrm>
          <a:prstGeom prst="wedgeRoundRectCallout">
            <a:avLst>
              <a:gd name="adj1" fmla="val -65439"/>
              <a:gd name="adj2" fmla="val 3246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Je voudrais une chambre double avec salle de bains et vue sur la m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1557360"/>
            <a:ext cx="4248000" cy="503280"/>
          </a:xfrm>
          <a:prstGeom prst="wedgeRoundRectCallout">
            <a:avLst>
              <a:gd name="adj1" fmla="val 51833"/>
              <a:gd name="adj2" fmla="val -98263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’est pour combien de nui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4221000"/>
            <a:ext cx="3025800" cy="792360"/>
          </a:xfrm>
          <a:prstGeom prst="wedgeRoundRectCallout">
            <a:avLst>
              <a:gd name="adj1" fmla="val -62749"/>
              <a:gd name="adj2" fmla="val -3857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’est pour deux nuits du 7 mai ou 9ma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3141720"/>
            <a:ext cx="3025800" cy="792000"/>
          </a:xfrm>
          <a:prstGeom prst="wedgeRoundRectCallout">
            <a:avLst>
              <a:gd name="adj1" fmla="val -50787"/>
              <a:gd name="adj2" fmla="val -10010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Est-ce qu’il y une piscin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51280" y="2349360"/>
            <a:ext cx="4141800" cy="503280"/>
          </a:xfrm>
          <a:prstGeom prst="wedgeRoundRectCallout">
            <a:avLst>
              <a:gd name="adj1" fmla="val 54597"/>
              <a:gd name="adj2" fmla="val -97004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Non, mais il y a un sau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51280" y="5373720"/>
            <a:ext cx="4213440" cy="720720"/>
          </a:xfrm>
          <a:prstGeom prst="wedgeRoundRectCallout">
            <a:avLst>
              <a:gd name="adj1" fmla="val 51810"/>
              <a:gd name="adj2" fmla="val -97134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as de problème. Je vous la réser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4360" y="333360"/>
            <a:ext cx="6840360" cy="865080"/>
          </a:xfrm>
          <a:prstGeom prst="wedgeRoundRectCallout">
            <a:avLst>
              <a:gd name="adj1" fmla="val 65199"/>
              <a:gd name="adj2" fmla="val 36421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vez-vous une chambre de libre, s‘il vous plaî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4360" y="2349360"/>
            <a:ext cx="7272360" cy="863640"/>
          </a:xfrm>
          <a:prstGeom prst="wedgeRoundRectCallout">
            <a:avLst>
              <a:gd name="adj1" fmla="val 61287"/>
              <a:gd name="adj2" fmla="val 17277"/>
              <a:gd name="adj3" fmla="val 16667"/>
            </a:avLst>
          </a:prstGeom>
          <a:solidFill>
            <a:srgbClr val="ff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Je voudrais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une chambre doubl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avec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salle de bains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vue sur la mer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3500280"/>
            <a:ext cx="7201080" cy="503280"/>
          </a:xfrm>
          <a:prstGeom prst="wedgeRoundRectCallout">
            <a:avLst>
              <a:gd name="adj1" fmla="val -58222"/>
              <a:gd name="adj2" fmla="val -87856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’est pour combien de nui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4221000"/>
            <a:ext cx="7417080" cy="503280"/>
          </a:xfrm>
          <a:prstGeom prst="wedgeRoundRectCallout">
            <a:avLst>
              <a:gd name="adj1" fmla="val 62606"/>
              <a:gd name="adj2" fmla="val 37379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’est pour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deux nuits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du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7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ou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9 ma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0920" y="5516640"/>
            <a:ext cx="7921440" cy="431640"/>
          </a:xfrm>
          <a:prstGeom prst="wedgeRoundRectCallout">
            <a:avLst>
              <a:gd name="adj1" fmla="val 61564"/>
              <a:gd name="adj2" fmla="val 1101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Est-ce qu’il y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une piscin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6165720"/>
            <a:ext cx="7418520" cy="503280"/>
          </a:xfrm>
          <a:prstGeom prst="wedgeRoundRectCallout">
            <a:avLst>
              <a:gd name="adj1" fmla="val -58152"/>
              <a:gd name="adj2" fmla="val -71449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Non, mais il y a un sau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4797360"/>
            <a:ext cx="7200720" cy="576360"/>
          </a:xfrm>
          <a:prstGeom prst="wedgeRoundRectCallout">
            <a:avLst>
              <a:gd name="adj1" fmla="val -58157"/>
              <a:gd name="adj2" fmla="val -53305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as de problème. Je vous la réser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5640" y="1628640"/>
            <a:ext cx="7056360" cy="576360"/>
          </a:xfrm>
          <a:prstGeom prst="wedgeRoundRectCallout">
            <a:avLst>
              <a:gd name="adj1" fmla="val -57287"/>
              <a:gd name="adj2" fmla="val -75342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Oui. Quelle sorte de chambre voulez-vou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omic Sans MS"/>
              </a:rPr>
              <a:t>Objectives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14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the end of the lesson you will be able t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ook an hotel roo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o ask questions about the faciliti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588000" y="4437000"/>
            <a:ext cx="23767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lors??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k for a single with show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k for a double room for two nigh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k if there is a restaur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k if there is a lift…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omic Sans MS"/>
              </a:rPr>
              <a:t>Objectives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14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the end of the lesson you will be able t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ook an hotel roo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o ask questions about the faciliti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588000" y="4437000"/>
            <a:ext cx="23767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À l’hôtel…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68360" y="2205000"/>
            <a:ext cx="3848400" cy="4032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264360" y="1989000"/>
            <a:ext cx="2879640" cy="1224000"/>
          </a:xfrm>
          <a:prstGeom prst="wedgeRoundRectCallout">
            <a:avLst>
              <a:gd name="adj1" fmla="val -105898"/>
              <a:gd name="adj2" fmla="val 67898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on, désolé.C’est complet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64360" y="4653000"/>
            <a:ext cx="2879640" cy="720720"/>
          </a:xfrm>
          <a:prstGeom prst="wedgeRoundRectCallout">
            <a:avLst>
              <a:gd name="adj1" fmla="val -103527"/>
              <a:gd name="adj2" fmla="val -211893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ui, bien sû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1484280"/>
            <a:ext cx="6840720" cy="503280"/>
          </a:xfrm>
          <a:prstGeom prst="wedgeRoundRectCallout">
            <a:avLst>
              <a:gd name="adj1" fmla="val 453"/>
              <a:gd name="adj2" fmla="val 293847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vez-vous une chambre de libre, s‘il vous plaî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87320" cy="1819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476360" y="189000"/>
            <a:ext cx="7488360" cy="576000"/>
          </a:xfrm>
          <a:prstGeom prst="wedgeRoundRectCallout">
            <a:avLst>
              <a:gd name="adj1" fmla="val -54199"/>
              <a:gd name="adj2" fmla="val 117768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Quelle sorte de chambre voulez-vou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2133720"/>
            <a:ext cx="8893080" cy="4103640"/>
          </a:xfrm>
          <a:prstGeom prst="wedgeRoundRectCallout">
            <a:avLst>
              <a:gd name="adj1" fmla="val -40787"/>
              <a:gd name="adj2" fmla="val -79245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e voudrai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643280" y="2998800"/>
            <a:ext cx="1940040" cy="752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843280" y="2852640"/>
            <a:ext cx="1081080" cy="635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684360" y="2852640"/>
            <a:ext cx="1008000" cy="938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2556000" y="2998800"/>
            <a:ext cx="1295280" cy="758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6877080" y="3213000"/>
            <a:ext cx="1940040" cy="754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 flipH="1">
            <a:off x="7812000" y="3357720"/>
            <a:ext cx="1332000" cy="7808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5280" y="393372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e chambre pour une person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11280" y="407664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e chambre pour deux personnes avec deux petits l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422100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e chambre dou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04000" y="4292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e chambre de famil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87320" cy="1819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476360" y="189000"/>
            <a:ext cx="7488360" cy="576000"/>
          </a:xfrm>
          <a:prstGeom prst="wedgeRoundRectCallout">
            <a:avLst>
              <a:gd name="adj1" fmla="val -53796"/>
              <a:gd name="adj2" fmla="val 47245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Quelle sorte de chambre voulez-vou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2708280"/>
            <a:ext cx="8713800" cy="2951280"/>
          </a:xfrm>
          <a:prstGeom prst="wedgeRoundRectCallout">
            <a:avLst>
              <a:gd name="adj1" fmla="val -40597"/>
              <a:gd name="adj2" fmla="val -110138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e voudrais une chambre…avec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4581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u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63640" y="4581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alle de ba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4508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C/toilet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1008000" cy="966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2195640" y="3429000"/>
            <a:ext cx="1081080" cy="905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356000" y="3429000"/>
            <a:ext cx="750960" cy="861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5796000" y="3284640"/>
            <a:ext cx="1095480" cy="1141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867280" y="4581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alc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46530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vue sur la 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7524720" y="3357720"/>
            <a:ext cx="115272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76360" y="189000"/>
            <a:ext cx="7488360" cy="576000"/>
          </a:xfrm>
          <a:prstGeom prst="wedgeRoundRectCallout">
            <a:avLst>
              <a:gd name="adj1" fmla="val -56125"/>
              <a:gd name="adj2" fmla="val 14462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Quelle sorte de chambre voulez-vou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39640" y="1197000"/>
          <a:ext cx="8280360" cy="5476680"/>
        </p:xfrm>
        <a:graphic>
          <a:graphicData uri="http://schemas.openxmlformats.org/drawingml/2006/table">
            <a:tbl>
              <a:tblPr/>
              <a:tblGrid>
                <a:gridCol w="2073240"/>
                <a:gridCol w="3399120"/>
                <a:gridCol w="1081080"/>
                <a:gridCol w="1726920"/>
              </a:tblGrid>
              <a:tr h="5518440"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voudra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une chambre pour une person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Une chambre dou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Une chambre de famil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Une chambre pour deux personnes avec deux petits lit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ve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douch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alle de bain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oilette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alc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ue sur la me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87320" cy="18194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564000" y="404640"/>
            <a:ext cx="4392720" cy="1008360"/>
          </a:xfrm>
          <a:prstGeom prst="wedgeRoundRectCallout">
            <a:avLst>
              <a:gd name="adj1" fmla="val -93800"/>
              <a:gd name="adj2" fmla="val 8740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’est pour combien de nui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4200" y="2421000"/>
            <a:ext cx="8389800" cy="2592360"/>
          </a:xfrm>
          <a:prstGeom prst="wedgeRoundRectCallout">
            <a:avLst>
              <a:gd name="adj1" fmla="val -44097"/>
              <a:gd name="adj2" fmla="val -104625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’est pou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87280" y="35002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X 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64000" y="34290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X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0360" y="3429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X 7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948360" y="3284640"/>
            <a:ext cx="924120" cy="695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050920" y="3357720"/>
            <a:ext cx="924120" cy="695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4500720" y="3284640"/>
            <a:ext cx="92376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687320" cy="18194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24000" y="1773360"/>
            <a:ext cx="4679640" cy="4751280"/>
          </a:xfrm>
          <a:prstGeom prst="wedgeRoundRectCallout">
            <a:avLst>
              <a:gd name="adj1" fmla="val -34902"/>
              <a:gd name="adj2" fmla="val -68842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st-ce qu’il y a…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1187640" cy="1198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627280" y="2492280"/>
            <a:ext cx="1225440" cy="1174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611280" y="4653000"/>
            <a:ext cx="1152360" cy="1117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2843280" y="4653000"/>
            <a:ext cx="1081080" cy="1042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9640" y="393372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Un par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3933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Un restaur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e pisc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1128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 ascense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8360" y="404640"/>
            <a:ext cx="2879640" cy="648000"/>
          </a:xfrm>
          <a:prstGeom prst="wedgeRoundRectCallout">
            <a:avLst>
              <a:gd name="adj1" fmla="val -178060"/>
              <a:gd name="adj2" fmla="val 16175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on, désolé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64000" y="1557360"/>
            <a:ext cx="2880000" cy="647640"/>
          </a:xfrm>
          <a:prstGeom prst="wedgeRoundRectCallout">
            <a:avLst>
              <a:gd name="adj1" fmla="val -178060"/>
              <a:gd name="adj2" fmla="val -128430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ui, bien sûr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Écoutez: à l’hôtel (ex1ap106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1600200"/>
          <a:ext cx="8075520" cy="4530600"/>
        </p:xfrm>
        <a:graphic>
          <a:graphicData uri="http://schemas.openxmlformats.org/drawingml/2006/table">
            <a:tbl>
              <a:tblPr/>
              <a:tblGrid>
                <a:gridCol w="1616040"/>
                <a:gridCol w="1616040"/>
                <a:gridCol w="1611360"/>
                <a:gridCol w="1616040"/>
                <a:gridCol w="1616040"/>
              </a:tblGrid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ype de chamb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?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796000" y="1700280"/>
            <a:ext cx="923760" cy="695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851280" y="1700280"/>
            <a:ext cx="64764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11:00:26Z</dcterms:created>
  <dc:creator>Laure S</dc:creator>
  <dc:description/>
  <dc:language>en-US</dc:language>
  <cp:lastModifiedBy>PSeccombe</cp:lastModifiedBy>
  <dcterms:modified xsi:type="dcterms:W3CDTF">2003-11-19T22:36:01Z</dcterms:modified>
  <cp:revision>3</cp:revision>
  <dc:subject/>
  <dc:title>Trouvez l’intrus…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