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DF2E-6ADC-4446-9167-195478B1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5DAD-A719-483C-8E3C-C82B3F12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8DB-C6A6-41D0-B1FF-F3C8DC80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D276-F2CA-46EE-9293-11D61022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DED3-F157-4BE3-95B4-DA39D224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07AE-CB1C-48EF-A879-3F9DE0C5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7237-3107-4F6C-8B19-EF87CEF4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EC30-D450-4BEC-957F-CE9CDA7C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C959-547D-4CC2-A641-3DAAD81F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EB2C-7719-476C-ABF2-F53C73FA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065B-2FEC-4995-AEC3-377C797F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73D2-D7EE-4829-8BAC-8F85E9C0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52BC-5281-4450-A30D-F199BE2A0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sunderlandschools.org/mfl-sunderland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0" y="4869000"/>
            <a:ext cx="9144000" cy="1989000"/>
          </a:xfrm>
          <a:prstGeom prst="rect">
            <a:avLst/>
          </a:prstGeom>
          <a:solidFill>
            <a:srgbClr val="6a5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cousine"/>
          <p:cNvPicPr/>
          <p:nvPr/>
        </p:nvPicPr>
        <p:blipFill>
          <a:blip r:embed="rId1"/>
          <a:stretch/>
        </p:blipFill>
        <p:spPr>
          <a:xfrm>
            <a:off x="250920" y="2276640"/>
            <a:ext cx="1542960" cy="3714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tonton"/>
          <p:cNvPicPr/>
          <p:nvPr/>
        </p:nvPicPr>
        <p:blipFill>
          <a:blip r:embed="rId2"/>
          <a:stretch/>
        </p:blipFill>
        <p:spPr>
          <a:xfrm>
            <a:off x="2411280" y="2349360"/>
            <a:ext cx="1857600" cy="3676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opain"/>
          <p:cNvPicPr/>
          <p:nvPr/>
        </p:nvPicPr>
        <p:blipFill>
          <a:blip r:embed="rId3"/>
          <a:stretch/>
        </p:blipFill>
        <p:spPr>
          <a:xfrm>
            <a:off x="4500720" y="3284640"/>
            <a:ext cx="1866600" cy="2733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petiteamie"/>
          <p:cNvPicPr/>
          <p:nvPr/>
        </p:nvPicPr>
        <p:blipFill>
          <a:blip r:embed="rId4"/>
          <a:stretch/>
        </p:blipFill>
        <p:spPr>
          <a:xfrm>
            <a:off x="6804000" y="1916280"/>
            <a:ext cx="2009880" cy="41432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1"/>
          <p:cNvSpPr/>
          <p:nvPr/>
        </p:nvSpPr>
        <p:spPr>
          <a:xfrm>
            <a:off x="179280" y="0"/>
            <a:ext cx="180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mille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cousine de Ma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2411280" y="0"/>
            <a:ext cx="180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urent, l’oncl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 Ma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4643280" y="0"/>
            <a:ext cx="180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ude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copain de Thie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6732720" y="0"/>
            <a:ext cx="241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gane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petite amie d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ul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5076720" y="6524640"/>
            <a:ext cx="40672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Rounded MT Bold"/>
              </a:rPr>
              <a:t>©MFL Sunderland 2007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5"/>
              </a:rPr>
              <a:t>http://www.sunderlandschools.org/mfl-sunderland</a:t>
            </a:r>
            <a:r>
              <a:rPr b="0" lang="en-US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12:29:40Z</dcterms:created>
  <dc:creator>CSeccombe</dc:creator>
  <dc:description/>
  <dc:language>en-US</dc:language>
  <cp:lastModifiedBy>Clare Seccombe</cp:lastModifiedBy>
  <dcterms:modified xsi:type="dcterms:W3CDTF">2017-06-05T09:17:18Z</dcterms:modified>
  <cp:revision>37</cp:revision>
  <dc:subject/>
  <dc:title>Slide 1</dc:title>
</cp:coreProperties>
</file>