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497-0F65-4AF9-B972-1693B0D6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D40-9297-4F3F-AF70-B095DD59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971-4587-4F1B-88F6-3530E3FB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C64-F146-4001-B080-34F9E9FE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ACA-40AE-435B-8C5F-3653BC3D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101-0DDB-4A5E-A5BC-BDFE0660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AD1-A0AC-497B-BCEA-9AC6101F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218-B030-45D1-B011-DA1881C2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973-08F4-4EDF-BA77-F7D2806A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F25-A591-41C1-9C1C-977A102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9E8-7BBD-434A-A8FB-C44FCBFF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F2D-14F3-4401-BD0F-B3783F17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560D-AEC4-41D2-B528-A9B701519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solidFill>
            <a:srgbClr val="6a5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cousine"/>
          <p:cNvPicPr/>
          <p:nvPr/>
        </p:nvPicPr>
        <p:blipFill>
          <a:blip r:embed="rId1"/>
          <a:stretch/>
        </p:blipFill>
        <p:spPr>
          <a:xfrm>
            <a:off x="250920" y="2276640"/>
            <a:ext cx="1542960" cy="371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onton"/>
          <p:cNvPicPr/>
          <p:nvPr/>
        </p:nvPicPr>
        <p:blipFill>
          <a:blip r:embed="rId2"/>
          <a:stretch/>
        </p:blipFill>
        <p:spPr>
          <a:xfrm>
            <a:off x="2411280" y="2349360"/>
            <a:ext cx="1857600" cy="367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opain"/>
          <p:cNvPicPr/>
          <p:nvPr/>
        </p:nvPicPr>
        <p:blipFill>
          <a:blip r:embed="rId3"/>
          <a:stretch/>
        </p:blipFill>
        <p:spPr>
          <a:xfrm>
            <a:off x="4500720" y="3284640"/>
            <a:ext cx="1866600" cy="27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petiteamie"/>
          <p:cNvPicPr/>
          <p:nvPr/>
        </p:nvPicPr>
        <p:blipFill>
          <a:blip r:embed="rId4"/>
          <a:stretch/>
        </p:blipFill>
        <p:spPr>
          <a:xfrm>
            <a:off x="6804000" y="1916280"/>
            <a:ext cx="2009880" cy="4143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179280" y="0"/>
            <a:ext cx="18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mille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cousine de M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411280" y="0"/>
            <a:ext cx="18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rent, l’oncl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 M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643280" y="0"/>
            <a:ext cx="18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d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copain de Thi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6732720" y="0"/>
            <a:ext cx="241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gan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petite amie d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l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5076720" y="6524640"/>
            <a:ext cx="4067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07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sunderlandschools.org/mfl-sunderland</a:t>
            </a: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2:29:40Z</dcterms:created>
  <dc:creator>CSeccombe</dc:creator>
  <dc:description/>
  <dc:language>en-US</dc:language>
  <cp:lastModifiedBy>Clare Seccombe</cp:lastModifiedBy>
  <dcterms:modified xsi:type="dcterms:W3CDTF">2017-06-05T09:17:18Z</dcterms:modified>
  <cp:revision>37</cp:revision>
  <dc:subject/>
  <dc:title>Slide 1</dc:title>
</cp:coreProperties>
</file>