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F33-306D-4FB8-B531-1A58C23E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12E-C0DF-44B0-A2E8-87DDC128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14B-8E47-4EC7-8D0E-7858215C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D4E-CBEA-44D5-8034-9A611C42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F45-55AF-4705-852F-03190360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343-0814-4074-B536-96835795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642-ED55-4C14-AEF7-3AB72C29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A7A-6984-4C45-AA83-63BDFBE6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1D0-1914-4F2F-BF04-304DF6E0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AE9-BC3C-43B6-A858-5175BB73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3BC-F08E-42EF-82F0-61842B19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FCD-E991-4F9D-B25D-F41B5A45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E9E6-6C5B-4031-99F5-D1034820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61167" t="18199" r="21120" b="42436"/>
          <a:stretch/>
        </p:blipFill>
        <p:spPr>
          <a:xfrm>
            <a:off x="250920" y="907920"/>
            <a:ext cx="2763720" cy="4608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843280" y="189000"/>
            <a:ext cx="6121440" cy="65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onsieur Tarbé est professeur au lycée de Marine.  Il est petit et mince.  Il a les cheveux châtains, courts et raides, et les yeux marron.  Aussi il a une moustache et une barbe et la peau marron.  Il a un petit nez.  Il ne porte pas de lunettes.  Aujourd’hui il porte un tee-shirt violet et un pantalon vert, mais il ne porte pas de boucle d’oreil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24360" y="6491160"/>
            <a:ext cx="52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ea typeface="Times New Roman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rcRect l="59598" t="16535" r="18998" b="26378"/>
          <a:stretch/>
        </p:blipFill>
        <p:spPr>
          <a:xfrm>
            <a:off x="0" y="333360"/>
            <a:ext cx="3062160" cy="6120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843280" y="260280"/>
            <a:ext cx="6049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adame Tarbé est professeur au lycée de Marine.  Elle …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0:17:46Z</dcterms:created>
  <dc:creator>CSeccombe</dc:creator>
  <dc:description/>
  <dc:language>en-US</dc:language>
  <cp:lastModifiedBy>Clare Seccombe</cp:lastModifiedBy>
  <dcterms:modified xsi:type="dcterms:W3CDTF">2017-06-05T09:18:33Z</dcterms:modified>
  <cp:revision>5</cp:revision>
  <dc:subject/>
  <dc:title>Slide 1</dc:title>
</cp:coreProperties>
</file>