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236-EF9E-4AD8-9142-40FCD66B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301-0FC7-4A0A-8734-A6DEE644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EF76-52FB-426A-85C3-7FD74B63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732-9707-4032-B02C-B35746F4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16E7-B8D0-4A59-B4B3-4B0B3A8F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7CA9-C873-4E06-84DF-CA684613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F9C5-EC22-4064-A7F3-BBC8F379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42BD-3CFD-4F2C-AE01-6A0F70E7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B7E-CDF7-4D94-B4F0-F2799035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D1B1-022B-4666-993A-36854FAF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1280-652E-426A-A737-6EDF26FE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725-FA05-4534-837B-02397CF4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CF69-D566-4DFA-A5A7-144474EBC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61167" t="18199" r="21120" b="42436"/>
          <a:stretch/>
        </p:blipFill>
        <p:spPr>
          <a:xfrm>
            <a:off x="250920" y="907920"/>
            <a:ext cx="2763720" cy="4608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843280" y="189000"/>
            <a:ext cx="6121440" cy="65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onsieur Tarbé est professeur au lycée de Marine.  Il est petit et mince.  Il a les cheveux châtains, courts et raides, et les yeux marron.  Aussi il a une moustache et une barbe et la peau marron.  Il a un petit nez.  Il ne porte pas de lunettes.  Aujourd’hui il porte un tee-shirt violet et un pantalon vert, mais il ne porte pas de boucle d’oreill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924360" y="6491160"/>
            <a:ext cx="52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©MFL Sunderland 2007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ea typeface="Times New Roman"/>
                <a:hlinkClick r:id="rId2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rcRect l="59598" t="16535" r="18998" b="26378"/>
          <a:stretch/>
        </p:blipFill>
        <p:spPr>
          <a:xfrm>
            <a:off x="0" y="333360"/>
            <a:ext cx="3062160" cy="6120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843280" y="260280"/>
            <a:ext cx="6049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adame Tarbé est professeur au lycée de Marine.  Elle …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0:17:46Z</dcterms:created>
  <dc:creator>CSeccombe</dc:creator>
  <dc:description/>
  <dc:language>en-US</dc:language>
  <cp:lastModifiedBy>Clare Seccombe</cp:lastModifiedBy>
  <dcterms:modified xsi:type="dcterms:W3CDTF">2017-06-05T09:18:33Z</dcterms:modified>
  <cp:revision>5</cp:revision>
  <dc:subject/>
  <dc:title>Slide 1</dc:title>
</cp:coreProperties>
</file>