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1FE-3778-495B-99A0-62FE14F7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849-81AC-4033-A9B5-8E6A6ABB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ACE-2D32-4302-A209-A42F824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688-B8F7-47F3-AF65-75298190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1B9-7EF9-47DC-A265-96972B12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0FA-BFCF-4A88-84C7-702BA81F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F1A-4307-4BDC-9F23-6A03BC3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ACE-E962-4981-8DA0-AF089091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21B-0FD7-4D44-8BF5-10411416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5CB-B680-4FC2-9D44-EB7F563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A7E-0EA4-4CE6-9BBA-97C24779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C7A-6430-47A8-A734-392026B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4FC-0126-42BE-8BA6-FCAAD6E3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bscissa"/>
              </a:rPr>
              <a:t>Qu’est-ce</a:t>
            </a:r>
            <a:br>
              <a:rPr sz="9600"/>
            </a:br>
            <a:r>
              <a:rPr b="1" lang="en-GB" sz="9600" spc="-1" strike="noStrike">
                <a:solidFill>
                  <a:srgbClr val="000000"/>
                </a:solidFill>
                <a:latin typeface="Abscissa"/>
              </a:rPr>
              <a:t>qu’ils font </a:t>
            </a:r>
            <a:br>
              <a:rPr sz="9600"/>
            </a:br>
            <a:r>
              <a:rPr b="1" lang="en-GB" sz="9600" spc="-1" strike="noStrike">
                <a:solidFill>
                  <a:srgbClr val="000000"/>
                </a:solidFill>
                <a:latin typeface="Abscissa"/>
              </a:rPr>
              <a:t>dans la vie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Facteur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097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vocat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Jardinier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203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Footballeur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stronaut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95416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Photograph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950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Professeur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rtist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Mécanicien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2763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Médecin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Hôtesse de l’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Infirmièr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Journaliste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25862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Pompi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gent de pol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Che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Secrétair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24465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Ouvrier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Homme d’affaires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Informaticien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0:25:45Z</dcterms:created>
  <dc:creator>CSeccombe</dc:creator>
  <dc:description/>
  <dc:language>en-US</dc:language>
  <cp:lastModifiedBy>CSeccombe</cp:lastModifiedBy>
  <dcterms:modified xsi:type="dcterms:W3CDTF">2007-10-05T12:41:25Z</dcterms:modified>
  <cp:revision>8</cp:revision>
  <dc:subject/>
  <dc:title>Slide 1</dc:title>
</cp:coreProperties>
</file>