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B7A-56D9-4124-8B29-315BDF1F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CD5-096E-41F7-95FF-244D636A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7B8-017F-4D39-8E19-20FE27C9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187-1B98-4A61-83E1-A201F27C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F22-3E45-4272-9F4B-F21D78A0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B07-92B0-4CFD-AE0C-ADF9DA3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269-1AC8-4B6B-AF5A-74304D0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6B8-27FC-4CA7-B0A8-1769308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973-4921-4143-96E6-F05A1CE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6F1-01A8-474D-B318-5DD0D2C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412-66F7-4CEA-9186-6DE43EA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2D2-725B-4985-AE6A-522D740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E82-76E4-4E53-8EC9-073F904EE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bscissa"/>
              </a:rPr>
              <a:t>Qu’est-ce</a:t>
            </a:r>
            <a:br>
              <a:rPr sz="9600"/>
            </a:br>
            <a:r>
              <a:rPr b="1" lang="en-GB" sz="9600" spc="-1" strike="noStrike">
                <a:solidFill>
                  <a:srgbClr val="000000"/>
                </a:solidFill>
                <a:latin typeface="Abscissa"/>
              </a:rPr>
              <a:t>qu’ils font </a:t>
            </a:r>
            <a:br>
              <a:rPr sz="9600"/>
            </a:br>
            <a:r>
              <a:rPr b="1" lang="en-GB" sz="9600" spc="-1" strike="noStrike">
                <a:solidFill>
                  <a:srgbClr val="000000"/>
                </a:solidFill>
                <a:latin typeface="Abscissa"/>
              </a:rPr>
              <a:t>dans la vie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Facteur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097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vocat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Jardinier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203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Footballeur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stronaut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95416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Photograph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950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Professeur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rtist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Mécanicien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2763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Médecin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Hôtesse de l’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Infirmière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Journaliste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25862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Pompi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Agent de pol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Che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Secrétair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24465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Ouvrier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Homme d’affaires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797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bscissa"/>
              </a:rPr>
              <a:t>Informaticien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0:25:45Z</dcterms:created>
  <dc:creator>CSeccombe</dc:creator>
  <dc:description/>
  <dc:language>en-US</dc:language>
  <cp:lastModifiedBy>CSeccombe</cp:lastModifiedBy>
  <dcterms:modified xsi:type="dcterms:W3CDTF">2007-10-05T12:41:25Z</dcterms:modified>
  <cp:revision>8</cp:revision>
  <dc:subject/>
  <dc:title>Slide 1</dc:title>
</cp:coreProperties>
</file>