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2AE81-DBBD-4CE9-BBDA-66F0C48A3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8A182-2E11-4F0F-A7F2-815359462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38C7E-C119-47D4-880D-A37E99AC0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019AC-5972-46EC-B18A-904165ED0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D13FD-B708-4C24-9086-B4A28C435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C22C4-7CC7-4BE4-95B8-7AB96D46F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23CEC-C438-4CCA-9DFD-B5ACFDCC1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39B65-1FD5-4396-BDD6-A26244F66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91784-C364-4767-99FE-9C2E7DA9F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2FEF2-4809-482A-A98D-E56D9D511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2EA66-31B0-4643-9646-7935CC64B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A6B83-7D6F-4A29-9A94-0853435D7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517E-107F-4966-8D38-21B5D550D94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tabac-info-service.fr/fr/index.html"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tabac-info-service.fr/fr/index.html"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5068"/>
          <a:stretch/>
        </p:blipFill>
        <p:spPr>
          <a:xfrm>
            <a:off x="0" y="0"/>
            <a:ext cx="9144000" cy="680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sp>
        <p:nvSpPr>
          <p:cNvPr id="42" name=""/>
          <p:cNvSpPr/>
          <p:nvPr/>
        </p:nvSpPr>
        <p:spPr>
          <a:xfrm>
            <a:off x="0" y="917640"/>
            <a:ext cx="91440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 vente de tabac est-elle interdite aux mineurs ?</a:t>
            </a:r>
            <a:r>
              <a:rPr b="0" lang="en-GB"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loi interdisant la vente de tabac aux mineurs de moins de 16 ans a été votée en France le 24 juillet 2003. Cette loi comprend aussi tout un ensemble de mesures visant à lutter contre le tabagisme des jeunes : interdiction de vendre des paquets de moins de dix-neuf cigarettes, interdiction de faire de la publicité en faveur du papier à cigarette et obligation pour les écoles d’informer les jeunes sur les méfaits du tabagisme.</a:t>
            </a:r>
            <a:endParaRPr b="0" lang="en-US" sz="3200" spc="-1" strike="noStrike">
              <a:solidFill>
                <a:srgbClr val="000000"/>
              </a:solidFill>
              <a:latin typeface="Arial"/>
            </a:endParaRPr>
          </a:p>
        </p:txBody>
      </p:sp>
      <p:pic>
        <p:nvPicPr>
          <p:cNvPr id="43" name="" descr="tabac-info-service.fr">
            <a:hlinkClick r:id="rId1"/>
          </p:cNvPr>
          <p:cNvPicPr/>
          <p:nvPr/>
        </p:nvPicPr>
        <p:blipFill>
          <a:blip r:embed="rId2"/>
          <a:stretch/>
        </p:blipFill>
        <p:spPr>
          <a:xfrm>
            <a:off x="0" y="0"/>
            <a:ext cx="4103640" cy="1038240"/>
          </a:xfrm>
          <a:prstGeom prst="rect">
            <a:avLst/>
          </a:prstGeom>
          <a:ln w="0">
            <a:noFill/>
          </a:ln>
        </p:spPr>
      </p:pic>
      <p:pic>
        <p:nvPicPr>
          <p:cNvPr id="44" name="" descr="0 825 309 310"/>
          <p:cNvPicPr/>
          <p:nvPr/>
        </p:nvPicPr>
        <p:blipFill>
          <a:blip r:embed="rId3"/>
          <a:stretch/>
        </p:blipFill>
        <p:spPr>
          <a:xfrm>
            <a:off x="6119640" y="0"/>
            <a:ext cx="3024360" cy="101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pic>
        <p:nvPicPr>
          <p:cNvPr id="45" name="" descr="tabac-info-service.fr">
            <a:hlinkClick r:id="rId1"/>
          </p:cNvPr>
          <p:cNvPicPr/>
          <p:nvPr/>
        </p:nvPicPr>
        <p:blipFill>
          <a:blip r:embed="rId2"/>
          <a:stretch/>
        </p:blipFill>
        <p:spPr>
          <a:xfrm>
            <a:off x="0" y="0"/>
            <a:ext cx="4103640" cy="1038240"/>
          </a:xfrm>
          <a:prstGeom prst="rect">
            <a:avLst/>
          </a:prstGeom>
          <a:ln w="0">
            <a:noFill/>
          </a:ln>
        </p:spPr>
      </p:pic>
      <p:pic>
        <p:nvPicPr>
          <p:cNvPr id="46" name="" descr="0 825 309 310"/>
          <p:cNvPicPr/>
          <p:nvPr/>
        </p:nvPicPr>
        <p:blipFill>
          <a:blip r:embed="rId3"/>
          <a:stretch/>
        </p:blipFill>
        <p:spPr>
          <a:xfrm>
            <a:off x="5940360" y="0"/>
            <a:ext cx="3024360" cy="1017720"/>
          </a:xfrm>
          <a:prstGeom prst="rect">
            <a:avLst/>
          </a:prstGeom>
          <a:ln w="0">
            <a:noFill/>
          </a:ln>
        </p:spPr>
      </p:pic>
      <p:sp>
        <p:nvSpPr>
          <p:cNvPr id="47" name=""/>
          <p:cNvSpPr/>
          <p:nvPr/>
        </p:nvSpPr>
        <p:spPr>
          <a:xfrm>
            <a:off x="0" y="981000"/>
            <a:ext cx="9144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Qui fume en France ?</a:t>
            </a:r>
            <a:r>
              <a:rPr b="0" lang="en-GB"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France compte 15 millions de fumeurs. Un tiers des personnes de 12 à 75 ans (33 %) fume, ne serait-ce que de temps en temps. Entre 18 et 34 ans, près d’une personne sur deux fume. La prévalence tabagique passe de 9 % pour les 12-14 ans à 41 % pour les 15-19 ans et atteint un maximum de 48 % chez les 20-25 an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8" name=""/>
          <p:cNvSpPr/>
          <p:nvPr/>
        </p:nvSpPr>
        <p:spPr>
          <a:xfrm>
            <a:off x="0" y="4816440"/>
            <a:ext cx="914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 quel âge commence-t-on à fumer ?</a:t>
            </a:r>
            <a:r>
              <a:rPr b="0" lang="en-GB"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 moyenne, les jeunes fument leur première cigarette vers 14 ans et demi et commencent à fumer régulièrement vers 16 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0" r="0" b="5467"/>
          <a:stretch/>
        </p:blipFill>
        <p:spPr>
          <a:xfrm>
            <a:off x="0" y="0"/>
            <a:ext cx="9144000" cy="691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108000" y="0"/>
            <a:ext cx="878508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9cc"/>
                </a:solidFill>
                <a:latin typeface="Arial"/>
              </a:rPr>
              <a:t>Ensemble, arrêtons le tabac</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Arial"/>
              </a:rPr>
              <a:t>La lutte contre le tabagisme est une priorité de santé publique : un fumeur régulier sur deux meurt du tabac et 5 000 personnes sont victimes du tabagisme passif chaque année en France.</a:t>
            </a:r>
            <a:r>
              <a:rPr b="0" lang="en-GB"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in de protéger les fumeurs comme les non fumeurs, le Gouvernement a décidé d’interdire de fumer dans les lieux publics, dès février 2007 pour les entreprises, les administrations, les établissements scolaires, les établissements de santé, et en janvier 2008 pour les cafés, les hôtels, les restaurants, les discothèques.</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907920"/>
            <a:ext cx="9144000" cy="1814760"/>
          </a:xfrm>
          <a:prstGeom prst="rect">
            <a:avLst/>
          </a:prstGeom>
          <a:ln w="0">
            <a:noFill/>
          </a:ln>
        </p:spPr>
      </p:pic>
      <p:pic>
        <p:nvPicPr>
          <p:cNvPr id="52" name="" descr=""/>
          <p:cNvPicPr/>
          <p:nvPr/>
        </p:nvPicPr>
        <p:blipFill>
          <a:blip r:embed="rId2"/>
          <a:stretch/>
        </p:blipFill>
        <p:spPr>
          <a:xfrm>
            <a:off x="0" y="3443400"/>
            <a:ext cx="9144000" cy="211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81080" y="549360"/>
            <a:ext cx="9325080" cy="42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0:17:12Z</dcterms:created>
  <dc:creator>clare.seccombe</dc:creator>
  <dc:description/>
  <dc:language>en-US</dc:language>
  <cp:lastModifiedBy>CSeccombe</cp:lastModifiedBy>
  <dcterms:modified xsi:type="dcterms:W3CDTF">2007-11-19T14:15:29Z</dcterms:modified>
  <cp:revision>5</cp:revision>
  <dc:subject/>
  <dc:title>Slide 1</dc:title>
</cp:coreProperties>
</file>