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16E-8D49-4445-8F9D-A2B7FF4F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9B4-E611-478D-B7BC-BE38477C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D94-EF04-4AA7-8B19-2C2331CA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21F-6DD7-40A5-B99F-4B8BE29C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1EC-A3D0-4198-B400-E3FB3C53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225-CA5C-4BCC-B7FF-9915B1D3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BD3-AB6A-455E-8E29-91C4B026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E8C-C88D-4C78-855E-A38CF41B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224-D0FA-4D30-ADFE-45E5CFC3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41B-9056-4460-BA29-B2985D1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66E-454A-40A2-B5AE-45F4B447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C83-01FD-4597-84F4-BDB1B9C3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6E8D-806E-4082-B759-C0F15FF4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8544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J’ai mal _________ co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J’ai mal _________ oreil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J’ai mal _________ ma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J’ai mal _________ gorg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J’ai mal _________ den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Elle _______ mal ________ tê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_____ as mal ________ ventre 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Ils ______ ________ au coeu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89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9079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à l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3213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4797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70028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à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249228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à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4005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à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4005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797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5897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55897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654360" cy="265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9163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sour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’oe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bo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lè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me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0"/>
            <a:ext cx="291636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g.la 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h.le 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i.la la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.l’ore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k.les chev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5013360"/>
            <a:ext cx="3995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Add:</a:t>
            </a:r>
            <a:br>
              <a:rPr sz="3200"/>
            </a:br>
            <a:r>
              <a:rPr b="0" lang="en-GB" sz="3200" spc="-1" strike="noStrike">
                <a:solidFill>
                  <a:srgbClr val="cc0000"/>
                </a:solidFill>
                <a:latin typeface="Arial Rounded MT Bold"/>
              </a:rPr>
              <a:t>le front</a:t>
            </a:r>
            <a:br>
              <a:rPr sz="3200"/>
            </a:br>
            <a:r>
              <a:rPr b="0" lang="en-GB" sz="3200" spc="-1" strike="noStrike">
                <a:solidFill>
                  <a:srgbClr val="cc0000"/>
                </a:solidFill>
                <a:latin typeface="Arial Rounded MT Bold"/>
              </a:rPr>
              <a:t>la jo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529080" cy="342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37083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do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ta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doigt de 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ge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jam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po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0"/>
            <a:ext cx="30592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poi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v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poit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’épa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tê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 f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 co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16700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419640" y="404640"/>
            <a:ext cx="2232000" cy="1982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516720" y="476280"/>
            <a:ext cx="1646280" cy="1913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95280" y="3429000"/>
            <a:ext cx="1663560" cy="201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700360" y="3357720"/>
            <a:ext cx="1751040" cy="222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932360" y="3357720"/>
            <a:ext cx="2004840" cy="239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948360" y="3500280"/>
            <a:ext cx="1992600" cy="208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256536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a squelette / les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242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es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6360" y="242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e cer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516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’esto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4360" y="5516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es r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5661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a fo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7280" y="5589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Rounded MT Bold"/>
              </a:rPr>
              <a:t>le co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90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roid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chaud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im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soif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371628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not hung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653000"/>
            <a:ext cx="31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grip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’ai vo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189000"/>
            <a:ext cx="5113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hung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thir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7162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e n’ai pas faim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4653000"/>
            <a:ext cx="51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have the ‘flu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have vom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900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e suis malade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e suis fatigué(e)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e suis enrhumé(e)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Je me suis cassé(e) la jam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189000"/>
            <a:ext cx="47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am full of 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41497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 Rounded MT Bold"/>
              </a:rPr>
              <a:t>I have broken my le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1:54:43Z</dcterms:created>
  <dc:creator>CSeccombe</dc:creator>
  <dc:description/>
  <dc:language>en-US</dc:language>
  <cp:lastModifiedBy>CSeccombe</cp:lastModifiedBy>
  <dcterms:modified xsi:type="dcterms:W3CDTF">2007-11-19T14:42:41Z</dcterms:modified>
  <cp:revision>9</cp:revision>
  <dc:subject/>
  <dc:title>Slide 1</dc:title>
</cp:coreProperties>
</file>