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66F-92E9-41BF-8956-984F34CE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BB6-7A95-4C06-8178-6EB3E221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359-F6C4-477E-826B-220AD820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5A6-B45C-4A47-AD43-62ADC77A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75D-1219-453B-8C01-979C2764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AB8-A359-4935-BDC8-0DBA630B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AF8-0C54-41DB-93FB-7E78312F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545-19CB-4DCD-B3B1-2FA0F966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9FE-3C53-4633-A973-4F21C8B0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A0F-145B-4C0A-B035-C5CED9E1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061-D6CA-4E87-AD9C-4A74E8BB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366-CB64-48A0-8FFD-FC62043B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95C9-BAEC-4F7B-99DC-E71488537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J’ai mal _________ co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J’ai mal _________ oreil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J’ai mal _________ m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J’ai mal _________ gorg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J’ai mal _________ de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lle _______ mal ________ tê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_____ as mal ________ ventre 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Ils ______ ________ au coeu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89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9079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à l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3213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4797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70028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à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249228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à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4005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à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4005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797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5897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5589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654360" cy="265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9163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sour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’oe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bo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lè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me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0"/>
            <a:ext cx="291636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g.la 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h.le 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i.la la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.l’ore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k.les chev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5013360"/>
            <a:ext cx="3995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Add:</a:t>
            </a:r>
            <a:br>
              <a:rPr sz="3200"/>
            </a:br>
            <a:r>
              <a:rPr b="0" lang="en-GB" sz="3200" spc="-1" strike="noStrike">
                <a:solidFill>
                  <a:srgbClr val="cc0000"/>
                </a:solidFill>
                <a:latin typeface="Arial Rounded MT Bold"/>
              </a:rPr>
              <a:t>le front</a:t>
            </a:r>
            <a:br>
              <a:rPr sz="3200"/>
            </a:br>
            <a:r>
              <a:rPr b="0" lang="en-GB" sz="3200" spc="-1" strike="noStrike">
                <a:solidFill>
                  <a:srgbClr val="cc0000"/>
                </a:solidFill>
                <a:latin typeface="Arial Rounded MT Bold"/>
              </a:rPr>
              <a:t>la jo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529080" cy="342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37083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do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ta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doigt de 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ge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jam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po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0"/>
            <a:ext cx="30592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poi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v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poit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’épa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tê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f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co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16700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419640" y="404640"/>
            <a:ext cx="2232000" cy="1982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516720" y="476280"/>
            <a:ext cx="1646280" cy="1913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95280" y="3429000"/>
            <a:ext cx="1663560" cy="201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700360" y="3357720"/>
            <a:ext cx="1751040" cy="222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932360" y="3357720"/>
            <a:ext cx="2004840" cy="239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948360" y="3500280"/>
            <a:ext cx="1992600" cy="208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256536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a squelette / les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242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es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242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e cer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516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’esto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4360" y="5516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es r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5661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a fo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7280" y="5589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e co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90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roid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chaud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im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soif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371628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not hung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653000"/>
            <a:ext cx="31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grip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 vo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189000"/>
            <a:ext cx="5113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hung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thir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716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e n’ai pas faim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4653000"/>
            <a:ext cx="51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have the ‘flu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have vom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900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e suis malade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e suis fatigué(e)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e suis enrhumé(e)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e me suis cassé(e) la jam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189000"/>
            <a:ext cx="47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full of 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41497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have broken my l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1:54:43Z</dcterms:created>
  <dc:creator>CSeccombe</dc:creator>
  <dc:description/>
  <dc:language>en-US</dc:language>
  <cp:lastModifiedBy>CSeccombe</cp:lastModifiedBy>
  <dcterms:modified xsi:type="dcterms:W3CDTF">2007-11-19T14:42:41Z</dcterms:modified>
  <cp:revision>9</cp:revision>
  <dc:subject/>
  <dc:title>Slide 1</dc:title>
</cp:coreProperties>
</file>