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36D-2E0E-4B78-8238-AF95EBF4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889-967D-4F81-A9EF-C28A6F1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7DC-E817-4C89-8F70-8215BC78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84C-3698-4D8C-9D40-E35D187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32C-EC7F-409B-A811-F01B21C5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5F4-414C-4BE1-B993-2F73334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D33-5B61-4C39-8425-81126C6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8B5-3F6F-4E28-B9D9-EB95E9E5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B33-BE37-40CE-8269-8D2D9248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547-5BCA-486C-89B8-F5EA1C0D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52F-5759-420B-84D7-C18475B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53-3999-495C-A0DD-8345E7A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C3D0-B71C-4015-AB3B-CFEF428E5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 Rounded MT Bold"/>
              </a:rPr>
              <a:t>A question of logic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e.g.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 – Nous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 –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Rounded MT Bold"/>
              </a:rPr>
              <a:t>Vous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v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tu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n the same way as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n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je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ouer – jouent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génial – j’ado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nuyeux - 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ir – 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thlétisme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’adore – je détest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rarement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ger – natatio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tation – piscin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oot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es – u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s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cDo – aller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tterie - 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u – copai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à la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 – artic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669000"/>
            <a:ext cx="4572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 Rounded MT Bold"/>
              </a:rPr>
              <a:t>A question of logic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e.g.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e – Nous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u –</a:t>
            </a:r>
            <a:r>
              <a:rPr b="0" lang="en-GB" sz="2800" spc="-1" strike="noStrike">
                <a:solidFill>
                  <a:srgbClr val="990099"/>
                </a:solidFill>
                <a:latin typeface="Arial Rounded MT Bold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Rounded MT Bold"/>
              </a:rPr>
              <a:t>Vous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v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tu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n the same way as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nous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 is 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related to </a:t>
            </a:r>
            <a:r>
              <a:rPr b="0" lang="en-GB" sz="2400" spc="-1" strike="noStrike">
                <a:solidFill>
                  <a:srgbClr val="990099"/>
                </a:solidFill>
                <a:latin typeface="Arial Rounded MT Bold"/>
              </a:rPr>
              <a:t>je</a:t>
            </a:r>
            <a:r>
              <a:rPr b="0" lang="en-GB" sz="2400" spc="-1" strike="noStrike">
                <a:solidFill>
                  <a:srgbClr val="ff000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1337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ouer – jouent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génial – j’ador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nnuyeux - 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tir – 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thlétisme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j’adore – je détest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rarement - 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ger – natatio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ire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atation – piscin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oot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des – u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s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cDo – aller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tterie - 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9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u – copain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à la - _______________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10.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 – article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faire -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2133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2920" y="256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je dét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558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c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860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292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s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no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jo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2920" y="342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021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Rounded MT Bold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7:56Z</dcterms:created>
  <dc:creator>CSeccombe</dc:creator>
  <dc:description/>
  <dc:language>en-US</dc:language>
  <cp:lastModifiedBy>CSeccombe</cp:lastModifiedBy>
  <dcterms:modified xsi:type="dcterms:W3CDTF">2008-02-28T21:37:04Z</dcterms:modified>
  <cp:revision>4</cp:revision>
  <dc:subject/>
  <dc:title>Slide 1</dc:title>
</cp:coreProperties>
</file>