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6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19D-403D-4CE3-B9DA-5B2779C1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642-D5F3-430F-BEB5-E6991FAC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AD0-355B-4189-B5D2-E4B1C944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5B4-D3F5-4AF9-810E-14E91017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5FC-21F9-456E-960E-B4EFE328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6EF-A637-4232-80F6-86D8DC2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E18-23BA-4B94-9355-F7A99438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85F-D103-4D65-B62E-5F9D0905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D64-91DC-4C0A-8352-4AED7597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026-14D5-48D8-A9C4-2D38C238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12E-2B08-4D10-8EC7-1DFACE23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A6A-7ABA-4B82-868E-5707244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FFD8-32DF-41F4-9B7E-6D3814BC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9.wmf"/><Relationship Id="rId7" Type="http://schemas.openxmlformats.org/officeDocument/2006/relationships/image" Target="../media/image6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Les problèmes environnement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1640" y="6453360"/>
            <a:ext cx="4753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MC 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’effet de s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79208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2664000" cy="17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04000" y="18900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1280" y="2421000"/>
            <a:ext cx="184608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851280" y="2492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02000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11280" y="4834080"/>
            <a:ext cx="2232000" cy="1693800"/>
          </a:xfrm>
          <a:prstGeom prst="rect">
            <a:avLst/>
          </a:prstGeom>
          <a:ln w="0">
            <a:noFill/>
          </a:ln>
        </p:spPr>
      </p:pic>
      <p:sp>
        <p:nvSpPr>
          <p:cNvPr id="70" name="Cloud"/>
          <p:cNvSpPr/>
          <p:nvPr/>
        </p:nvSpPr>
        <p:spPr>
          <a:xfrm>
            <a:off x="3780000" y="5013360"/>
            <a:ext cx="2087280" cy="1440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7056360" y="4724280"/>
            <a:ext cx="1621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e fais-tu pour aider l’environn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e recycle le papier au collè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e ne fais pas beaucoup chez moi car il n’y a pas beaucoup de conteneurs verts 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’éteins les lumières et la veilleuse de la télé quand je quitte une piè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’achète des produits éc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es parents n’ont pas de quatre-qua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ne lave pas souvent la vo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rend des douches et on économise de l’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44000" y="2708280"/>
            <a:ext cx="49536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451720" y="5445000"/>
            <a:ext cx="692280" cy="73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836640"/>
            <a:ext cx="692280" cy="895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56360" y="4653000"/>
            <a:ext cx="1109520" cy="939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451640" y="4221000"/>
            <a:ext cx="1184400" cy="858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588000" y="3068640"/>
            <a:ext cx="1297080" cy="113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8048520" y="836640"/>
            <a:ext cx="1095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est de vocabul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rou dans la couche d’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ollution de l’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dés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émissions des vo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défo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combustibles fo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luie a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ollution de la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) l’effet de se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) J’éteins les lumiè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1) J’achète des produits écolog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) On n’a pas de quatre-qua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ne lave pas souvent la voi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 ne fais pas beaucoup chez m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 recycle le papier au collè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combustibles foss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75000" y="1700280"/>
            <a:ext cx="4149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pollution de la 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dé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3520" y="1484280"/>
            <a:ext cx="4065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pluie a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85880" y="1773360"/>
            <a:ext cx="410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émissions des voi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752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 trou dans la couche d’o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41520" y="1773360"/>
            <a:ext cx="4457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pollution de l’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02360" y="2659320"/>
            <a:ext cx="5376240" cy="227088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dé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83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3:04:02Z</dcterms:created>
  <dc:creator>user</dc:creator>
  <dc:description/>
  <dc:language>en-US</dc:language>
  <cp:lastModifiedBy>CSeccombe</cp:lastModifiedBy>
  <dcterms:modified xsi:type="dcterms:W3CDTF">2008-02-29T10:34:38Z</dcterms:modified>
  <cp:revision>10</cp:revision>
  <dc:subject/>
  <dc:title>Les problèmes environmentaux</dc:title>
</cp:coreProperties>
</file>