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6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C1C-4C82-46D0-9BF3-164065D6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9D3-1D83-4AEE-ABBD-E53C2F6C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23C-486F-4209-BAC8-478C0D76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391-6C94-4B98-82CD-1FB43C2F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37E-C3D3-4FAD-80AE-AD6BD105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2F6-5F31-4107-8954-2F2C3594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D74-DE5F-4337-AF9D-D5878033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BB7-8A10-468F-94AE-5271ABEC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2246-A824-4F6F-904E-5FA938FB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880-2A4C-4AD5-83F8-6E69A784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FC81-57C3-45EF-A634-6CA2F398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4A3-FBE1-4930-9FC5-9EEA082F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977C-3933-42AF-8B21-C9B03B911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3.wmf"/><Relationship Id="rId6" Type="http://schemas.openxmlformats.org/officeDocument/2006/relationships/image" Target="../media/image9.wmf"/><Relationship Id="rId7" Type="http://schemas.openxmlformats.org/officeDocument/2006/relationships/image" Target="../media/image6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Les problèmes environnement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11640" y="6453360"/>
            <a:ext cx="475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8 MC 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’effet de s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887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1792080" cy="190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48000" y="333360"/>
            <a:ext cx="2664000" cy="170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04000" y="189000"/>
            <a:ext cx="2089080" cy="194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11280" y="2421000"/>
            <a:ext cx="184608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851280" y="2492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7020000" y="2492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611280" y="4834080"/>
            <a:ext cx="2232000" cy="1693800"/>
          </a:xfrm>
          <a:prstGeom prst="rect">
            <a:avLst/>
          </a:prstGeom>
          <a:ln w="0">
            <a:noFill/>
          </a:ln>
        </p:spPr>
      </p:pic>
      <p:sp>
        <p:nvSpPr>
          <p:cNvPr id="70" name="Cloud"/>
          <p:cNvSpPr/>
          <p:nvPr/>
        </p:nvSpPr>
        <p:spPr>
          <a:xfrm>
            <a:off x="3780000" y="5013360"/>
            <a:ext cx="2087280" cy="1440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7056360" y="4724280"/>
            <a:ext cx="1621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e fais-tu pour aider l’environn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Je recycle le papier au collè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Je ne fais pas beaucoup chez moi car il n’y a pas beaucoup de conteneurs verts i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J’éteins les lumières et la veilleuse de la télé quand je quitte une piè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J’achète des produits écolog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es parents n’ont pas de quatre-qua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ne lave pas souvent la voi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rend des douches et on économise de l’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44000" y="2708280"/>
            <a:ext cx="495360" cy="792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451720" y="5445000"/>
            <a:ext cx="692280" cy="73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867280" y="836640"/>
            <a:ext cx="692280" cy="895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156360" y="4653000"/>
            <a:ext cx="1109520" cy="939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451640" y="4221000"/>
            <a:ext cx="1184400" cy="858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588000" y="3068640"/>
            <a:ext cx="1297080" cy="113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8048520" y="836640"/>
            <a:ext cx="1095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est de vocabul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rou dans la couche d’o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pollution de l’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dés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émissions des voi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défo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combustibles foss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pluie a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pollution de la 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9) l’effet de se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0) J’éteins les lumiè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1) J’achète des produits écolog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2) On n’a pas de quatre-qua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ne lave pas souvent la voi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e ne fais pas beaucoup chez m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e recycle le papier au collè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s combustibles foss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75000" y="1700280"/>
            <a:ext cx="4149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pollution de la 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défore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33520" y="1484280"/>
            <a:ext cx="4065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pluie ac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85880" y="1773360"/>
            <a:ext cx="410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s émissions des voi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7527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 trou dans la couche d’o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41520" y="1773360"/>
            <a:ext cx="4457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pollution de l’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02360" y="2659320"/>
            <a:ext cx="5376240" cy="2270880"/>
          </a:xfrm>
          <a:prstGeom prst="rect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dé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832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3:04:02Z</dcterms:created>
  <dc:creator>user</dc:creator>
  <dc:description/>
  <dc:language>en-US</dc:language>
  <cp:lastModifiedBy>CSeccombe</cp:lastModifiedBy>
  <dcterms:modified xsi:type="dcterms:W3CDTF">2008-02-29T10:34:38Z</dcterms:modified>
  <cp:revision>10</cp:revision>
  <dc:subject/>
  <dc:title>Les problèmes environmentaux</dc:title>
</cp:coreProperties>
</file>