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D14-EBBE-4048-B620-EB6247E4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AF8-3C41-47A2-84D2-B08653A7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700-E4DE-404C-92AE-6EDD266C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700-957D-4456-A746-4FE942BB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93E-5361-4DAD-A051-E16FD3E6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883-C7B3-4C44-80BB-0179B28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9C2-7876-4474-B873-0C5157C6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A30-BE35-4F41-AFDF-F1D5D63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BDA-1375-443B-820B-61BC6A11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852-348D-4C55-821F-6876A9D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B05-DF76-416C-B329-417322B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448-2736-4621-8E7E-B081905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C06-E31C-4627-9982-B5FB525DB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intended as an activity to help Y10 pupils to produce a piece of extended writing about their free tim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re’s what I d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ide the class into groups of 4 and give them 10 minutes to do the odd ones out (most of the possible answers are marked on the first slide, each odd one out is for a different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give each group one of the 7 hobby slides.  They have 3 or 4 minutes to write the 3 appropriate sentences, which you then go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the groups have 3 minutes to discuss what they could add to make those 3 sentences into a good quality piece of 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 are on the las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the groups have 15 minutes to write this good quality piece on a big piece of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ollowing lesson I displayed the pieces of work on the wall, marked and with the GCSE coursework mark scheme stuck on it, showing what that piece of work would get and w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308640"/>
            <a:ext cx="5905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404640"/>
            <a:ext cx="820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How can you improve the quality of the tex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no particular order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064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linking words / core vocab / sequenc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more sports / hobbies /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more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reasons for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en / how often you do th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o you do the activitie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ere you do th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roduce a contrasting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at other people like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lk about past and future hobb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9844" t="13976" r="8958" b="10728"/>
          <a:stretch/>
        </p:blipFill>
        <p:spPr>
          <a:xfrm>
            <a:off x="0" y="18900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84360" y="40464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40464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40464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12536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1197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1197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194292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16280"/>
            <a:ext cx="194292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916280"/>
            <a:ext cx="194328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2708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708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708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00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50028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4221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4221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22100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501336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501336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501336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292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48000" y="333360"/>
            <a:ext cx="1787400" cy="184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1724040" cy="1177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1332000" y="4365720"/>
            <a:ext cx="17272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042920" y="4365720"/>
            <a:ext cx="187344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64000" y="4365720"/>
            <a:ext cx="1834920" cy="1479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58920" y="620280"/>
            <a:ext cx="172872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042920" y="692280"/>
            <a:ext cx="194472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7067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1784160" cy="184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4365720"/>
            <a:ext cx="1552680" cy="230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399200" y="3246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99200" y="3246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106020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48000" y="2421000"/>
            <a:ext cx="1530360" cy="156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87280" y="4508640"/>
            <a:ext cx="2305080" cy="1796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292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1825560" cy="135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1258920" y="2420640"/>
            <a:ext cx="187308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042920" y="2349000"/>
            <a:ext cx="194472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556000" y="2276640"/>
            <a:ext cx="194472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71640" y="2420640"/>
            <a:ext cx="1873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6720" y="2421000"/>
            <a:ext cx="2159280" cy="170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3024000" cy="1763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278136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403280" y="692280"/>
            <a:ext cx="158436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59280" y="620280"/>
            <a:ext cx="158400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186920" y="83628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42920" y="69192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758960" cy="1987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9040" y="2827440"/>
            <a:ext cx="1825920" cy="120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58920" y="4575240"/>
            <a:ext cx="2376360" cy="184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000" y="249228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292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1620720" cy="1825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1268280" cy="182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2022480" cy="245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419640" y="2349360"/>
            <a:ext cx="1982520" cy="185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1843200" cy="1958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25:51Z</dcterms:created>
  <dc:creator>CSeccombe</dc:creator>
  <dc:description/>
  <dc:language>en-US</dc:language>
  <cp:lastModifiedBy>CSeccombe</cp:lastModifiedBy>
  <dcterms:modified xsi:type="dcterms:W3CDTF">2008-02-29T11:15:57Z</dcterms:modified>
  <cp:revision>6</cp:revision>
  <dc:subject/>
  <dc:title>Slide 1</dc:title>
</cp:coreProperties>
</file>