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93D-5B02-4A7D-A1F3-ADC1D08C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DE3-FF14-40DF-9D6C-78C1827B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9F6-0B20-40CB-AB21-DC62D2D9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248C-718B-4768-BC3A-945EF385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81D1-ED42-4687-8DA7-9EA1FEFD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CBC-A432-4EC0-B102-702326A3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1FE0-910E-4933-A6C7-2363858E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2B5-0ABF-4F1F-8E6A-BAA17D4E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B48-325A-4864-8422-9571A30A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13F-6A32-4B35-B86B-4BAEFDE0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ABD-52B3-4090-8674-64938A6C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908-C60C-4871-8D8B-740A8D1A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2ACA-D28B-4837-B75C-F9AD364D8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60280"/>
            <a:ext cx="864216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he teac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intended as an activity to help Y10 pupils to produce a piece of extended writing about their free time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re’s what I d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vide the class into groups of 4 and give them 10 minutes to do the odd ones out (most of the possible answers are marked on the first slide, each odd one out is for a different r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give each group one of the 7 hobby slides.  They have 3 or 4 minutes to write the 3 appropriate sentences, which you then go 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the groups have 3 minutes to discuss what they could add to make those 3 sentences into a good quality piece of wri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ible answers are on the last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the groups have 15 minutes to write this good quality piece on a big piece of p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ollowing lesson I displayed the pieces of work on the wall, marked and with the GCSE coursework mark scheme stuck on it, showing what that piece of work would get and w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308640"/>
            <a:ext cx="59054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8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404640"/>
            <a:ext cx="8207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How can you improve the quality of the text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 no particular order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20640"/>
            <a:ext cx="91440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 linking words / core vocab / sequencing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 more sports / hobbies /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 more 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 reasons for 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y when / how often you do th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y who you do the activitie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y where you do th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roduce a contrasting point of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y what other people like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lk about past and future hobb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9844" t="13976" r="8958" b="10728"/>
          <a:stretch/>
        </p:blipFill>
        <p:spPr>
          <a:xfrm>
            <a:off x="0" y="189000"/>
            <a:ext cx="9144000" cy="635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84360" y="404640"/>
            <a:ext cx="194328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84720" y="404640"/>
            <a:ext cx="194328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11640" y="404640"/>
            <a:ext cx="194292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84720" y="1125360"/>
            <a:ext cx="194328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1197000"/>
            <a:ext cx="194292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1197000"/>
            <a:ext cx="194292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916280"/>
            <a:ext cx="1942920" cy="475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1916280"/>
            <a:ext cx="1942920" cy="475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1916280"/>
            <a:ext cx="1943280" cy="475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2000" y="2708280"/>
            <a:ext cx="194292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708280"/>
            <a:ext cx="194292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2708280"/>
            <a:ext cx="194292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3500280"/>
            <a:ext cx="194292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3500280"/>
            <a:ext cx="194328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84720" y="4221000"/>
            <a:ext cx="194292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4221000"/>
            <a:ext cx="194292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221000"/>
            <a:ext cx="194328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5013360"/>
            <a:ext cx="194328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5013360"/>
            <a:ext cx="194292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5013360"/>
            <a:ext cx="194292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5805360"/>
            <a:ext cx="194328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32000" y="62064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429264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348000" y="333360"/>
            <a:ext cx="1787400" cy="1841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32000" y="2565360"/>
            <a:ext cx="1724040" cy="1177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flipV="1">
            <a:off x="1332000" y="4365720"/>
            <a:ext cx="172728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042920" y="4365720"/>
            <a:ext cx="187344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564000" y="4365720"/>
            <a:ext cx="1834920" cy="1479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32000" y="62064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2421000"/>
            <a:ext cx="1511280" cy="143964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39640"/>
              <a:gd name="textAreaBottom" fmla="*/ 903240 h 143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258920" y="620280"/>
            <a:ext cx="172872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042920" y="692280"/>
            <a:ext cx="1944720" cy="12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635280" y="333360"/>
            <a:ext cx="1706760" cy="182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564000" y="2349360"/>
            <a:ext cx="1784160" cy="1841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476360" y="4365720"/>
            <a:ext cx="1552680" cy="2303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399200" y="3246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99200" y="3246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32000" y="62064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2421000"/>
            <a:ext cx="1511280" cy="143964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39640"/>
              <a:gd name="textAreaBottom" fmla="*/ 903240 h 143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62064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148360" y="333360"/>
            <a:ext cx="1060200" cy="2087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348000" y="2421000"/>
            <a:ext cx="1530360" cy="1568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187280" y="4508640"/>
            <a:ext cx="2305080" cy="1796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32000" y="2421000"/>
            <a:ext cx="1511280" cy="143964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39640"/>
              <a:gd name="textAreaBottom" fmla="*/ 903240 h 143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29264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1825560" cy="135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V="1">
            <a:off x="1258920" y="2420640"/>
            <a:ext cx="187308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042920" y="2349000"/>
            <a:ext cx="194472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87640" y="2421000"/>
            <a:ext cx="1511280" cy="143964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39640"/>
              <a:gd name="textAreaBottom" fmla="*/ 903240 h 143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2556000" y="2276640"/>
            <a:ext cx="1944720" cy="158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771640" y="2420640"/>
            <a:ext cx="187344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76720" y="2421000"/>
            <a:ext cx="2159280" cy="1703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03640" y="4365720"/>
            <a:ext cx="3024000" cy="1763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32000" y="62064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87640" y="62064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2781360"/>
            <a:ext cx="1511280" cy="143964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39640"/>
              <a:gd name="textAreaBottom" fmla="*/ 903240 h 143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403280" y="692280"/>
            <a:ext cx="1584360" cy="12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059280" y="620280"/>
            <a:ext cx="158400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1186920" y="836280"/>
            <a:ext cx="158436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842920" y="691920"/>
            <a:ext cx="158436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1758960" cy="1987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659040" y="2827440"/>
            <a:ext cx="1825920" cy="1203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258920" y="4575240"/>
            <a:ext cx="2376360" cy="1846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132000" y="249228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421000"/>
            <a:ext cx="1511280" cy="143964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39640"/>
              <a:gd name="textAreaBottom" fmla="*/ 903240 h 143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2000" y="429264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1781280" cy="190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1620720" cy="1825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348000" y="4292640"/>
            <a:ext cx="1268280" cy="1827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2000" y="62064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87640" y="620640"/>
            <a:ext cx="1511280" cy="1440000"/>
          </a:xfrm>
          <a:custGeom>
            <a:avLst/>
            <a:gdLst>
              <a:gd name="textAreaLeft" fmla="*/ 354960 w 1511280"/>
              <a:gd name="textAreaRight" fmla="*/ 1155240 w 1511280"/>
              <a:gd name="textAreaTop" fmla="*/ 169200 h 1440000"/>
              <a:gd name="textAreaBottom" fmla="*/ 903240 h 1440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2022480" cy="245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47640" y="2492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419640" y="2349360"/>
            <a:ext cx="1982520" cy="1851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203640" y="4508640"/>
            <a:ext cx="1843200" cy="1958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042920" y="4724280"/>
            <a:ext cx="2087640" cy="1560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0:25:51Z</dcterms:created>
  <dc:creator>CSeccombe</dc:creator>
  <dc:description/>
  <dc:language>en-US</dc:language>
  <cp:lastModifiedBy>CSeccombe</cp:lastModifiedBy>
  <dcterms:modified xsi:type="dcterms:W3CDTF">2008-02-29T11:15:57Z</dcterms:modified>
  <cp:revision>6</cp:revision>
  <dc:subject/>
  <dc:title>Slide 1</dc:title>
</cp:coreProperties>
</file>