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20.gif" ContentType="image/gif"/>
  <Override PartName="/ppt/media/image19.wmf" ContentType="image/x-wmf"/>
  <Override PartName="/ppt/media/image16.gif" ContentType="image/gif"/>
  <Override PartName="/ppt/media/image18.wmf" ContentType="image/x-wmf"/>
  <Override PartName="/ppt/media/image15.png" ContentType="image/png"/>
  <Override PartName="/ppt/media/image14.png" ContentType="image/png"/>
  <Override PartName="/ppt/media/image7.png" ContentType="image/png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89AC-109E-4B36-94AC-33A727D4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4FF2-F662-4840-B287-95C9418F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F556-F503-405F-A023-7BDAF636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D915-BC9C-4C91-A806-CF1DF48F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6C85-293B-4602-AF65-6069F974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081D-F79F-48EA-95F6-0E6E8ED7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C527-5594-4DDB-92E5-63FD8EE5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4CED-4771-4EFA-8A13-CF1D9A59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10B2-165C-452C-8E74-2997ECEF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189A-5A45-48AE-9D3B-ACF22956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488E-4845-4487-AA5D-FF8010A1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822E-E70C-43E3-8334-DBC3B450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890B-8F44-498C-9ED3-C8D1BC4567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2.png"/><Relationship Id="rId11" Type="http://schemas.openxmlformats.org/officeDocument/2006/relationships/image" Target="../media/image15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697800" cy="4630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Bienvenue 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  <a:ea typeface="Arial"/>
              </a:rPr>
              <a:t>à l’hotel de la tour déglingué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y the end of the lesson, you will be able to make complaint about your hotel room and understand other people’s compla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724360" y="2205000"/>
            <a:ext cx="232092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llo, la recep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68360" y="4005360"/>
          <a:ext cx="172404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05360"/>
                    <a:ext cx="17240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059280" y="3789360"/>
          <a:ext cx="157608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3789360"/>
                    <a:ext cx="15760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304920" y="1066680"/>
            <a:ext cx="35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...ne marche(nt) p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141720"/>
            <a:ext cx="15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 lum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31240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dou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312408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 télé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31240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 chauff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228600" y="1676520"/>
            <a:ext cx="1324080" cy="1314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1752480" y="1676520"/>
            <a:ext cx="1333800" cy="1238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429000" y="1676520"/>
            <a:ext cx="1305000" cy="1276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5257800" y="1676520"/>
            <a:ext cx="1314360" cy="1209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7238880" y="1676520"/>
            <a:ext cx="1428840" cy="1238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020000" y="3141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 télé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950080"/>
            <a:ext cx="15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s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59280" y="5950080"/>
            <a:ext cx="15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 bid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0"/>
          <a:stretch/>
        </p:blipFill>
        <p:spPr>
          <a:xfrm>
            <a:off x="6443640" y="3933720"/>
            <a:ext cx="1617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llo, la recep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012000" y="1969920"/>
          <a:ext cx="1439640" cy="13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1969920"/>
                    <a:ext cx="143964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04920" y="1066680"/>
            <a:ext cx="35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l n’y a p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1271880" cy="1296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763640" y="4365720"/>
            <a:ext cx="1366920" cy="1296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995640" y="4365720"/>
            <a:ext cx="1441440" cy="1253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3419640" y="1916280"/>
            <a:ext cx="1441440" cy="1358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4360" y="342900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e papier hygie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59280" y="364500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’orei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96000" y="3645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e ci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92360" y="59500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e sav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80000" y="59500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e servi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6732720" y="4221000"/>
            <a:ext cx="160164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Mais il y a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1901880" cy="1970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492360" y="1700280"/>
            <a:ext cx="1846440" cy="1746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55640" y="4746600"/>
            <a:ext cx="1512720" cy="817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68360" y="3860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es caf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386064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es puna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87700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u b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372360" y="2781360"/>
            <a:ext cx="22366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06320" cy="1595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2421000"/>
            <a:ext cx="1622520" cy="1506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24000" y="4581360"/>
            <a:ext cx="1584000" cy="1276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484360" y="260280"/>
            <a:ext cx="1727280" cy="1589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411280" y="2349360"/>
            <a:ext cx="1727280" cy="1497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6804000" y="4221000"/>
            <a:ext cx="1584360" cy="1505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2411280" y="4437000"/>
            <a:ext cx="1576440" cy="1368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4859280" y="2421000"/>
            <a:ext cx="1276560" cy="1322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9"/>
          <a:stretch/>
        </p:blipFill>
        <p:spPr>
          <a:xfrm>
            <a:off x="4643280" y="404640"/>
            <a:ext cx="1440000" cy="1362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>
            <a:off x="7093080" y="2421000"/>
            <a:ext cx="1271520" cy="1297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1"/>
          <a:stretch/>
        </p:blipFill>
        <p:spPr>
          <a:xfrm>
            <a:off x="4643280" y="4292640"/>
            <a:ext cx="1441440" cy="135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2"/>
          <a:stretch/>
        </p:blipFill>
        <p:spPr>
          <a:xfrm>
            <a:off x="6804000" y="476280"/>
            <a:ext cx="144000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390760" cy="2373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098800" cy="1949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851280" y="2421000"/>
            <a:ext cx="3097080" cy="3029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492360" y="549360"/>
            <a:ext cx="3584880" cy="3298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867280" y="3860640"/>
            <a:ext cx="3024360" cy="2621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971640" y="3716280"/>
            <a:ext cx="2808360" cy="2668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6156360" y="1052640"/>
            <a:ext cx="21366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3106440" cy="3168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19640" y="1916280"/>
            <a:ext cx="3457440" cy="3259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716360" y="549360"/>
            <a:ext cx="3382920" cy="3092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84360" y="3068640"/>
            <a:ext cx="3313080" cy="3143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4716360" y="2852640"/>
            <a:ext cx="349416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agram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1700280"/>
            <a:ext cx="7201080" cy="3457440"/>
          </a:xfrm>
          <a:custGeom>
            <a:avLst/>
            <a:gdLst>
              <a:gd name="textAreaLeft" fmla="*/ 0 w 7201080"/>
              <a:gd name="textAreaRight" fmla="*/ 7201440 w 7201080"/>
              <a:gd name="textAreaTop" fmla="*/ 0 h 3457440"/>
              <a:gd name="textAreaBottom" fmla="*/ 3457800 h 34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La tour d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églingué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3789360"/>
            <a:ext cx="4968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Comic Sans MS"/>
              </a:rPr>
              <a:t>Exemple:Le rot degueu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2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8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9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8:23:29Z</dcterms:created>
  <dc:creator>Laure S</dc:creator>
  <dc:description/>
  <dc:language>en-US</dc:language>
  <cp:lastModifiedBy>PSeccombe</cp:lastModifiedBy>
  <dcterms:modified xsi:type="dcterms:W3CDTF">2004-04-28T07:38:42Z</dcterms:modified>
  <cp:revision>12</cp:revision>
  <dc:subject/>
  <dc:title>Bienvenue à l’hotel de la tour déglinguée</dc:title>
</cp:coreProperties>
</file>