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703-A6F8-4F97-BCB8-3E7A59D9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623-1529-4979-B198-ABFE0A6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B1E-BC9F-430F-A31E-975DFC5F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ECA-02DF-427A-8A3B-E8B1CB59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B4A-22B4-4B56-8E15-A7750538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706-9107-4639-A26E-DD037FD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8E7-0F05-4601-8677-67BDE682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8B2-E1C2-4AB4-9C8F-0B4DF79D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F4E-649E-406F-B5B5-06B402F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070-004A-41FF-A42A-3E23624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8E4-43A5-46D6-8C05-54C777D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AF9-7486-4361-8CDA-DF5DDAB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CE1-DB4D-4A3D-9F6C-1BC20A4A4F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765000"/>
            <a:ext cx="6553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RKIN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S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640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pulation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4.8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apital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uagadoug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fficial languag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verage life expectancy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9 y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teracy rat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8% female, 38%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mpulsory schooling: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6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verage class size: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1596" t="47640" r="21242" b="18349"/>
          <a:stretch/>
        </p:blipFill>
        <p:spPr>
          <a:xfrm>
            <a:off x="4500720" y="3213000"/>
            <a:ext cx="4464000" cy="349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51596" t="47640" r="21242" b="19294"/>
          <a:stretch/>
        </p:blipFill>
        <p:spPr>
          <a:xfrm>
            <a:off x="179280" y="189000"/>
            <a:ext cx="4464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1596" t="57089" r="21242" b="9841"/>
          <a:stretch/>
        </p:blipFill>
        <p:spPr>
          <a:xfrm>
            <a:off x="250920" y="260280"/>
            <a:ext cx="4465440" cy="339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51596" t="47640" r="21242" b="19294"/>
          <a:stretch/>
        </p:blipFill>
        <p:spPr>
          <a:xfrm>
            <a:off x="4572000" y="3357720"/>
            <a:ext cx="4248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50040" cy="476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89000"/>
            <a:ext cx="85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ô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pâte épaisse faite à partir du maïs, cuite dans l’eau, accompagnée d’une sauce à base de feuilles ou d’un légume gluant, le go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1:06:27Z</dcterms:created>
  <dc:creator>Clare</dc:creator>
  <dc:description/>
  <dc:language>en-US</dc:language>
  <cp:lastModifiedBy>Clare</cp:lastModifiedBy>
  <dcterms:modified xsi:type="dcterms:W3CDTF">2008-06-13T12:57:16Z</dcterms:modified>
  <cp:revision>3</cp:revision>
  <dc:subject/>
  <dc:title>Slide 1</dc:title>
</cp:coreProperties>
</file>