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93E2-601C-4D8B-B31D-50381B53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3E27-1C4E-442C-99E2-27F08782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D11C-D150-4538-B6BC-E82363DB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D769-CFAE-4BAA-AEB1-530F997B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6E51-D397-4B4A-9872-60381272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284-3DDC-4130-9A7E-E2D6A477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31CD-1C02-4D3B-A2D3-F70437BA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167E-B126-48CE-B9DF-2D6AD7D1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1AE9-2ED8-4494-BAF3-9963A12D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E8AB-868D-46BB-A1B3-BF2333AB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BDA7-7DCA-4720-B409-6926A033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21B9-166A-4419-B4FE-1BE2EFD2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98D9-10BF-4E18-B40A-926A0EAC9D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32000" y="765000"/>
            <a:ext cx="6553080" cy="475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URKIN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AS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6401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6201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60280"/>
            <a:ext cx="9144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opulation: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14.8 m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apital: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Ouagadoug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Official language: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re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verage life expectancy: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49 y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Literacy rate: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18% female, 38% 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ompulsory schooling: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6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verage class size: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51596" t="47640" r="21242" b="18349"/>
          <a:stretch/>
        </p:blipFill>
        <p:spPr>
          <a:xfrm>
            <a:off x="4500720" y="3213000"/>
            <a:ext cx="4464000" cy="3495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51596" t="47640" r="21242" b="19294"/>
          <a:stretch/>
        </p:blipFill>
        <p:spPr>
          <a:xfrm>
            <a:off x="179280" y="189000"/>
            <a:ext cx="446400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51596" t="57089" r="21242" b="9841"/>
          <a:stretch/>
        </p:blipFill>
        <p:spPr>
          <a:xfrm>
            <a:off x="250920" y="260280"/>
            <a:ext cx="4465440" cy="3395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51596" t="47640" r="21242" b="19294"/>
          <a:stretch/>
        </p:blipFill>
        <p:spPr>
          <a:xfrm>
            <a:off x="4572000" y="3357720"/>
            <a:ext cx="424800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350040" cy="4762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189000"/>
            <a:ext cx="856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ô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pâte épaisse faite à partir du maïs, cuite dans l’eau, accompagnée d’une sauce à base de feuilles ou d’un légume gluant, le gom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21:06:27Z</dcterms:created>
  <dc:creator>Clare</dc:creator>
  <dc:description/>
  <dc:language>en-US</dc:language>
  <cp:lastModifiedBy>Clare</cp:lastModifiedBy>
  <dcterms:modified xsi:type="dcterms:W3CDTF">2008-06-13T12:57:16Z</dcterms:modified>
  <cp:revision>3</cp:revision>
  <dc:subject/>
  <dc:title>Slide 1</dc:title>
</cp:coreProperties>
</file>