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17F-A672-4E70-A6E9-902853A2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209-00AA-49DB-BF78-D557147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972-B736-48DF-A13A-549D48FC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2E3-F8B3-4DA2-BC32-01F2A19F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020-8E6A-4198-8AF3-3448AC7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0F0-466E-4B19-9B82-E00AE97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BFF-DF33-48A9-BE60-155ABDD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E10-94D1-4BBC-AEA3-37E251F8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E31-F80B-4B36-9078-8828CAB2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8FC-74AA-47DF-81C4-6218FBC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08C-0B8A-40E9-A6C3-30314845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D2F-BFAC-4B92-86F5-EFB72BD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856-6040-4BC2-A975-9921CA2D9E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Malick do before eating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eakfast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is the tôt eaten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long does it take Malick to get to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hool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 Malick and his friends argu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out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me 2 things the children can do a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eak tim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far does Malick walk each day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 Malick and his brother do af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hool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Malick do at 6 pm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Malick sleep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9:54:25Z</dcterms:created>
  <dc:creator>Clare</dc:creator>
  <dc:description/>
  <dc:language>en-US</dc:language>
  <cp:lastModifiedBy>Clare</cp:lastModifiedBy>
  <dcterms:modified xsi:type="dcterms:W3CDTF">2008-06-13T13:07:53Z</dcterms:modified>
  <cp:revision>5</cp:revision>
  <dc:subject/>
  <dc:title>Slide 1</dc:title>
</cp:coreProperties>
</file>