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73D4D-5C23-4063-9FCB-05E23515E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225E4-90B4-4981-B573-58ACC36BC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F3C24-6164-40EA-AA68-73FACA212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6EE7F-D115-416C-9FF0-A51D3AD8A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E084F-91EC-4F97-BD0C-DB018722C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2C56D-CC93-406C-9279-D830D2725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188A5-3651-48EE-8A58-947A47856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0D4D0-D1E7-46CE-9E5B-8DFF91B6A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7B7C1-1AFC-4A16-8F59-0FBC6D310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CDAA9-4AE1-4787-A884-FA0479347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E9692-D905-4617-B684-870DBE033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12960-0521-4DB7-B3E8-EE4F904A6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B3A5C-9958-410C-96D5-1CD20782DAD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9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1.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What does Malick do before eating   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breakfast ?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2. 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When is the tôt eaten ?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3. 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How long does it take Malick to get to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chool ?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4. 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What do Malick and his friends argue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bout?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5. 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ame 2 things the children can do at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break time.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6. 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How far does Malick walk each day ?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7. 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What do Malick and his brother do after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chool ?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8. 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What does Malick do at 6 pm ?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9. 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What does Malick sleep on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8T19:54:25Z</dcterms:created>
  <dc:creator>Clare</dc:creator>
  <dc:description/>
  <dc:language>en-US</dc:language>
  <cp:lastModifiedBy>Clare</cp:lastModifiedBy>
  <dcterms:modified xsi:type="dcterms:W3CDTF">2008-06-13T13:07:53Z</dcterms:modified>
  <cp:revision>5</cp:revision>
  <dc:subject/>
  <dc:title>Slide 1</dc:title>
</cp:coreProperties>
</file>