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A43-3AAA-40B1-889C-228A1D60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603-B76D-444A-B35E-DECB36DA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03F-6561-4A8F-AB30-AB0B6D7F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93E-999F-48C6-9B44-00748D8A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2FB-ED2F-4C8F-9E4A-58AC7116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87D-5AC7-40DD-B3AD-D2C4D180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195-CF50-46E4-904E-A392A926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8DA-FD65-42F2-AE9F-4926130D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C91-A7B9-468D-AEC1-D8AAE6AD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F2D-3F29-43B2-A2A5-C5B2CF11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981-D161-410A-9E3A-7449F86F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36B8-2106-4192-BCB0-86114618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4491-7B96-4B2F-949C-E2ED09710E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895640" cy="4832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360" y="333360"/>
            <a:ext cx="1873440" cy="2288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aettenschweiler"/>
              </a:rPr>
              <a:t>06: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836640"/>
            <a:ext cx="3240360" cy="3240000"/>
          </a:xfrm>
          <a:prstGeom prst="wedgeRoundRectCallout">
            <a:avLst>
              <a:gd name="adj1" fmla="val -115995"/>
              <a:gd name="adj2" fmla="val 22120"/>
              <a:gd name="adj3" fmla="val 16667"/>
            </a:avLst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lareFrench"/>
              </a:rPr>
              <a:t>Je me lève à six heur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276440" cy="478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627280" y="3284640"/>
            <a:ext cx="3532320" cy="3573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64000" y="189000"/>
            <a:ext cx="3600720" cy="3887640"/>
          </a:xfrm>
          <a:prstGeom prst="wedgeRoundRectCallout">
            <a:avLst>
              <a:gd name="adj1" fmla="val -108731"/>
              <a:gd name="adj2" fmla="val 14393"/>
              <a:gd name="adj3" fmla="val 16667"/>
            </a:avLst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lareFrench"/>
              </a:rPr>
              <a:t>Je me brosse les cheveux et j’écoute de la musiqu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92360" y="333360"/>
            <a:ext cx="1873440" cy="2288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aettenschweiler"/>
              </a:rPr>
              <a:t>07: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776320" cy="2808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539640" y="691920"/>
            <a:ext cx="2664000" cy="25923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92280"/>
            <a:ext cx="2879640" cy="230328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3249360" cy="3286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08720" y="333360"/>
            <a:ext cx="3456000" cy="6191280"/>
          </a:xfrm>
          <a:prstGeom prst="wedgeRoundRectCallout">
            <a:avLst>
              <a:gd name="adj1" fmla="val -122347"/>
              <a:gd name="adj2" fmla="val 26564"/>
              <a:gd name="adj3" fmla="val 16667"/>
            </a:avLst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lareFrench"/>
              </a:rPr>
              <a:t>A sept heures je ne mange pas, mais je bois un jus d’orang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5113080" cy="24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537080" cy="3894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333360"/>
            <a:ext cx="3529080" cy="5256360"/>
          </a:xfrm>
          <a:prstGeom prst="wedgeRoundRectCallout">
            <a:avLst>
              <a:gd name="adj1" fmla="val -131060"/>
              <a:gd name="adj2" fmla="val -30759"/>
              <a:gd name="adj3" fmla="val 16667"/>
            </a:avLst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lareFrench"/>
              </a:rPr>
              <a:t>Je promène le chien avant de regarder la télé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9:43:29Z</dcterms:created>
  <dc:creator>Clare</dc:creator>
  <dc:description/>
  <dc:language>en-US</dc:language>
  <cp:lastModifiedBy>Clare</cp:lastModifiedBy>
  <dcterms:modified xsi:type="dcterms:W3CDTF">2008-06-13T13:09:04Z</dcterms:modified>
  <cp:revision>4</cp:revision>
  <dc:subject/>
  <dc:title>Slide 1</dc:title>
</cp:coreProperties>
</file>