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4E2-50D5-4561-93AA-9618062B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38A-A2D3-4305-A821-C7A0090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307-BEB4-4F81-BE82-70F70DB3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2C2-EBF6-49C7-BBDE-F9D54A78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735-84FC-4978-AC74-AFE5DDA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92B-D7C4-459F-A9F0-11D6719F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9D9-F339-4F27-9982-9B6343BB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83F-99E0-49AD-B881-3F6C479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D3D-65C6-42C1-9ABD-565014F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350-5268-4683-A8E5-ED4DCF1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9E4-26D1-4ABD-94CE-7793E2A8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9DA-B4C2-4E80-9004-270B7EA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F2D9-4B53-4547-9854-B6A5CF7ECB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895640" cy="483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360" y="333360"/>
            <a:ext cx="187344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06: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836640"/>
            <a:ext cx="3240360" cy="3240000"/>
          </a:xfrm>
          <a:prstGeom prst="wedgeRoundRectCallout">
            <a:avLst>
              <a:gd name="adj1" fmla="val -115995"/>
              <a:gd name="adj2" fmla="val 22120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lareFrench"/>
              </a:rPr>
              <a:t>Je me lève à six heur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76440" cy="47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27280" y="3284640"/>
            <a:ext cx="3532320" cy="357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64000" y="189000"/>
            <a:ext cx="3600720" cy="3887640"/>
          </a:xfrm>
          <a:prstGeom prst="wedgeRoundRectCallout">
            <a:avLst>
              <a:gd name="adj1" fmla="val -108731"/>
              <a:gd name="adj2" fmla="val 14393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lareFrench"/>
              </a:rPr>
              <a:t>Je me brosse les cheveux et j’écoute de la musiq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360" y="333360"/>
            <a:ext cx="187344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07: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7632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39640" y="691920"/>
            <a:ext cx="2664000" cy="25923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92280"/>
            <a:ext cx="2879640" cy="23032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3249360" cy="32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333360"/>
            <a:ext cx="3456000" cy="6191280"/>
          </a:xfrm>
          <a:prstGeom prst="wedgeRoundRectCallout">
            <a:avLst>
              <a:gd name="adj1" fmla="val -122347"/>
              <a:gd name="adj2" fmla="val 26564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lareFrench"/>
              </a:rPr>
              <a:t>A sept heures je ne mange pas, mais je bois un jus d’orang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511308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37080" cy="389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333360"/>
            <a:ext cx="3529080" cy="5256360"/>
          </a:xfrm>
          <a:prstGeom prst="wedgeRoundRectCallout">
            <a:avLst>
              <a:gd name="adj1" fmla="val -131060"/>
              <a:gd name="adj2" fmla="val -30759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lareFrench"/>
              </a:rPr>
              <a:t>Je promène le chien avant de regarder la télé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9:43:29Z</dcterms:created>
  <dc:creator>Clare</dc:creator>
  <dc:description/>
  <dc:language>en-US</dc:language>
  <cp:lastModifiedBy>Clare</cp:lastModifiedBy>
  <dcterms:modified xsi:type="dcterms:W3CDTF">2008-06-13T13:09:04Z</dcterms:modified>
  <cp:revision>4</cp:revision>
  <dc:subject/>
  <dc:title>Slide 1</dc:title>
</cp:coreProperties>
</file>