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6C0-6DB0-4FA1-83F4-63B98689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174-BA4D-4E19-89D0-466068F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D7D-DCA5-42CC-9CEA-A9682ED1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3DD-B7FF-41C1-AC62-454A7C81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2C9-2654-4BC7-A2F0-B08EEC08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BEC-7AF2-4D04-ABFC-61A2250F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624-FEF4-4E54-AD12-97FBDA8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2B3-993E-49D3-BA67-41564EED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402-7266-4D25-AD9C-C4318959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20C-E7F5-4FE7-9907-9E21574F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48F-76E0-4F30-A2AB-0C97D20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6B4-7BE5-4C5B-9AD5-7683D5E2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74A2-CED4-4CA3-968C-D5DDE5EE15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07920"/>
            <a:ext cx="8207280" cy="3889440"/>
          </a:xfrm>
          <a:prstGeom prst="wedgeRoundRectCallout">
            <a:avLst>
              <a:gd name="adj1" fmla="val -43754"/>
              <a:gd name="adj2" fmla="val 92939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i voyagé de Newcastle à Paris en avion.  Le vol a duré seulement une heure et demie, et c’était très confortable.  Malheureusement j’ai vomi pendant le voyage après avoir mangé du cra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3640" y="6597720"/>
            <a:ext cx="59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57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907920"/>
            <a:ext cx="8207280" cy="3889440"/>
          </a:xfrm>
          <a:prstGeom prst="wedgeRoundRectCallout">
            <a:avLst>
              <a:gd name="adj1" fmla="val -43754"/>
              <a:gd name="adj2" fmla="val 92939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 vol à New York a duré sept heures.   Pendant le voyage j’ai regardé des films et écouté de la musique.  C’était très relaxant, et le personnel de bord était très attentif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907920"/>
            <a:ext cx="8207280" cy="3889440"/>
          </a:xfrm>
          <a:prstGeom prst="wedgeRoundRectCallout">
            <a:avLst>
              <a:gd name="adj1" fmla="val -43754"/>
              <a:gd name="adj2" fmla="val 92939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rmalement nous voyageons en car de Durham à Barcelone.  C’est long, ennuyeux et inconfortable.  Cette année nous avons voyagé en avion d’Edimbourg à Girona.  C’était très rapide et pratiq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692280"/>
            <a:ext cx="8207280" cy="4105080"/>
          </a:xfrm>
          <a:prstGeom prst="wedgeRoundRectCallout">
            <a:avLst>
              <a:gd name="adj1" fmla="val -43754"/>
              <a:gd name="adj2" fmla="val 9068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écemment je suis allé à Majorque.  Je suis arrivé en retard à l’aéroport et j’ai raté l’avion de dix minutes.  J’ai 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û attendre cinq heures.  En plus, j’ai oublié ma carte bancaire et je n’ai pas pu acheter de quoi ma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836640"/>
            <a:ext cx="8207280" cy="3960720"/>
          </a:xfrm>
          <a:prstGeom prst="wedgeRoundRectCallout">
            <a:avLst>
              <a:gd name="adj1" fmla="val -43754"/>
              <a:gd name="adj2" fmla="val 9216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endant le voyage, j’ai lu un magazine et j’ai écouté mon lecteur MP3.  J’ai mangé des sandwichs et j’ai bu un jus d’orange.  Ma soeur a acheté des bonbons et elle m’en a donné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522936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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0:45:11Z</dcterms:created>
  <dc:creator>Clare</dc:creator>
  <dc:description/>
  <dc:language>en-US</dc:language>
  <cp:lastModifiedBy>Clare</cp:lastModifiedBy>
  <dcterms:modified xsi:type="dcterms:W3CDTF">2008-09-12T10:49:14Z</dcterms:modified>
  <cp:revision>6</cp:revision>
  <dc:subject/>
  <dc:title>Slide 1</dc:title>
</cp:coreProperties>
</file>