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D8D-6C0B-4E04-AA6F-F5CECEAA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D8C-7BB0-4118-A2B8-BAFBFA6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581-D810-428A-A361-75CB3731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215-71F0-4926-8433-CD44F0D7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CB3-0733-4F6D-8848-CD667BD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65B-335D-4679-904D-E7FCBA1F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7F9-CCEA-4031-8EB0-6E29FC8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CE6-B571-4423-93C1-BC61619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F65-A14B-46BD-9233-6BAA97D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58D-D610-49A2-9390-03742C2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635-BC6C-4209-BC58-09477AA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670-6849-4357-88F7-5DBA7D3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E8CE-9E4B-4703-9B5E-7875743BDC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 voyagé de Newcastle à Paris en avion.  Le vol a duré seulement une heure et demie, et c’était très confortable.  Malheureusement j’ai vomi pendant le voyage après avoir mangé du cra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3640" y="6597720"/>
            <a:ext cx="59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7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vol à New York a duré sept heures.   Pendant le voyage j’ai regardé des films et écouté de la musique.  C’était très relaxant, et le personnel de bord était très attentif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rmalement nous voyageons en car de Durham à Barcelone.  C’est long, ennuyeux et inconfortable.  Cette année nous avons voyagé en avion d’Edimbourg à Girona.  C’était très rapide et pratiq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692280"/>
            <a:ext cx="8207280" cy="4105080"/>
          </a:xfrm>
          <a:prstGeom prst="wedgeRoundRectCallout">
            <a:avLst>
              <a:gd name="adj1" fmla="val -43754"/>
              <a:gd name="adj2" fmla="val 9068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écemment je suis allé à Majorque.  Je suis arrivé en retard à l’aéroport et j’ai raté l’avion de dix minutes.  J’ai 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û attendre cinq heures.  En plus, j’ai oublié ma carte bancaire et je n’ai pas pu acheter de quoi ma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836640"/>
            <a:ext cx="8207280" cy="3960720"/>
          </a:xfrm>
          <a:prstGeom prst="wedgeRoundRectCallout">
            <a:avLst>
              <a:gd name="adj1" fmla="val -43754"/>
              <a:gd name="adj2" fmla="val 921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endant le voyage, j’ai lu un magazine et j’ai écouté mon lecteur MP3.  J’ai mangé des sandwichs et j’ai bu un jus d’orange.  Ma soeur a acheté des bonbons et elle m’en a donné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0:45:11Z</dcterms:created>
  <dc:creator>Clare</dc:creator>
  <dc:description/>
  <dc:language>en-US</dc:language>
  <cp:lastModifiedBy>Clare</cp:lastModifiedBy>
  <dcterms:modified xsi:type="dcterms:W3CDTF">2008-09-12T10:49:14Z</dcterms:modified>
  <cp:revision>6</cp:revision>
  <dc:subject/>
  <dc:title>Slide 1</dc:title>
</cp:coreProperties>
</file>