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0.png" ContentType="image/png"/>
  <Override PartName="/ppt/media/image5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1103-D652-40C0-A5BB-09FD4C4C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EB3-6025-4A40-A1E4-46CF50EB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B26-B20A-4FD1-A040-16C2A542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BE8-5F23-421B-9EF7-07F7F2EF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0BD-7799-4013-970E-3E66DDB2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41E-6D36-4012-B84B-57F2C9D2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CE1B-1F15-4479-89BF-FF140643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07B-E80A-4CB2-88D7-3AB92377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70E-5AB5-4F07-A21D-7BECCF6D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A9C-F4DD-4E45-AEA1-43A79E6C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287-C401-429F-8BD3-B16EC82B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23EF-F2CA-4F37-A6BB-4DBFFE89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7029-2892-44A8-8E29-B7A9E6C79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jpeg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hyperlink" Target="http://www.sunderlandschools.org/mfl-sunderland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2.wmf"/><Relationship Id="rId4" Type="http://schemas.openxmlformats.org/officeDocument/2006/relationships/image" Target="../media/image12.wmf"/><Relationship Id="rId5" Type="http://schemas.openxmlformats.org/officeDocument/2006/relationships/image" Target="../media/image18.jpeg"/><Relationship Id="rId6" Type="http://schemas.openxmlformats.org/officeDocument/2006/relationships/image" Target="../media/image1.wmf"/><Relationship Id="rId7" Type="http://schemas.openxmlformats.org/officeDocument/2006/relationships/image" Target="../media/image13.wmf"/><Relationship Id="rId8" Type="http://schemas.openxmlformats.org/officeDocument/2006/relationships/image" Target="../media/image3.wmf"/><Relationship Id="rId9" Type="http://schemas.openxmlformats.org/officeDocument/2006/relationships/image" Target="../media/image17.wmf"/><Relationship Id="rId10" Type="http://schemas.openxmlformats.org/officeDocument/2006/relationships/image" Target="../media/image5.wmf"/><Relationship Id="rId11" Type="http://schemas.openxmlformats.org/officeDocument/2006/relationships/image" Target="../media/image4.wmf"/><Relationship Id="rId12" Type="http://schemas.openxmlformats.org/officeDocument/2006/relationships/image" Target="../media/image8.wmf"/><Relationship Id="rId13" Type="http://schemas.openxmlformats.org/officeDocument/2006/relationships/image" Target="../media/image19.jpeg"/><Relationship Id="rId14" Type="http://schemas.openxmlformats.org/officeDocument/2006/relationships/image" Target="../media/image9.wmf"/><Relationship Id="rId15" Type="http://schemas.openxmlformats.org/officeDocument/2006/relationships/image" Target="../media/image6.wmf"/><Relationship Id="rId16" Type="http://schemas.openxmlformats.org/officeDocument/2006/relationships/image" Target="../media/image14.jpeg"/><Relationship Id="rId17" Type="http://schemas.openxmlformats.org/officeDocument/2006/relationships/image" Target="../media/image16.wmf"/><Relationship Id="rId18" Type="http://schemas.openxmlformats.org/officeDocument/2006/relationships/image" Target="../media/image15.wmf"/><Relationship Id="rId19" Type="http://schemas.openxmlformats.org/officeDocument/2006/relationships/image" Target="../media/image7.png"/><Relationship Id="rId2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658800" cy="1297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1203120" cy="1224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48000" y="333360"/>
            <a:ext cx="836640" cy="115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643280" y="476280"/>
            <a:ext cx="1657440" cy="87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873920" y="189000"/>
            <a:ext cx="1270080" cy="1201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50920" y="2565360"/>
            <a:ext cx="1388880" cy="798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411280" y="2349360"/>
            <a:ext cx="1071720" cy="1057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067280" y="2421000"/>
            <a:ext cx="982440" cy="99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5651640" y="2349360"/>
            <a:ext cx="1120680" cy="1152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451640" y="234936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179280" y="4508640"/>
            <a:ext cx="1074960" cy="1224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1547640" y="4724280"/>
            <a:ext cx="1427400" cy="939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3059280" y="4653000"/>
            <a:ext cx="160632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4859280" y="4508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7956720" y="4508640"/>
            <a:ext cx="1050840" cy="1463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6372360" y="4724280"/>
            <a:ext cx="1135080" cy="976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170028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 m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360" y="162864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n p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484280"/>
            <a:ext cx="201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and-m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1413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s cop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85080" y="1341360"/>
            <a:ext cx="12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’ai in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42900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s avons mang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35002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s avons 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5002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s avons écou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573360"/>
            <a:ext cx="17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s avons dan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7080" y="3357720"/>
            <a:ext cx="22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me cadeau, j’ai reç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80536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 lecteur 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5805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col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2000" y="5805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p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5805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u gât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55897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ndwi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9640" y="59500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 la limon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7"/>
          <a:stretch/>
        </p:blipFill>
        <p:spPr>
          <a:xfrm>
            <a:off x="6588000" y="260280"/>
            <a:ext cx="998640" cy="1120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300720" y="141300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’ai fait une bo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6643800"/>
            <a:ext cx="41767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8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n dernier annivers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836640"/>
            <a:ext cx="8136000" cy="5616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1074600" cy="1224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987640" y="1268280"/>
            <a:ext cx="720720" cy="64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924360" y="981000"/>
            <a:ext cx="1203120" cy="1224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219640" y="1052640"/>
            <a:ext cx="1427400" cy="939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04000" y="1268280"/>
            <a:ext cx="647640" cy="5763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7667640" y="981000"/>
            <a:ext cx="658800" cy="1297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133720"/>
            <a:ext cx="93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1476360" y="2349360"/>
            <a:ext cx="1606680" cy="1067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76720" y="2565360"/>
            <a:ext cx="718920" cy="647640"/>
          </a:xfrm>
          <a:prstGeom prst="ellipse">
            <a:avLst/>
          </a:prstGeom>
          <a:solidFill>
            <a:srgbClr val="0840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4211640" y="2276640"/>
            <a:ext cx="836640" cy="1150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6012000" y="2349360"/>
            <a:ext cx="998280" cy="1121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611280" y="3573360"/>
            <a:ext cx="1270080" cy="1201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020000" y="206064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1979640" y="3716280"/>
            <a:ext cx="1657440" cy="878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292720" y="3068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443700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284720" y="3645000"/>
            <a:ext cx="982440" cy="993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5364000" y="3716280"/>
            <a:ext cx="897120" cy="890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6372360" y="3357720"/>
            <a:ext cx="93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4"/>
          <a:stretch/>
        </p:blipFill>
        <p:spPr>
          <a:xfrm>
            <a:off x="7164360" y="3573360"/>
            <a:ext cx="1120680" cy="1152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317080" y="436572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5"/>
          <a:stretch/>
        </p:blipFill>
        <p:spPr>
          <a:xfrm>
            <a:off x="611280" y="5157720"/>
            <a:ext cx="1388880" cy="798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6"/>
          <a:stretch/>
        </p:blipFill>
        <p:spPr>
          <a:xfrm>
            <a:off x="2124000" y="4941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7"/>
          <a:stretch/>
        </p:blipFill>
        <p:spPr>
          <a:xfrm>
            <a:off x="3708360" y="5084640"/>
            <a:ext cx="1135080" cy="976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8"/>
          <a:stretch/>
        </p:blipFill>
        <p:spPr>
          <a:xfrm>
            <a:off x="7164360" y="4797360"/>
            <a:ext cx="1050840" cy="1463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9"/>
          <a:stretch/>
        </p:blipFill>
        <p:spPr>
          <a:xfrm>
            <a:off x="5867280" y="5013360"/>
            <a:ext cx="1071720" cy="1057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172360" y="580536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479736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3:06:24Z</dcterms:created>
  <dc:creator>Clare</dc:creator>
  <dc:description/>
  <dc:language>en-US</dc:language>
  <cp:lastModifiedBy>Clare</cp:lastModifiedBy>
  <dcterms:modified xsi:type="dcterms:W3CDTF">2008-09-14T18:57:45Z</dcterms:modified>
  <cp:revision>11</cp:revision>
  <dc:subject/>
  <dc:title>Slide 1</dc:title>
</cp:coreProperties>
</file>