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0.png" ContentType="image/png"/>
  <Override PartName="/ppt/media/image5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2B4-B47A-4929-9835-ABF63BBF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0F4-CD9F-4A54-A7B4-3812EA42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197-BD3B-4C15-BAE4-33C7F732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AD4-BCA3-4076-8798-841FE0CA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D81-3507-4A2F-A49E-4AA95E19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23B-1C4F-4E34-88E5-CF4E3602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249-90A1-4363-BC62-CF45899E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FEF-2BAE-4896-A626-E9B091E1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3FA-0230-404B-8931-6ED905D2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513-1EC1-462A-9631-66774F7F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2FA-E904-44F2-B5DC-8073FB9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4C8-8254-42F4-B0C4-2009FE24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CA88-A153-44AA-B763-D829847E7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jpeg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hyperlink" Target="http://www.sunderlandschools.org/mfl-sunderland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2.wmf"/><Relationship Id="rId4" Type="http://schemas.openxmlformats.org/officeDocument/2006/relationships/image" Target="../media/image12.wmf"/><Relationship Id="rId5" Type="http://schemas.openxmlformats.org/officeDocument/2006/relationships/image" Target="../media/image18.jpeg"/><Relationship Id="rId6" Type="http://schemas.openxmlformats.org/officeDocument/2006/relationships/image" Target="../media/image1.wmf"/><Relationship Id="rId7" Type="http://schemas.openxmlformats.org/officeDocument/2006/relationships/image" Target="../media/image13.wmf"/><Relationship Id="rId8" Type="http://schemas.openxmlformats.org/officeDocument/2006/relationships/image" Target="../media/image3.wmf"/><Relationship Id="rId9" Type="http://schemas.openxmlformats.org/officeDocument/2006/relationships/image" Target="../media/image17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8.wmf"/><Relationship Id="rId13" Type="http://schemas.openxmlformats.org/officeDocument/2006/relationships/image" Target="../media/image19.jpeg"/><Relationship Id="rId14" Type="http://schemas.openxmlformats.org/officeDocument/2006/relationships/image" Target="../media/image9.wmf"/><Relationship Id="rId15" Type="http://schemas.openxmlformats.org/officeDocument/2006/relationships/image" Target="../media/image6.wmf"/><Relationship Id="rId16" Type="http://schemas.openxmlformats.org/officeDocument/2006/relationships/image" Target="../media/image14.jpeg"/><Relationship Id="rId17" Type="http://schemas.openxmlformats.org/officeDocument/2006/relationships/image" Target="../media/image16.wmf"/><Relationship Id="rId18" Type="http://schemas.openxmlformats.org/officeDocument/2006/relationships/image" Target="../media/image15.wmf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658800" cy="1297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1203120" cy="1224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48000" y="333360"/>
            <a:ext cx="836640" cy="115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43280" y="476280"/>
            <a:ext cx="1657440" cy="87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873920" y="189000"/>
            <a:ext cx="1270080" cy="1201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2565360"/>
            <a:ext cx="1388880" cy="79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11280" y="2349360"/>
            <a:ext cx="1071720" cy="105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067280" y="2421000"/>
            <a:ext cx="982440" cy="99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651640" y="2349360"/>
            <a:ext cx="1120680" cy="1152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451640" y="23493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79280" y="4508640"/>
            <a:ext cx="1074960" cy="122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547640" y="4724280"/>
            <a:ext cx="1427400" cy="939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059280" y="4653000"/>
            <a:ext cx="160632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859280" y="450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956720" y="4508640"/>
            <a:ext cx="1050840" cy="1463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372360" y="4724280"/>
            <a:ext cx="1135080" cy="976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17002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 m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162864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 p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20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nd-m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1413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s cop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85080" y="1341360"/>
            <a:ext cx="12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in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42900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avons man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3500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avons 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50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avons écou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57336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avons dan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335772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e cadeau, j’ai reç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80536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lecteur 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580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col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580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5805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u gâ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5589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ndwi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9640" y="59500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 la lim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6588000" y="260280"/>
            <a:ext cx="998640" cy="1120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300720" y="1413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fait une bo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6643800"/>
            <a:ext cx="4176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8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n dernier anniver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836640"/>
            <a:ext cx="8136000" cy="5616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1074600" cy="122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87640" y="1268280"/>
            <a:ext cx="720720" cy="64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24360" y="981000"/>
            <a:ext cx="120312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19640" y="1052640"/>
            <a:ext cx="1427400" cy="939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04000" y="1268280"/>
            <a:ext cx="647640" cy="576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667640" y="981000"/>
            <a:ext cx="658800" cy="129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133720"/>
            <a:ext cx="9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1476360" y="2349360"/>
            <a:ext cx="1606680" cy="1067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2565360"/>
            <a:ext cx="718920" cy="647640"/>
          </a:xfrm>
          <a:prstGeom prst="ellipse">
            <a:avLst/>
          </a:prstGeom>
          <a:solidFill>
            <a:srgbClr val="0840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4211640" y="2276640"/>
            <a:ext cx="836640" cy="1150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6012000" y="2349360"/>
            <a:ext cx="998280" cy="1121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611280" y="3573360"/>
            <a:ext cx="1270080" cy="1201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20000" y="206064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1979640" y="3716280"/>
            <a:ext cx="1657440" cy="878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92720" y="3068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443700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284720" y="3645000"/>
            <a:ext cx="982440" cy="99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5364000" y="3716280"/>
            <a:ext cx="897120" cy="89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6372360" y="3357720"/>
            <a:ext cx="9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>
            <a:off x="7164360" y="3573360"/>
            <a:ext cx="1120680" cy="1152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17080" y="436572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611280" y="5157720"/>
            <a:ext cx="1388880" cy="79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2124000" y="49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3708360" y="5084640"/>
            <a:ext cx="1135080" cy="976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7164360" y="4797360"/>
            <a:ext cx="1050840" cy="1463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5867280" y="5013360"/>
            <a:ext cx="1071720" cy="1057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72360" y="58053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479736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3:06:24Z</dcterms:created>
  <dc:creator>Clare</dc:creator>
  <dc:description/>
  <dc:language>en-US</dc:language>
  <cp:lastModifiedBy>Clare</cp:lastModifiedBy>
  <dcterms:modified xsi:type="dcterms:W3CDTF">2008-09-14T18:57:45Z</dcterms:modified>
  <cp:revision>11</cp:revision>
  <dc:subject/>
  <dc:title>Slide 1</dc:title>
</cp:coreProperties>
</file>