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F0E-80D7-4F62-8163-D48E652C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D39-8390-4D1A-85CB-8A648845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409-B943-4E5A-9CC9-3FBBCCA7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0CE-5C46-4BA0-BA62-F5889180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7CC-8C07-4428-9632-315124F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F5B-8BC4-41E3-8AA5-EBE272A9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90E-1151-404A-B9A8-0FD38917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E95-A88C-4CA8-9A3D-AC8E8E8D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3D1-4DC2-4D46-9942-5A3ABE4B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AFA-B6B8-4161-B921-A5B5619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C07-D321-4989-B974-84862B0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2CE-53CF-4631-AC26-49C6F25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2C9-4BC4-4A3C-B986-98D30D73E1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endant la boum,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j’ai écout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de la musique –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j’ador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la musique de la chanteuse Miley Cyrus. 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J’ai dans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avec mes copains dans ma chambre rouge et rose, et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c’était cool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.  Mes copains et moi </a:t>
            </a:r>
            <a:r>
              <a:rPr b="0" lang="en-GB" sz="4000" spc="-1" strike="noStrike">
                <a:solidFill>
                  <a:srgbClr val="009999"/>
                </a:solidFill>
                <a:latin typeface="Comic Sans MS"/>
              </a:rPr>
              <a:t>nous avons chant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à mon avis nous étions fantastiqu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!  La boum a fini à vingt-trois heures.  </a:t>
            </a:r>
            <a:r>
              <a:rPr b="0" lang="en-GB" sz="4000" spc="-1" strike="noStrike">
                <a:solidFill>
                  <a:srgbClr val="d60093"/>
                </a:solidFill>
                <a:latin typeface="Comic Sans MS"/>
              </a:rPr>
              <a:t>J’ai adoré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la boum, et je voudrais faire une boum l’année prochai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35:35Z</dcterms:created>
  <dc:creator>Clare</dc:creator>
  <dc:description/>
  <dc:language>en-US</dc:language>
  <cp:lastModifiedBy>Clare Seccombe</cp:lastModifiedBy>
  <dcterms:modified xsi:type="dcterms:W3CDTF">2010-11-02T09:30:51Z</dcterms:modified>
  <cp:revision>2</cp:revision>
  <dc:subject/>
  <dc:title>Slide 1</dc:title>
</cp:coreProperties>
</file>