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B86AA-E9B6-4DFE-9594-550812BBE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FDE0D-DCAB-41D2-8987-462645146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CAD0D-81FD-428B-B2C2-97E59DAC5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DC9F6-BFF1-44B1-8506-DA46BD443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7417B-2B64-45E9-9A36-8B11EF26B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EC6B7-F0D0-46D5-9953-7C552D092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B3EA3-3A8F-4604-BAEA-853893406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42764-670B-4AA3-A597-939B9818D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2327A-0BA2-4299-9D2B-831B2A1E4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DFC3C-614A-41AA-9073-C62D9A8DB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0FE47-35CC-4455-BB88-A55A6C6E8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98506-D906-460C-8697-051CBC0C1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0D023-D8FB-4DDB-BA4C-0E609F9C54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5.xml"/><Relationship Id="rId3" Type="http://schemas.openxmlformats.org/officeDocument/2006/relationships/slide" Target="slide8.xml"/><Relationship Id="rId4" Type="http://schemas.openxmlformats.org/officeDocument/2006/relationships/slide" Target="slide9.xml"/><Relationship Id="rId5" Type="http://schemas.openxmlformats.org/officeDocument/2006/relationships/slide" Target="slide6.xml"/><Relationship Id="rId6" Type="http://schemas.openxmlformats.org/officeDocument/2006/relationships/slide" Target="slide3.xml"/><Relationship Id="rId7" Type="http://schemas.openxmlformats.org/officeDocument/2006/relationships/slide" Target="slide4.xml"/><Relationship Id="rId8" Type="http://schemas.openxmlformats.org/officeDocument/2006/relationships/slide" Target="slide7.xml"/><Relationship Id="rId9" Type="http://schemas.openxmlformats.org/officeDocument/2006/relationships/slide" Target="slide10.xml"/><Relationship Id="rId10" Type="http://schemas.openxmlformats.org/officeDocument/2006/relationships/slide" Target="slide3.xml"/><Relationship Id="rId11" Type="http://schemas.openxmlformats.org/officeDocument/2006/relationships/slide" Target="slide4.xml"/><Relationship Id="rId12" Type="http://schemas.openxmlformats.org/officeDocument/2006/relationships/slide" Target="slide9.xml"/><Relationship Id="rId13" Type="http://schemas.openxmlformats.org/officeDocument/2006/relationships/slide" Target="slide5.xml"/><Relationship Id="rId14" Type="http://schemas.openxmlformats.org/officeDocument/2006/relationships/slide" Target="slide8.xml"/><Relationship Id="rId15" Type="http://schemas.openxmlformats.org/officeDocument/2006/relationships/slide" Target="slide7.xml"/><Relationship Id="rId16" Type="http://schemas.openxmlformats.org/officeDocument/2006/relationships/slide" Target="slide10.xml"/><Relationship Id="rId17" Type="http://schemas.openxmlformats.org/officeDocument/2006/relationships/slide" Target="slide6.xml"/><Relationship Id="rId1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>
            <a:hlinkClick r:id="rId1" action="ppaction://hlinksldjump"/>
          </p:cNvPr>
          <p:cNvSpPr/>
          <p:nvPr/>
        </p:nvSpPr>
        <p:spPr>
          <a:xfrm>
            <a:off x="1371600" y="838080"/>
            <a:ext cx="1752480" cy="1524240"/>
          </a:xfrm>
          <a:prstGeom prst="rect">
            <a:avLst/>
          </a:prstGeom>
          <a:solidFill>
            <a:srgbClr val="99ff33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3">
            <a:hlinkClick r:id="rId2" action="ppaction://hlinksldjump"/>
          </p:cNvPr>
          <p:cNvSpPr/>
          <p:nvPr/>
        </p:nvSpPr>
        <p:spPr>
          <a:xfrm>
            <a:off x="1371600" y="2666880"/>
            <a:ext cx="1752480" cy="152424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ectangle 4">
            <a:hlinkClick r:id="rId3" action="ppaction://hlinksldjump"/>
          </p:cNvPr>
          <p:cNvSpPr/>
          <p:nvPr/>
        </p:nvSpPr>
        <p:spPr>
          <a:xfrm>
            <a:off x="1371600" y="4572000"/>
            <a:ext cx="1752480" cy="1523880"/>
          </a:xfrm>
          <a:prstGeom prst="rect">
            <a:avLst/>
          </a:prstGeom>
          <a:solidFill>
            <a:srgbClr val="0066cc"/>
          </a:solidFill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5">
            <a:hlinkClick r:id="rId4" action="ppaction://hlinksldjump"/>
          </p:cNvPr>
          <p:cNvSpPr/>
          <p:nvPr/>
        </p:nvSpPr>
        <p:spPr>
          <a:xfrm>
            <a:off x="3695760" y="4572000"/>
            <a:ext cx="1752480" cy="1523880"/>
          </a:xfrm>
          <a:prstGeom prst="rect">
            <a:avLst/>
          </a:prstGeom>
          <a:solidFill>
            <a:srgbClr val="00cc66"/>
          </a:solidFill>
          <a:ln w="9360">
            <a:solidFill>
              <a:srgbClr val="00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6">
            <a:hlinkClick r:id="rId5" action="ppaction://hlinksldjump"/>
          </p:cNvPr>
          <p:cNvSpPr/>
          <p:nvPr/>
        </p:nvSpPr>
        <p:spPr>
          <a:xfrm>
            <a:off x="3695760" y="2666880"/>
            <a:ext cx="1752480" cy="1524240"/>
          </a:xfrm>
          <a:prstGeom prst="rect">
            <a:avLst/>
          </a:prstGeom>
          <a:solidFill>
            <a:srgbClr val="9900cc"/>
          </a:solidFill>
          <a:ln w="93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Rectangle 7">
            <a:hlinkClick r:id="rId6" action="ppaction://hlinksldjump"/>
          </p:cNvPr>
          <p:cNvSpPr/>
          <p:nvPr/>
        </p:nvSpPr>
        <p:spPr>
          <a:xfrm>
            <a:off x="3695760" y="838080"/>
            <a:ext cx="1752480" cy="1524240"/>
          </a:xfrm>
          <a:prstGeom prst="rect">
            <a:avLst/>
          </a:prstGeom>
          <a:solidFill>
            <a:srgbClr val="0066ff"/>
          </a:soli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8">
            <a:hlinkClick r:id="rId7" action="ppaction://hlinksldjump"/>
          </p:cNvPr>
          <p:cNvSpPr/>
          <p:nvPr/>
        </p:nvSpPr>
        <p:spPr>
          <a:xfrm>
            <a:off x="5943600" y="838080"/>
            <a:ext cx="1752480" cy="152424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9">
            <a:hlinkClick r:id="rId8" action="ppaction://hlinksldjump"/>
          </p:cNvPr>
          <p:cNvSpPr/>
          <p:nvPr/>
        </p:nvSpPr>
        <p:spPr>
          <a:xfrm>
            <a:off x="5943600" y="2666880"/>
            <a:ext cx="1752480" cy="1524240"/>
          </a:xfrm>
          <a:prstGeom prst="rect">
            <a:avLst/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10">
            <a:hlinkClick r:id="rId9" action="ppaction://hlinksldjump"/>
          </p:cNvPr>
          <p:cNvSpPr/>
          <p:nvPr/>
        </p:nvSpPr>
        <p:spPr>
          <a:xfrm>
            <a:off x="5943600" y="4572000"/>
            <a:ext cx="1752480" cy="1523880"/>
          </a:xfrm>
          <a:prstGeom prst="rect">
            <a:avLst/>
          </a:prstGeom>
          <a:solidFill>
            <a:srgbClr val="ff7c80"/>
          </a:solidFill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1"/>
          <p:cNvSpPr/>
          <p:nvPr/>
        </p:nvSpPr>
        <p:spPr>
          <a:xfrm>
            <a:off x="1752480" y="914400"/>
            <a:ext cx="914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12"/>
          <p:cNvSpPr/>
          <p:nvPr/>
        </p:nvSpPr>
        <p:spPr>
          <a:xfrm>
            <a:off x="4114800" y="990720"/>
            <a:ext cx="914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13"/>
          <p:cNvSpPr/>
          <p:nvPr/>
        </p:nvSpPr>
        <p:spPr>
          <a:xfrm>
            <a:off x="6400800" y="990720"/>
            <a:ext cx="914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14"/>
          <p:cNvSpPr/>
          <p:nvPr/>
        </p:nvSpPr>
        <p:spPr>
          <a:xfrm>
            <a:off x="1828800" y="2773440"/>
            <a:ext cx="914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5"/>
          <p:cNvSpPr/>
          <p:nvPr/>
        </p:nvSpPr>
        <p:spPr>
          <a:xfrm>
            <a:off x="4114800" y="2773440"/>
            <a:ext cx="914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16"/>
          <p:cNvSpPr/>
          <p:nvPr/>
        </p:nvSpPr>
        <p:spPr>
          <a:xfrm>
            <a:off x="6324480" y="2773440"/>
            <a:ext cx="914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17"/>
          <p:cNvSpPr/>
          <p:nvPr/>
        </p:nvSpPr>
        <p:spPr>
          <a:xfrm>
            <a:off x="1828800" y="4724280"/>
            <a:ext cx="914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18"/>
          <p:cNvSpPr/>
          <p:nvPr/>
        </p:nvSpPr>
        <p:spPr>
          <a:xfrm>
            <a:off x="4114800" y="4724280"/>
            <a:ext cx="914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20"/>
          <p:cNvSpPr/>
          <p:nvPr/>
        </p:nvSpPr>
        <p:spPr>
          <a:xfrm>
            <a:off x="6324480" y="4724280"/>
            <a:ext cx="914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AutoShape 22">
            <a:hlinkClick r:id="rId10" action="ppaction://hlinksldjump"/>
          </p:cNvPr>
          <p:cNvSpPr/>
          <p:nvPr/>
        </p:nvSpPr>
        <p:spPr>
          <a:xfrm>
            <a:off x="1547640" y="1700280"/>
            <a:ext cx="395640" cy="576360"/>
          </a:xfrm>
          <a:custGeom>
            <a:avLst/>
            <a:gdLst>
              <a:gd name="textAreaLeft" fmla="*/ 25560 w 395640"/>
              <a:gd name="textAreaRight" fmla="*/ 370080 w 395640"/>
              <a:gd name="textAreaTop" fmla="*/ 25560 h 576360"/>
              <a:gd name="textAreaBottom" fmla="*/ 550800 h 576360"/>
            </a:gdLst>
            <a:ahLst/>
            <a:rect l="textAreaLeft" t="textAreaTop" r="textAreaRight" b="textAreaBottom"/>
            <a:pathLst>
              <a:path w="21600" h="31457">
                <a:moveTo>
                  <a:pt x="0" y="0"/>
                </a:moveTo>
                <a:lnTo>
                  <a:pt x="21600" y="0"/>
                </a:lnTo>
                <a:lnTo>
                  <a:pt x="21600" y="31457"/>
                </a:lnTo>
                <a:lnTo>
                  <a:pt x="0" y="31457"/>
                </a:lnTo>
                <a:close/>
              </a:path>
              <a:path fill="lightenLess" w="21600" h="3145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1457">
                <a:moveTo>
                  <a:pt x="21600" y="0"/>
                </a:moveTo>
                <a:lnTo>
                  <a:pt x="21600" y="31457"/>
                </a:lnTo>
                <a:lnTo>
                  <a:pt x="20200" y="30057"/>
                </a:lnTo>
                <a:lnTo>
                  <a:pt x="20200" y="1400"/>
                </a:lnTo>
                <a:close/>
              </a:path>
              <a:path fill="darkenLess" w="21600" h="31457">
                <a:moveTo>
                  <a:pt x="21600" y="31457"/>
                </a:moveTo>
                <a:lnTo>
                  <a:pt x="0" y="31457"/>
                </a:lnTo>
                <a:lnTo>
                  <a:pt x="1400" y="30057"/>
                </a:lnTo>
                <a:lnTo>
                  <a:pt x="20200" y="30057"/>
                </a:lnTo>
                <a:close/>
              </a:path>
              <a:path fill="lighten" w="21600" h="31457">
                <a:moveTo>
                  <a:pt x="0" y="31457"/>
                </a:moveTo>
                <a:lnTo>
                  <a:pt x="0" y="0"/>
                </a:lnTo>
                <a:lnTo>
                  <a:pt x="1400" y="1400"/>
                </a:lnTo>
                <a:lnTo>
                  <a:pt x="1400" y="30057"/>
                </a:lnTo>
                <a:close/>
              </a:path>
              <a:path fill="darken" w="21600" h="31457">
                <a:moveTo>
                  <a:pt x="3794" y="8722"/>
                </a:moveTo>
                <a:lnTo>
                  <a:pt x="17806" y="15729"/>
                </a:lnTo>
                <a:lnTo>
                  <a:pt x="3794" y="22735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AutoShape 23">
            <a:hlinkClick r:id="rId11" action="ppaction://hlinksldjump"/>
          </p:cNvPr>
          <p:cNvSpPr/>
          <p:nvPr/>
        </p:nvSpPr>
        <p:spPr>
          <a:xfrm>
            <a:off x="3780000" y="1700280"/>
            <a:ext cx="287280" cy="50472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504720"/>
              <a:gd name="textAreaBottom" fmla="*/ 486360 h 504720"/>
            </a:gdLst>
            <a:ahLst/>
            <a:rect l="textAreaLeft" t="textAreaTop" r="textAreaRight" b="textAreaBottom"/>
            <a:pathLst>
              <a:path w="21600" h="37928">
                <a:moveTo>
                  <a:pt x="0" y="0"/>
                </a:moveTo>
                <a:lnTo>
                  <a:pt x="21600" y="0"/>
                </a:lnTo>
                <a:lnTo>
                  <a:pt x="21600" y="37928"/>
                </a:lnTo>
                <a:lnTo>
                  <a:pt x="0" y="37928"/>
                </a:lnTo>
                <a:close/>
              </a:path>
              <a:path fill="lightenLess" w="21600" h="3792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7928">
                <a:moveTo>
                  <a:pt x="21600" y="0"/>
                </a:moveTo>
                <a:lnTo>
                  <a:pt x="21600" y="37928"/>
                </a:lnTo>
                <a:lnTo>
                  <a:pt x="20200" y="36528"/>
                </a:lnTo>
                <a:lnTo>
                  <a:pt x="20200" y="1400"/>
                </a:lnTo>
                <a:close/>
              </a:path>
              <a:path fill="darkenLess" w="21600" h="37928">
                <a:moveTo>
                  <a:pt x="21600" y="37928"/>
                </a:moveTo>
                <a:lnTo>
                  <a:pt x="0" y="37928"/>
                </a:lnTo>
                <a:lnTo>
                  <a:pt x="1400" y="36528"/>
                </a:lnTo>
                <a:lnTo>
                  <a:pt x="20200" y="36528"/>
                </a:lnTo>
                <a:close/>
              </a:path>
              <a:path fill="lighten" w="21600" h="37928">
                <a:moveTo>
                  <a:pt x="0" y="37928"/>
                </a:moveTo>
                <a:lnTo>
                  <a:pt x="0" y="0"/>
                </a:lnTo>
                <a:lnTo>
                  <a:pt x="1400" y="1400"/>
                </a:lnTo>
                <a:lnTo>
                  <a:pt x="1400" y="36528"/>
                </a:lnTo>
                <a:close/>
              </a:path>
              <a:path fill="darken" w="21600" h="37928">
                <a:moveTo>
                  <a:pt x="3794" y="11958"/>
                </a:moveTo>
                <a:lnTo>
                  <a:pt x="17806" y="18964"/>
                </a:lnTo>
                <a:lnTo>
                  <a:pt x="3794" y="25971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AutoShape 24">
            <a:hlinkClick r:id="rId12" action="ppaction://hlinksldjump"/>
          </p:cNvPr>
          <p:cNvSpPr/>
          <p:nvPr/>
        </p:nvSpPr>
        <p:spPr>
          <a:xfrm>
            <a:off x="6156360" y="1628640"/>
            <a:ext cx="360360" cy="64800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648000"/>
              <a:gd name="textAreaBottom" fmla="*/ 624960 h 648000"/>
            </a:gdLst>
            <a:ahLst/>
            <a:rect l="textAreaLeft" t="textAreaTop" r="textAreaRight" b="textAreaBottom"/>
            <a:pathLst>
              <a:path w="21600" h="38824">
                <a:moveTo>
                  <a:pt x="0" y="0"/>
                </a:moveTo>
                <a:lnTo>
                  <a:pt x="21600" y="0"/>
                </a:lnTo>
                <a:lnTo>
                  <a:pt x="21600" y="38824"/>
                </a:lnTo>
                <a:lnTo>
                  <a:pt x="0" y="38824"/>
                </a:lnTo>
                <a:close/>
              </a:path>
              <a:path fill="lightenLess" w="21600" h="3882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8824">
                <a:moveTo>
                  <a:pt x="21600" y="0"/>
                </a:moveTo>
                <a:lnTo>
                  <a:pt x="21600" y="38824"/>
                </a:lnTo>
                <a:lnTo>
                  <a:pt x="20200" y="37424"/>
                </a:lnTo>
                <a:lnTo>
                  <a:pt x="20200" y="1400"/>
                </a:lnTo>
                <a:close/>
              </a:path>
              <a:path fill="darkenLess" w="21600" h="38824">
                <a:moveTo>
                  <a:pt x="21600" y="38824"/>
                </a:moveTo>
                <a:lnTo>
                  <a:pt x="0" y="38824"/>
                </a:lnTo>
                <a:lnTo>
                  <a:pt x="1400" y="37424"/>
                </a:lnTo>
                <a:lnTo>
                  <a:pt x="20200" y="37424"/>
                </a:lnTo>
                <a:close/>
              </a:path>
              <a:path fill="lighten" w="21600" h="38824">
                <a:moveTo>
                  <a:pt x="0" y="38824"/>
                </a:moveTo>
                <a:lnTo>
                  <a:pt x="0" y="0"/>
                </a:lnTo>
                <a:lnTo>
                  <a:pt x="1400" y="1400"/>
                </a:lnTo>
                <a:lnTo>
                  <a:pt x="1400" y="37424"/>
                </a:lnTo>
                <a:close/>
              </a:path>
              <a:path fill="darken" w="21600" h="38824">
                <a:moveTo>
                  <a:pt x="3794" y="12405"/>
                </a:moveTo>
                <a:lnTo>
                  <a:pt x="17806" y="19412"/>
                </a:lnTo>
                <a:lnTo>
                  <a:pt x="3794" y="26418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AutoShape 25">
            <a:hlinkClick r:id="rId13" action="ppaction://hlinksldjump"/>
          </p:cNvPr>
          <p:cNvSpPr/>
          <p:nvPr/>
        </p:nvSpPr>
        <p:spPr>
          <a:xfrm>
            <a:off x="1476360" y="3573360"/>
            <a:ext cx="431640" cy="50328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503280"/>
              <a:gd name="textAreaBottom" fmla="*/ 475560 h 503280"/>
            </a:gdLst>
            <a:ahLst/>
            <a:rect l="textAreaLeft" t="textAreaTop" r="textAreaRight" b="textAreaBottom"/>
            <a:pathLst>
              <a:path w="21600" h="25182">
                <a:moveTo>
                  <a:pt x="0" y="0"/>
                </a:moveTo>
                <a:lnTo>
                  <a:pt x="21600" y="0"/>
                </a:lnTo>
                <a:lnTo>
                  <a:pt x="21600" y="25182"/>
                </a:lnTo>
                <a:lnTo>
                  <a:pt x="0" y="25182"/>
                </a:lnTo>
                <a:close/>
              </a:path>
              <a:path fill="lightenLess" w="21600" h="2518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182">
                <a:moveTo>
                  <a:pt x="21600" y="0"/>
                </a:moveTo>
                <a:lnTo>
                  <a:pt x="21600" y="25182"/>
                </a:lnTo>
                <a:lnTo>
                  <a:pt x="20200" y="23782"/>
                </a:lnTo>
                <a:lnTo>
                  <a:pt x="20200" y="1400"/>
                </a:lnTo>
                <a:close/>
              </a:path>
              <a:path fill="darkenLess" w="21600" h="25182">
                <a:moveTo>
                  <a:pt x="21600" y="25182"/>
                </a:moveTo>
                <a:lnTo>
                  <a:pt x="0" y="25182"/>
                </a:lnTo>
                <a:lnTo>
                  <a:pt x="1400" y="23782"/>
                </a:lnTo>
                <a:lnTo>
                  <a:pt x="20200" y="23782"/>
                </a:lnTo>
                <a:close/>
              </a:path>
              <a:path fill="lighten" w="21600" h="25182">
                <a:moveTo>
                  <a:pt x="0" y="25182"/>
                </a:moveTo>
                <a:lnTo>
                  <a:pt x="0" y="0"/>
                </a:lnTo>
                <a:lnTo>
                  <a:pt x="1400" y="1400"/>
                </a:lnTo>
                <a:lnTo>
                  <a:pt x="1400" y="23782"/>
                </a:lnTo>
                <a:close/>
              </a:path>
              <a:path fill="darken" w="21600" h="25182">
                <a:moveTo>
                  <a:pt x="3794" y="5585"/>
                </a:moveTo>
                <a:lnTo>
                  <a:pt x="17806" y="12591"/>
                </a:lnTo>
                <a:lnTo>
                  <a:pt x="3794" y="19597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AutoShape 26">
            <a:hlinkClick r:id="rId14" action="ppaction://hlinksldjump"/>
          </p:cNvPr>
          <p:cNvSpPr/>
          <p:nvPr/>
        </p:nvSpPr>
        <p:spPr>
          <a:xfrm>
            <a:off x="3924360" y="3573360"/>
            <a:ext cx="287280" cy="50328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503280"/>
              <a:gd name="textAreaBottom" fmla="*/ 484920 h 503280"/>
            </a:gdLst>
            <a:ahLst/>
            <a:rect l="textAreaLeft" t="textAreaTop" r="textAreaRight" b="textAreaBottom"/>
            <a:pathLst>
              <a:path w="21600" h="37820">
                <a:moveTo>
                  <a:pt x="0" y="0"/>
                </a:moveTo>
                <a:lnTo>
                  <a:pt x="21600" y="0"/>
                </a:lnTo>
                <a:lnTo>
                  <a:pt x="21600" y="37820"/>
                </a:lnTo>
                <a:lnTo>
                  <a:pt x="0" y="37820"/>
                </a:lnTo>
                <a:close/>
              </a:path>
              <a:path fill="lightenLess" w="21600" h="378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7820">
                <a:moveTo>
                  <a:pt x="21600" y="0"/>
                </a:moveTo>
                <a:lnTo>
                  <a:pt x="21600" y="37820"/>
                </a:lnTo>
                <a:lnTo>
                  <a:pt x="20200" y="36420"/>
                </a:lnTo>
                <a:lnTo>
                  <a:pt x="20200" y="1400"/>
                </a:lnTo>
                <a:close/>
              </a:path>
              <a:path fill="darkenLess" w="21600" h="37820">
                <a:moveTo>
                  <a:pt x="21600" y="37820"/>
                </a:moveTo>
                <a:lnTo>
                  <a:pt x="0" y="37820"/>
                </a:lnTo>
                <a:lnTo>
                  <a:pt x="1400" y="36420"/>
                </a:lnTo>
                <a:lnTo>
                  <a:pt x="20200" y="36420"/>
                </a:lnTo>
                <a:close/>
              </a:path>
              <a:path fill="lighten" w="21600" h="37820">
                <a:moveTo>
                  <a:pt x="0" y="37820"/>
                </a:moveTo>
                <a:lnTo>
                  <a:pt x="0" y="0"/>
                </a:lnTo>
                <a:lnTo>
                  <a:pt x="1400" y="1400"/>
                </a:lnTo>
                <a:lnTo>
                  <a:pt x="1400" y="36420"/>
                </a:lnTo>
                <a:close/>
              </a:path>
              <a:path fill="darken" w="21600" h="37820">
                <a:moveTo>
                  <a:pt x="3794" y="11904"/>
                </a:moveTo>
                <a:lnTo>
                  <a:pt x="17806" y="18910"/>
                </a:lnTo>
                <a:lnTo>
                  <a:pt x="3794" y="25917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AutoShape 27">
            <a:hlinkClick r:id="rId15" action="ppaction://hlinksldjump"/>
          </p:cNvPr>
          <p:cNvSpPr/>
          <p:nvPr/>
        </p:nvSpPr>
        <p:spPr>
          <a:xfrm>
            <a:off x="6012000" y="3500280"/>
            <a:ext cx="360360" cy="576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576360"/>
              <a:gd name="textAreaBottom" fmla="*/ 553320 h 576360"/>
            </a:gdLst>
            <a:ahLst/>
            <a:rect l="textAreaLeft" t="textAreaTop" r="textAreaRight" b="textAreaBottom"/>
            <a:pathLst>
              <a:path w="21600" h="34534">
                <a:moveTo>
                  <a:pt x="0" y="0"/>
                </a:moveTo>
                <a:lnTo>
                  <a:pt x="21600" y="0"/>
                </a:lnTo>
                <a:lnTo>
                  <a:pt x="21600" y="34534"/>
                </a:lnTo>
                <a:lnTo>
                  <a:pt x="0" y="34534"/>
                </a:lnTo>
                <a:close/>
              </a:path>
              <a:path fill="lightenLess" w="21600" h="3453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4534">
                <a:moveTo>
                  <a:pt x="21600" y="0"/>
                </a:moveTo>
                <a:lnTo>
                  <a:pt x="21600" y="34534"/>
                </a:lnTo>
                <a:lnTo>
                  <a:pt x="20200" y="33134"/>
                </a:lnTo>
                <a:lnTo>
                  <a:pt x="20200" y="1400"/>
                </a:lnTo>
                <a:close/>
              </a:path>
              <a:path fill="darkenLess" w="21600" h="34534">
                <a:moveTo>
                  <a:pt x="21600" y="34534"/>
                </a:moveTo>
                <a:lnTo>
                  <a:pt x="0" y="34534"/>
                </a:lnTo>
                <a:lnTo>
                  <a:pt x="1400" y="33134"/>
                </a:lnTo>
                <a:lnTo>
                  <a:pt x="20200" y="33134"/>
                </a:lnTo>
                <a:close/>
              </a:path>
              <a:path fill="lighten" w="21600" h="34534">
                <a:moveTo>
                  <a:pt x="0" y="34534"/>
                </a:moveTo>
                <a:lnTo>
                  <a:pt x="0" y="0"/>
                </a:lnTo>
                <a:lnTo>
                  <a:pt x="1400" y="1400"/>
                </a:lnTo>
                <a:lnTo>
                  <a:pt x="1400" y="33134"/>
                </a:lnTo>
                <a:close/>
              </a:path>
              <a:path fill="darken" w="21600" h="34534">
                <a:moveTo>
                  <a:pt x="3794" y="10261"/>
                </a:moveTo>
                <a:lnTo>
                  <a:pt x="17806" y="17267"/>
                </a:lnTo>
                <a:lnTo>
                  <a:pt x="3794" y="24274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AutoShape 28">
            <a:hlinkClick r:id="rId16" action="ppaction://hlinksldjump"/>
          </p:cNvPr>
          <p:cNvSpPr/>
          <p:nvPr/>
        </p:nvSpPr>
        <p:spPr>
          <a:xfrm>
            <a:off x="1476360" y="5589720"/>
            <a:ext cx="431640" cy="4316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AutoShape 29">
            <a:hlinkClick r:id="rId17" action="ppaction://hlinksldjump"/>
          </p:cNvPr>
          <p:cNvSpPr/>
          <p:nvPr/>
        </p:nvSpPr>
        <p:spPr>
          <a:xfrm>
            <a:off x="3851280" y="5445000"/>
            <a:ext cx="433440" cy="576360"/>
          </a:xfrm>
          <a:custGeom>
            <a:avLst/>
            <a:gdLst>
              <a:gd name="textAreaLeft" fmla="*/ 28080 w 433440"/>
              <a:gd name="textAreaRight" fmla="*/ 405360 w 433440"/>
              <a:gd name="textAreaTop" fmla="*/ 28080 h 576360"/>
              <a:gd name="textAreaBottom" fmla="*/ 548280 h 576360"/>
            </a:gdLst>
            <a:ahLst/>
            <a:rect l="textAreaLeft" t="textAreaTop" r="textAreaRight" b="textAreaBottom"/>
            <a:pathLst>
              <a:path w="21600" h="28716">
                <a:moveTo>
                  <a:pt x="0" y="0"/>
                </a:moveTo>
                <a:lnTo>
                  <a:pt x="21600" y="0"/>
                </a:lnTo>
                <a:lnTo>
                  <a:pt x="21600" y="28716"/>
                </a:lnTo>
                <a:lnTo>
                  <a:pt x="0" y="28716"/>
                </a:lnTo>
                <a:close/>
              </a:path>
              <a:path fill="lightenLess" w="21600" h="2871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16">
                <a:moveTo>
                  <a:pt x="21600" y="0"/>
                </a:moveTo>
                <a:lnTo>
                  <a:pt x="21600" y="28716"/>
                </a:lnTo>
                <a:lnTo>
                  <a:pt x="20200" y="27316"/>
                </a:lnTo>
                <a:lnTo>
                  <a:pt x="20200" y="1400"/>
                </a:lnTo>
                <a:close/>
              </a:path>
              <a:path fill="darkenLess" w="21600" h="28716">
                <a:moveTo>
                  <a:pt x="21600" y="28716"/>
                </a:moveTo>
                <a:lnTo>
                  <a:pt x="0" y="28716"/>
                </a:lnTo>
                <a:lnTo>
                  <a:pt x="1400" y="27316"/>
                </a:lnTo>
                <a:lnTo>
                  <a:pt x="20200" y="27316"/>
                </a:lnTo>
                <a:close/>
              </a:path>
              <a:path fill="lighten" w="21600" h="28716">
                <a:moveTo>
                  <a:pt x="0" y="28716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16"/>
                </a:lnTo>
                <a:close/>
              </a:path>
              <a:path fill="darken" w="21600" h="28716">
                <a:moveTo>
                  <a:pt x="3794" y="7352"/>
                </a:moveTo>
                <a:lnTo>
                  <a:pt x="17806" y="14358"/>
                </a:lnTo>
                <a:lnTo>
                  <a:pt x="3794" y="21365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AutoShape 30"/>
          <p:cNvSpPr/>
          <p:nvPr/>
        </p:nvSpPr>
        <p:spPr>
          <a:xfrm>
            <a:off x="6156360" y="5373720"/>
            <a:ext cx="287280" cy="64764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647640"/>
              <a:gd name="textAreaBottom" fmla="*/ 629280 h 647640"/>
            </a:gdLst>
            <a:ahLst/>
            <a:rect l="textAreaLeft" t="textAreaTop" r="textAreaRight" b="textAreaBottom"/>
            <a:pathLst>
              <a:path w="21600" h="48661">
                <a:moveTo>
                  <a:pt x="0" y="0"/>
                </a:moveTo>
                <a:lnTo>
                  <a:pt x="21600" y="0"/>
                </a:lnTo>
                <a:lnTo>
                  <a:pt x="21600" y="48661"/>
                </a:lnTo>
                <a:lnTo>
                  <a:pt x="0" y="48661"/>
                </a:lnTo>
                <a:close/>
              </a:path>
              <a:path fill="lightenLess" w="21600" h="4866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48661">
                <a:moveTo>
                  <a:pt x="21600" y="0"/>
                </a:moveTo>
                <a:lnTo>
                  <a:pt x="21600" y="48661"/>
                </a:lnTo>
                <a:lnTo>
                  <a:pt x="20200" y="47261"/>
                </a:lnTo>
                <a:lnTo>
                  <a:pt x="20200" y="1400"/>
                </a:lnTo>
                <a:close/>
              </a:path>
              <a:path fill="darkenLess" w="21600" h="48661">
                <a:moveTo>
                  <a:pt x="21600" y="48661"/>
                </a:moveTo>
                <a:lnTo>
                  <a:pt x="0" y="48661"/>
                </a:lnTo>
                <a:lnTo>
                  <a:pt x="1400" y="47261"/>
                </a:lnTo>
                <a:lnTo>
                  <a:pt x="20200" y="47261"/>
                </a:lnTo>
                <a:close/>
              </a:path>
              <a:path fill="lighten" w="21600" h="48661">
                <a:moveTo>
                  <a:pt x="0" y="48661"/>
                </a:moveTo>
                <a:lnTo>
                  <a:pt x="0" y="0"/>
                </a:lnTo>
                <a:lnTo>
                  <a:pt x="1400" y="1400"/>
                </a:lnTo>
                <a:lnTo>
                  <a:pt x="1400" y="47261"/>
                </a:lnTo>
                <a:close/>
              </a:path>
              <a:path fill="darken" w="21600" h="48661">
                <a:moveTo>
                  <a:pt x="3794" y="17324"/>
                </a:moveTo>
                <a:lnTo>
                  <a:pt x="17806" y="24330"/>
                </a:lnTo>
                <a:lnTo>
                  <a:pt x="3794" y="31337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067280" y="6597720"/>
            <a:ext cx="50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 Rounded MT Bold"/>
              </a:rPr>
              <a:t>©MFL Sunderland 2010 AW http://www.sunderlandschools.org/mfl-sunderla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AutoShape 3">
            <a:hlinkClick r:id="" action="ppaction://hlinkshowjump?jump=firstslide"/>
          </p:cNvPr>
          <p:cNvSpPr/>
          <p:nvPr/>
        </p:nvSpPr>
        <p:spPr>
          <a:xfrm>
            <a:off x="152280" y="59436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4360" y="1412640"/>
            <a:ext cx="7772400" cy="1863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Comment passerez-vous vos temps libre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7c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4360" y="1412640"/>
            <a:ext cx="7772400" cy="1863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Parlerez-vous avec vos amis de 2010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4">
            <a:hlinkClick r:id="" action="ppaction://hlinkshowjump?jump=firstslide"/>
          </p:cNvPr>
          <p:cNvSpPr/>
          <p:nvPr/>
        </p:nvSpPr>
        <p:spPr>
          <a:xfrm>
            <a:off x="152280" y="59436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AutoShape 4">
            <a:hlinkClick r:id="" action="ppaction://hlinkshowjump?jump=firstslide"/>
          </p:cNvPr>
          <p:cNvSpPr/>
          <p:nvPr/>
        </p:nvSpPr>
        <p:spPr>
          <a:xfrm>
            <a:off x="152280" y="59436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4360" y="1412640"/>
            <a:ext cx="7772400" cy="1863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Vous-aurez quel âge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AutoShape 1028">
            <a:hlinkClick r:id="" action="ppaction://hlinkshowjump?jump=firstslide"/>
          </p:cNvPr>
          <p:cNvSpPr/>
          <p:nvPr/>
        </p:nvSpPr>
        <p:spPr>
          <a:xfrm>
            <a:off x="152280" y="59436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915920"/>
            <a:ext cx="7772400" cy="2881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Serez-vous travailleur ou étudiant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AutoShape 1028">
            <a:hlinkClick r:id="" action="ppaction://hlinkshowjump?jump=firstslide"/>
          </p:cNvPr>
          <p:cNvSpPr/>
          <p:nvPr/>
        </p:nvSpPr>
        <p:spPr>
          <a:xfrm>
            <a:off x="152280" y="59436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55640" y="1412640"/>
            <a:ext cx="7772400" cy="1863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Où partirez-vous en vacances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AutoShape 4">
            <a:hlinkClick r:id="" action="ppaction://hlinkshowjump?jump=firstslide"/>
          </p:cNvPr>
          <p:cNvSpPr/>
          <p:nvPr/>
        </p:nvSpPr>
        <p:spPr>
          <a:xfrm>
            <a:off x="152280" y="59436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4360" y="1412640"/>
            <a:ext cx="7772400" cy="1863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Serez-vous riche?  Serez-vous content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AutoShape 4">
            <a:hlinkClick r:id="" action="ppaction://hlinkshowjump?jump=firstslide"/>
          </p:cNvPr>
          <p:cNvSpPr/>
          <p:nvPr/>
        </p:nvSpPr>
        <p:spPr>
          <a:xfrm>
            <a:off x="152280" y="59436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4360" y="1412640"/>
            <a:ext cx="7772400" cy="1863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Habiterez-vous avec vos parents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AutoShape 3">
            <a:hlinkClick r:id="" action="ppaction://hlinkshowjump?jump=firstslide"/>
          </p:cNvPr>
          <p:cNvSpPr/>
          <p:nvPr/>
        </p:nvSpPr>
        <p:spPr>
          <a:xfrm>
            <a:off x="152280" y="59436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4360" y="1412640"/>
            <a:ext cx="7772400" cy="1863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Resterez-vous en Angleterre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AutoShape 3">
            <a:hlinkClick r:id="" action="ppaction://hlinkshowjump?jump=firstslide"/>
          </p:cNvPr>
          <p:cNvSpPr/>
          <p:nvPr/>
        </p:nvSpPr>
        <p:spPr>
          <a:xfrm>
            <a:off x="152280" y="59436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4360" y="1412640"/>
            <a:ext cx="7772400" cy="1863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Aurez-vous des enfants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4T18:19:49Z</dcterms:created>
  <dc:creator>Mr M Green</dc:creator>
  <dc:description/>
  <dc:language>en-US</dc:language>
  <cp:lastModifiedBy>Clare Seccombe</cp:lastModifiedBy>
  <dcterms:modified xsi:type="dcterms:W3CDTF">2010-12-07T10:34:45Z</dcterms:modified>
  <cp:revision>12</cp:revision>
  <dc:subject/>
  <dc:title>PowerPoint Presentation</dc:title>
</cp:coreProperties>
</file>