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F158-910D-4031-9EEF-B538D1D1C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2C75-62A6-4E87-819E-10EE3ADAD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8F86-A244-4806-B89C-F323CC25B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65F7-E48A-4342-8C2A-EAF069F13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C9E5-BF65-46B9-846A-715B89D69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FCD6-8101-412E-9F7B-44A3DEDB0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E0B4-CEF1-4CF9-9964-24D28D730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F418-6DAC-4703-B702-716A5F56F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7A5E-4CD9-4320-9768-738FAE855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2458-8388-4F49-8CAE-2C466947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EA36-14D5-441D-9F8E-B685B350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3594-B0CC-4A17-8E79-FB1F96F4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4E6D2-A462-4A59-B442-13F3F423DFB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 coup de foudre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e pense qu’il/elle a l’air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e ne pourrais jama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ns aucune doute je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l/elle ne me dit rie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ur moi le plus important c’es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MC900441735[1]"/>
          <p:cNvPicPr/>
          <p:nvPr/>
        </p:nvPicPr>
        <p:blipFill>
          <a:blip r:embed="rId1"/>
          <a:stretch/>
        </p:blipFill>
        <p:spPr>
          <a:xfrm>
            <a:off x="6732720" y="404640"/>
            <a:ext cx="1876320" cy="18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mbrasse, épouse ou évi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ANd9GcR2-zd0vjLEW7BqLMtsvIMovJm4T0nIp-654mmHOXTPp0SGl2a2"/>
          <p:cNvPicPr/>
          <p:nvPr/>
        </p:nvPicPr>
        <p:blipFill>
          <a:blip r:embed="rId1"/>
          <a:stretch/>
        </p:blipFill>
        <p:spPr>
          <a:xfrm>
            <a:off x="2268360" y="1916280"/>
            <a:ext cx="4032360" cy="39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mbrasse, épouse ou évi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s tatto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voir recours à la chirug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sthét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ANd9GcRV6aDH1Z98iVE_gMumfY1DlnepgCIRGC0OPeZQjwfJ0eArZQdf"/>
          <p:cNvPicPr/>
          <p:nvPr/>
        </p:nvPicPr>
        <p:blipFill>
          <a:blip r:embed="rId1"/>
          <a:stretch/>
        </p:blipFill>
        <p:spPr>
          <a:xfrm>
            <a:off x="2700360" y="1197000"/>
            <a:ext cx="340200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mbrasse, épouse ou évi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6"/>
          <p:cNvSpPr/>
          <p:nvPr/>
        </p:nvSpPr>
        <p:spPr>
          <a:xfrm>
            <a:off x="5219640" y="3500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Kings"/>
          <p:cNvPicPr/>
          <p:nvPr/>
        </p:nvPicPr>
        <p:blipFill>
          <a:blip r:embed="rId1"/>
          <a:stretch/>
        </p:blipFill>
        <p:spPr>
          <a:xfrm>
            <a:off x="1258920" y="1341360"/>
            <a:ext cx="6265800" cy="427212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  <p:sp>
        <p:nvSpPr>
          <p:cNvPr id="52" name="AutoShape 11"/>
          <p:cNvSpPr/>
          <p:nvPr/>
        </p:nvSpPr>
        <p:spPr>
          <a:xfrm>
            <a:off x="5219640" y="2205000"/>
            <a:ext cx="1008000" cy="936720"/>
          </a:xfrm>
          <a:prstGeom prst="leftArrow">
            <a:avLst>
              <a:gd name="adj1" fmla="val 50000"/>
              <a:gd name="adj2" fmla="val 26902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mbrasse, épouse ou évi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ANd9GcRsml3wEi3Hag3hE7JA9LbtoE38SexMI_JPDtOJO9MIQ4Jkevj9Rg"/>
          <p:cNvPicPr/>
          <p:nvPr/>
        </p:nvPicPr>
        <p:blipFill>
          <a:blip r:embed="rId1"/>
          <a:stretch/>
        </p:blipFill>
        <p:spPr>
          <a:xfrm>
            <a:off x="1908000" y="1341360"/>
            <a:ext cx="5712120" cy="45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mbrasse, épouse ou évi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ANd9GcRft_TwPTjRyz6afFCQvuTs6Xjd8n8DnZX6p9JCLwSGQlwC9wmW"/>
          <p:cNvPicPr/>
          <p:nvPr/>
        </p:nvPicPr>
        <p:blipFill>
          <a:blip r:embed="rId1"/>
          <a:stretch/>
        </p:blipFill>
        <p:spPr>
          <a:xfrm>
            <a:off x="2340000" y="1197000"/>
            <a:ext cx="4043160" cy="53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mbrasse, épouse ou évi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Photo"/>
          <p:cNvPicPr/>
          <p:nvPr/>
        </p:nvPicPr>
        <p:blipFill>
          <a:blip r:embed="rId1"/>
          <a:srcRect l="6565" t="0" r="0" b="0"/>
          <a:stretch/>
        </p:blipFill>
        <p:spPr>
          <a:xfrm>
            <a:off x="2190600" y="1197000"/>
            <a:ext cx="506916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4T10:54:24Z</dcterms:created>
  <dc:creator>User</dc:creator>
  <dc:description/>
  <dc:language>en-US</dc:language>
  <cp:lastModifiedBy>Clare Seccombe</cp:lastModifiedBy>
  <dcterms:modified xsi:type="dcterms:W3CDTF">2014-04-14T21:02:13Z</dcterms:modified>
  <cp:revision>15</cp:revision>
  <dc:subject/>
  <dc:title>“What difference is this going to make for the pupils and how will we know?”</dc:title>
</cp:coreProperties>
</file>