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A75-DC57-43D6-AD53-DF5614F1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5F1-ADFA-40EC-8311-72798B7E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006-7E87-4CD6-B94E-4563886A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BF4-F8F7-4A8C-BC97-3D5D26C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899-62CF-4EB0-BBA2-E27EE39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5F4-C133-4C11-B772-0FD1E80D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977-A3F8-4F87-BE69-7062B73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1BD-BD1D-4289-A8F5-732E890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49A-31BB-4E21-B04F-DB8785E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358-428E-43C6-8569-479D839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564-7559-4617-A1DE-361630E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178-2969-49DB-B8A2-884387EB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507-F3F5-4E0F-83AF-B1F54274D0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p de foud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ense qu’il/elle a l’ai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ne pourrais jama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s aucune doute j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/elle ne me dit ri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ur moi le plus important c’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441735[1]"/>
          <p:cNvPicPr/>
          <p:nvPr/>
        </p:nvPicPr>
        <p:blipFill>
          <a:blip r:embed="rId1"/>
          <a:stretch/>
        </p:blipFill>
        <p:spPr>
          <a:xfrm>
            <a:off x="6732720" y="404640"/>
            <a:ext cx="18763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ANd9GcR2-zd0vjLEW7BqLMtsvIMovJm4T0nIp-654mmHOXTPp0SGl2a2"/>
          <p:cNvPicPr/>
          <p:nvPr/>
        </p:nvPicPr>
        <p:blipFill>
          <a:blip r:embed="rId1"/>
          <a:stretch/>
        </p:blipFill>
        <p:spPr>
          <a:xfrm>
            <a:off x="2268360" y="1916280"/>
            <a:ext cx="40323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s tatto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oir recours à la chiru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hé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RV6aDH1Z98iVE_gMumfY1DlnepgCIRGC0OPeZQjwfJ0eArZQdf"/>
          <p:cNvPicPr/>
          <p:nvPr/>
        </p:nvPicPr>
        <p:blipFill>
          <a:blip r:embed="rId1"/>
          <a:stretch/>
        </p:blipFill>
        <p:spPr>
          <a:xfrm>
            <a:off x="2700360" y="1197000"/>
            <a:ext cx="340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21964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Kings"/>
          <p:cNvPicPr/>
          <p:nvPr/>
        </p:nvPicPr>
        <p:blipFill>
          <a:blip r:embed="rId1"/>
          <a:stretch/>
        </p:blipFill>
        <p:spPr>
          <a:xfrm>
            <a:off x="1258920" y="1341360"/>
            <a:ext cx="6265800" cy="427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2" name="AutoShape 11"/>
          <p:cNvSpPr/>
          <p:nvPr/>
        </p:nvSpPr>
        <p:spPr>
          <a:xfrm>
            <a:off x="5219640" y="2205000"/>
            <a:ext cx="1008000" cy="936720"/>
          </a:xfrm>
          <a:prstGeom prst="leftArrow">
            <a:avLst>
              <a:gd name="adj1" fmla="val 50000"/>
              <a:gd name="adj2" fmla="val 26902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Nd9GcRsml3wEi3Hag3hE7JA9LbtoE38SexMI_JPDtOJO9MIQ4Jkevj9Rg"/>
          <p:cNvPicPr/>
          <p:nvPr/>
        </p:nvPicPr>
        <p:blipFill>
          <a:blip r:embed="rId1"/>
          <a:stretch/>
        </p:blipFill>
        <p:spPr>
          <a:xfrm>
            <a:off x="1908000" y="1341360"/>
            <a:ext cx="571212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ft_TwPTjRyz6afFCQvuTs6Xjd8n8DnZX6p9JCLwSGQlwC9wmW"/>
          <p:cNvPicPr/>
          <p:nvPr/>
        </p:nvPicPr>
        <p:blipFill>
          <a:blip r:embed="rId1"/>
          <a:stretch/>
        </p:blipFill>
        <p:spPr>
          <a:xfrm>
            <a:off x="2340000" y="1197000"/>
            <a:ext cx="40431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hoto"/>
          <p:cNvPicPr/>
          <p:nvPr/>
        </p:nvPicPr>
        <p:blipFill>
          <a:blip r:embed="rId1"/>
          <a:srcRect l="6565" t="0" r="0" b="0"/>
          <a:stretch/>
        </p:blipFill>
        <p:spPr>
          <a:xfrm>
            <a:off x="2190600" y="1197000"/>
            <a:ext cx="50691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0:54:24Z</dcterms:created>
  <dc:creator>User</dc:creator>
  <dc:description/>
  <dc:language>en-US</dc:language>
  <cp:lastModifiedBy>Clare Seccombe</cp:lastModifiedBy>
  <dcterms:modified xsi:type="dcterms:W3CDTF">2014-04-14T21:02:13Z</dcterms:modified>
  <cp:revision>15</cp:revision>
  <dc:subject/>
  <dc:title>“What difference is this going to make for the pupils and how will we know?”</dc:title>
</cp:coreProperties>
</file>