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360" y="32893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Quel mot indique le fut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8520" y="465444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jourd’h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4560" y="4659480"/>
            <a:ext cx="27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amedi dern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4960" y="55609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undi pro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4560" y="553248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vant h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1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920" y="3289320"/>
            <a:ext cx="85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9. Quel mot ou expression indique le pass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6800" y="556884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lus t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7760" y="556884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ous les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4160" y="465120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 week-end dern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6000" y="46674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int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525760"/>
            <a:ext cx="1481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"/>
                            </p:stCondLst>
                            <p:childTnLst>
                              <p:par>
                                <p:cTn id="3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4080" y="328932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0. O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ù peut-on faire du lèche-vitr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5840" y="465444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iné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8040" y="556884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À la m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63720" y="55688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ollè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37800" y="46512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u centre v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280" y="2525760"/>
            <a:ext cx="1523880" cy="4597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960" y="3355920"/>
            <a:ext cx="884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11. Quel sorte de passe-temps est “jouer de la batterie”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8760" y="55688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 jeu de ca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280" y="556884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Une sor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7400" y="465120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e la mu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6080" y="46674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u 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25760"/>
            <a:ext cx="15256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3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9280" y="328932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Qu’est-ce qui n’est pas au collège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5640" y="46544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es profess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4640" y="556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ca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6680" y="5568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a bibliothè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1480" y="4651200"/>
            <a:ext cx="33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L’homme d’aff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8480" y="2525760"/>
            <a:ext cx="15969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3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0000" y="328932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Que 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peut-on mettre dans un classe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880" y="465444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s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440" y="46450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es sty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43560" y="556884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Un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0" y="556092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u pa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6960" y="2525760"/>
            <a:ext cx="17985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3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9280" y="328932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4. À quel âge va-t-on au collège en Fr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3040" y="465444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ntre 11 et 18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4600" y="556884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vant 11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3640" y="556884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près 15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86240" y="46512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ntre 11 et 15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6960" y="2525760"/>
            <a:ext cx="18288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800" y="3289320"/>
            <a:ext cx="76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5. Traduis: “He goes to school by car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080" y="4653000"/>
            <a:ext cx="398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empus Sans ITC"/>
              </a:rPr>
              <a:t>Je vais au collège en c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9520" y="4645080"/>
            <a:ext cx="38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va au collège à 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7640" y="555480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l vas au collège en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9880" y="5581800"/>
            <a:ext cx="398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Tempus Sans ITC"/>
              </a:rPr>
              <a:t>Il va au collège en voi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6640" y="2525760"/>
            <a:ext cx="1989360" cy="4597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00"/>
                            </p:stCondLst>
                            <p:childTnLst>
                              <p:par>
                                <p:cTn id="59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7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GCSE français: thè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680" y="3289320"/>
            <a:ext cx="81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.Lequel de ces mots est un article d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éfin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3480" y="556884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64080" y="556884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73720" y="46512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9440" y="46674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quel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520" y="3289320"/>
            <a:ext cx="67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Lequel de ces mots est un n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5720" y="465444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io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8640" y="55688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o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04400" y="55688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54000" y="465120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h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600" y="325908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3. Lequel de ces mots est un adjecti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4240" y="465768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Regard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61560" y="466236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uj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1080" y="5600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ard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56070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Diffic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760" y="3289320"/>
            <a:ext cx="58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Quelle opinion est posi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8320" y="5556240"/>
            <a:ext cx="40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trouve ça ennuyeu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2600" y="556884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Ça m’én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2240" y="4651200"/>
            <a:ext cx="36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trouve ça chou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04320" y="4667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C’est trop diffic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8400" y="3289320"/>
            <a:ext cx="66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Traduis: “my father is quite t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02000" y="55864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est assez g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520" y="46972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est assez g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15400" y="47131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est très g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8280" y="558000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on p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ère est én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1040" y="3260880"/>
            <a:ext cx="85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Comment dit-on “My mum is called Lisa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9760" y="4632480"/>
            <a:ext cx="384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mère m’appelle Li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9320" y="5591160"/>
            <a:ext cx="399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on mère s’appelle Lis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71040" y="55864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Ma mère qui s’appelle 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6960" y="4673520"/>
            <a:ext cx="37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mère s’appelle Lis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000" y="32893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Traduis: “My sister is hard work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3160" y="4648320"/>
            <a:ext cx="349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sœur est heureu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00640" y="4667400"/>
            <a:ext cx="386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sœur est travailleu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4320" y="5591160"/>
            <a:ext cx="404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sœur est paresseus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8120" y="5583240"/>
            <a:ext cx="398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Ma sœur est travaille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8680" y="2525760"/>
            <a:ext cx="1335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3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1:53:39Z</dcterms:modified>
  <cp:revision>46</cp:revision>
  <dc:subject/>
  <dc:title>MillionnaireGCSE-Th1FR</dc:title>
</cp:coreProperties>
</file>