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9560" y="3260880"/>
            <a:ext cx="72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8. Comment dit-on “to book a room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3320" y="5554800"/>
            <a:ext cx="39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ayer pour la c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58960" y="556884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nnuler la c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465120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Réserver une c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9880" y="46674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ouer une c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8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7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3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9880" y="3289320"/>
            <a:ext cx="87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9. Qu’est-ce qu’on peut laver dans la linger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80" y="55688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sa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9160" y="5568840"/>
            <a:ext cx="22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s assiet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0120" y="465120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s vê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8000" y="466740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poub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8680" y="2525760"/>
            <a:ext cx="14796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6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00"/>
                            </p:stCondLst>
                            <p:childTnLst>
                              <p:par>
                                <p:cTn id="34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7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8280" y="3289320"/>
            <a:ext cx="61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0. O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ù peut-on faire de la lu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7720" y="465444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bord de la 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6120" y="556884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a campa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34560" y="556884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centre v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28440" y="465120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a monta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8680" y="2525760"/>
            <a:ext cx="156708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00"/>
                            </p:stCondLst>
                            <p:childTnLst>
                              <p:par>
                                <p:cTn id="38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00"/>
                            </p:stCondLst>
                            <p:childTnLst>
                              <p:par>
                                <p:cTn id="38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3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6440" y="3289320"/>
            <a:ext cx="81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1. Que demande-t-on à la fin d’un rep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8320" y="46544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rec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50040" y="46594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e 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65880" y="556092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’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200" y="553248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s couv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58680" y="2525760"/>
            <a:ext cx="1524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6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"/>
                            </p:stCondLst>
                            <p:childTnLst>
                              <p:par>
                                <p:cTn id="42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700"/>
                            </p:stCondLst>
                            <p:childTnLst>
                              <p:par>
                                <p:cTn id="42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3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920" y="328932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2. Qu’est-ce qu’on mange le so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9600" y="465444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déjeu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0720" y="55688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petit-déjeu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34200" y="556884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goû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45720" y="465120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e d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0040" y="2525760"/>
            <a:ext cx="16984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25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100"/>
                            </p:stCondLst>
                            <p:childTnLst>
                              <p:par>
                                <p:cTn id="46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00"/>
                            </p:stCondLst>
                            <p:childTnLst>
                              <p:par>
                                <p:cTn id="46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3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760" y="3289320"/>
            <a:ext cx="69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3. Que 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peut-on acheter à la pos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880" y="465444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Un s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54280" y="46450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es souven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89560" y="556884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Un paraplu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800" y="556092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es ti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5160" y="2525760"/>
            <a:ext cx="18306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5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700"/>
                            </p:stCondLst>
                            <p:childTnLst>
                              <p:par>
                                <p:cTn id="50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3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7280" y="328932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4. Que faut-il utiliser au sole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960" y="465444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s pans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26480" y="4645080"/>
            <a:ext cx="38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crème antisep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43480" y="556092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crème so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7200" y="553248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sa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2800" y="2525760"/>
            <a:ext cx="18273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00"/>
                            </p:stCondLst>
                            <p:childTnLst>
                              <p:par>
                                <p:cTn id="53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700"/>
                            </p:stCondLst>
                            <p:childTnLst>
                              <p:par>
                                <p:cTn id="54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3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080" y="32893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5. Comment dit-on “It will be windy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" y="46544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fait du 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3520" y="556884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faisait du 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97120" y="556884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a fait du 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3520" y="465120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fera du 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9720" y="2525760"/>
            <a:ext cx="198756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00"/>
                            </p:stCondLst>
                            <p:childTnLst>
                              <p:par>
                                <p:cTn id="58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700"/>
                            </p:stCondLst>
                            <p:childTnLst>
                              <p:par>
                                <p:cTn id="5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3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  à “QUI VEUT GAGNER DES MILLION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440" y="4700520"/>
            <a:ext cx="804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nombre de réponses correctes que tu as obtenues s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montant que tu as gagné (maximum: 1 million d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90880"/>
            <a:ext cx="9144000" cy="3514680"/>
          </a:xfrm>
          <a:prstGeom prst="wedgeRoundRectCallout">
            <a:avLst>
              <a:gd name="adj1" fmla="val 32847"/>
              <a:gd name="adj2" fmla="val -91736"/>
              <a:gd name="adj3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3062160"/>
            <a:ext cx="85485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Merci encore d’avoir joué avec nou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Bravo et à la prochaine fois!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Au revoi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GCSE français, Thè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040" y="4483080"/>
            <a:ext cx="782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on nom et t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s numéros de 1 à 15 (1 numéro par lig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40" y="3289320"/>
            <a:ext cx="92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.Laquelle de ces expressions indique le pass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6840" y="556884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Tous les j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6640" y="5568840"/>
            <a:ext cx="29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haque sem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4160" y="4651200"/>
            <a:ext cx="35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week-end dern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40880" y="4689360"/>
            <a:ext cx="399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Les vacances prochai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3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4320" y="3289320"/>
            <a:ext cx="79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2. Où peut-on réserver un billet d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4120" y="465444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ans la salle d’at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160" y="556884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a mai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8840" y="5568840"/>
            <a:ext cx="33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centre d’accu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65160" y="465120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guic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94320" y="3297240"/>
            <a:ext cx="935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3. Quel type de billet permet de revenir au point de dépar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6400" y="4611600"/>
            <a:ext cx="31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offre spéc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82720" y="461628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aller si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55000" y="555480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 ca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8400" y="556092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aller-ret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400" y="3289320"/>
            <a:ext cx="63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4. Comment dit-on “a fortnigh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160" y="555624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Quinze n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4400" y="556884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Quatoze n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520" y="465120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quinz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1640" y="4667400"/>
            <a:ext cx="29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quatorz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320" y="3289320"/>
            <a:ext cx="72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5. Comment dit-on “next Christmas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5240" y="55404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Noël précé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960" y="4651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Noël pro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1680" y="46674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Noël dern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0440" y="553392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Noël sui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80" y="3260880"/>
            <a:ext cx="88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6. Sans quoi ne peut-on pas aller à l’étrang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7240" y="461016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carnet de chè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680" y="5568840"/>
            <a:ext cx="32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plan de la vil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29160" y="554040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va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70480" y="465120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pass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7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3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07640" y="3274920"/>
            <a:ext cx="92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7. Quel est le temps idéal pour se faire bronz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200" y="462600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plu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07560" y="46450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brouill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56520" y="55688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’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5960" y="55609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sol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8680" y="2525760"/>
            <a:ext cx="14227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00"/>
                            </p:stCondLst>
                            <p:childTnLst>
                              <p:par>
                                <p:cTn id="27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00"/>
                            </p:stCondLst>
                            <p:childTnLst>
                              <p:par>
                                <p:cTn id="27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5-02-03T11:57:31Z</dcterms:modified>
  <cp:revision>47</cp:revision>
  <dc:subject/>
  <dc:title>MillionnaireGCSE-Th2FR</dc:title>
</cp:coreProperties>
</file>