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0280" y="32893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8. Comment dit-on “Can I help you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1400" y="465444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uis-je aider to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5840" y="556884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uis-je toi ai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56080" y="465948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uis-je aider vo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6080" y="55609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uis-je vous ai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8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1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3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6440" y="3289320"/>
            <a:ext cx="71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9. Que conduit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 un chauffeur rout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8560" y="556884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69480" y="556884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9800" y="465120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cam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5680" y="46674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6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"/>
                            </p:stCondLst>
                            <p:childTnLst>
                              <p:par>
                                <p:cTn id="35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7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200" y="328932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0. O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ù travaille une vende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880" y="465444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ans un ga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2640" y="55688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ans une u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7080" y="5568840"/>
            <a:ext cx="28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ans un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9800" y="46512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ans un maga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87400" y="2525760"/>
            <a:ext cx="160956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00"/>
                            </p:stCondLst>
                            <p:childTnLst>
                              <p:par>
                                <p:cTn id="39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7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960" y="3289320"/>
            <a:ext cx="64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1. Quel plat est le plus mals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440" y="561492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Une soupe aux lég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8520" y="5614920"/>
            <a:ext cx="38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Des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â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es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à la bologn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7960" y="469728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Du poisson avec des f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97400" y="47131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Une omelette avec sa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8960" y="2525760"/>
            <a:ext cx="15364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6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00"/>
                            </p:stCondLst>
                            <p:childTnLst>
                              <p:par>
                                <p:cTn id="43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3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640" y="3289320"/>
            <a:ext cx="76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2. Qu’est-ce qui est bon pour la sant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280" y="4654440"/>
            <a:ext cx="36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s mati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s gr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920" y="55688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nger au fast-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83360" y="556884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Fumer des cigaret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0280" y="465120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s fruits et l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g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0400" y="2525760"/>
            <a:ext cx="16225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25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"/>
                            </p:stCondLst>
                            <p:childTnLst>
                              <p:par>
                                <p:cTn id="47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3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5480" y="3289320"/>
            <a:ext cx="78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3. O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ù peut-on acheter un rôti de bœu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7800" y="465444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À la boulang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90640" y="4645080"/>
            <a:ext cx="27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À la charcut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8360" y="556884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À la confi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6160" y="556092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À la bouch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2511360"/>
            <a:ext cx="17240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5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3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3520" y="3289320"/>
            <a:ext cx="73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4. Comment dit-on “I am saving up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465444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suis sauvegard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640" y="556884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suis sans le s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8400" y="556884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besoin d’ar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13960" y="4651200"/>
            <a:ext cx="37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fais des 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4240" y="2525760"/>
            <a:ext cx="17971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"/>
                            </p:stCondLst>
                            <p:childTnLst>
                              <p:par>
                                <p:cTn id="55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00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8800" y="328932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5. Traduis: “I would prefer some lamb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5760" y="465444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pr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fèrerai le can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6520" y="4645080"/>
            <a:ext cx="40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pr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fèrerais le can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95600" y="5568840"/>
            <a:ext cx="37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pr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fèrerai l’agn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840" y="5560920"/>
            <a:ext cx="39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pr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fèrerais l’agn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7360" y="2525760"/>
            <a:ext cx="196992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00"/>
                            </p:stCondLst>
                            <p:childTnLst>
                              <p:par>
                                <p:cTn id="59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700"/>
                            </p:stCondLst>
                            <p:childTnLst>
                              <p:par>
                                <p:cTn id="59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3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440" y="4700520"/>
            <a:ext cx="804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nombre de réponses correctes que tu as obtenues s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montant que tu as gagné (maximum: 1 million d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90880"/>
            <a:ext cx="9144000" cy="3514680"/>
          </a:xfrm>
          <a:prstGeom prst="wedgeRoundRectCallout">
            <a:avLst>
              <a:gd name="adj1" fmla="val 32847"/>
              <a:gd name="adj2" fmla="val -91736"/>
              <a:gd name="adj3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3062160"/>
            <a:ext cx="85485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Merci encore d’avoir joué avec nou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Bravo et à la prochaine fois!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Au revoi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GCSE français: thèm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040" y="4483080"/>
            <a:ext cx="782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n nom et t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s numéros de 1 à 15 (1 numéro par l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89320"/>
            <a:ext cx="64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.Quel est l’article d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fini fémin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3480" y="556884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5680" y="55688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73720" y="465120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12320" y="466740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63520" y="2525760"/>
            <a:ext cx="11019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7880" y="3289320"/>
            <a:ext cx="72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2. Quel est l’article ind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fini mascul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0320" y="46544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556884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04400" y="556884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07640" y="465120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20600" y="2511360"/>
            <a:ext cx="11289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120" y="3300480"/>
            <a:ext cx="883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empus Sans ITC"/>
              </a:rPr>
              <a:t>3. Quel est l’anglais pour “I cleaned the sitting room on Saturday”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8480" y="4680000"/>
            <a:ext cx="382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empus Sans ITC"/>
              </a:rPr>
              <a:t>Je nettoie le salon le same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7360" y="4737240"/>
            <a:ext cx="38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empus Sans ITC"/>
              </a:rPr>
              <a:t>J’ai nettoy</a:t>
            </a:r>
            <a:r>
              <a:rPr b="0" lang="en-GB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 le salon sur sa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7280" y="56008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e nettoyé le salon sa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7400" y="5629320"/>
            <a:ext cx="37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empus Sans ITC"/>
              </a:rPr>
              <a:t>J’ai nettoy</a:t>
            </a:r>
            <a:r>
              <a:rPr b="0" lang="en-GB" sz="2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 le salon same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19160" y="2525760"/>
            <a:ext cx="11160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9440" y="3289320"/>
            <a:ext cx="73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4. Traduis: “I did my work experien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2960" y="5541840"/>
            <a:ext cx="33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faire mon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73360" y="5568840"/>
            <a:ext cx="27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fait ma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6080" y="4651200"/>
            <a:ext cx="31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fait mon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8240" y="4667400"/>
            <a:ext cx="27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fais ma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19160" y="2540160"/>
            <a:ext cx="11286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280" y="3289320"/>
            <a:ext cx="75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5. Traduis: “my father does the dish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98480" y="561492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a fait le mé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1040" y="471168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fait la vaiss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86960" y="471312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a fait la vaiss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080" y="5580000"/>
            <a:ext cx="36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fait le mé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7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3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3240" y="3260880"/>
            <a:ext cx="84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6. Comment dit-on “I have to set the tabl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2360" y="4676760"/>
            <a:ext cx="344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Il faut mettre l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4920" y="5591160"/>
            <a:ext cx="327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Il faut poser l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0880" y="5591160"/>
            <a:ext cx="337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Je dois poser l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46360" y="4673520"/>
            <a:ext cx="355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Je dois mettre l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7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3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9360" y="3289320"/>
            <a:ext cx="81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7. Comment dit-on “I never wash the car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560" y="471492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e ne jamais lave la vo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6640" y="46911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e jamais lave la vo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1360" y="5661000"/>
            <a:ext cx="38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empus Sans ITC"/>
              </a:rPr>
              <a:t>Je ne lave pas jamais la vo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6640" y="560700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e ne lave jamais la vo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100"/>
                            </p:stCondLst>
                            <p:childTnLst>
                              <p:par>
                                <p:cTn id="27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3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02-03T12:00:17Z</dcterms:modified>
  <cp:revision>45</cp:revision>
  <dc:subject/>
  <dc:title>MillionnaireGCSE-Th3FR</dc:title>
</cp:coreProperties>
</file>