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280" y="3260880"/>
            <a:ext cx="85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8. En France, que faut-il pour entrer à la fa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6720" y="461016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Tri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8560" y="556884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e brev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89560" y="55404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’examen bla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0" y="465120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baccalauréat (b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8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7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3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640" y="3286080"/>
            <a:ext cx="89528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Tempus Sans ITC"/>
              </a:rPr>
              <a:t>9. Donne un synonyme de “être bon en anglais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5880" y="46260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’intésser à l’angl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9880" y="4602240"/>
            <a:ext cx="29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Être nul en angl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6600" y="5533920"/>
            <a:ext cx="414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Sécher les cours d’angl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6360" y="5532480"/>
            <a:ext cx="33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Être fort en angl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71560" y="2525760"/>
            <a:ext cx="15098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6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00"/>
                            </p:stCondLst>
                            <p:childTnLst>
                              <p:par>
                                <p:cTn id="34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7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840" y="3297240"/>
            <a:ext cx="88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empus Sans ITC"/>
              </a:rPr>
              <a:t>10. Choisis le synonyme de “(travail)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Tempus Sans ITC"/>
              </a:rPr>
              <a:t>à mi-temps</a:t>
            </a:r>
            <a:r>
              <a:rPr b="0" lang="en-GB" sz="3000" spc="-1" strike="noStrike">
                <a:solidFill>
                  <a:srgbClr val="ffffff"/>
                </a:solidFill>
                <a:latin typeface="Tempus Sans ITC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85960" y="4640400"/>
            <a:ext cx="275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temps com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6720" y="556884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plein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21520" y="556884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mauvais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10160" y="4637160"/>
            <a:ext cx="24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temps part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8680" y="2525760"/>
            <a:ext cx="156708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00"/>
                            </p:stCondLst>
                            <p:childTnLst>
                              <p:par>
                                <p:cTn id="38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00"/>
                            </p:stCondLst>
                            <p:childTnLst>
                              <p:par>
                                <p:cTn id="38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3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9040" y="3289320"/>
            <a:ext cx="87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1. Qu’est-ce qu’il ne faut pas faire au trava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400" y="465444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rriver à l’he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22760" y="46594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Être organis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69040" y="556092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rriver en ret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7920" y="5532480"/>
            <a:ext cx="258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Être bien habil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58680" y="2525760"/>
            <a:ext cx="1524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6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"/>
                            </p:stCondLst>
                            <p:childTnLst>
                              <p:par>
                                <p:cTn id="42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700"/>
                            </p:stCondLst>
                            <p:childTnLst>
                              <p:par>
                                <p:cTn id="42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3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60840" y="3336840"/>
            <a:ext cx="93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12. Choisis la conséquence positive pour quelqu’un qui travai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5000" y="46544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chô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440" y="556884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licenci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5280" y="556884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baisse de sa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50240" y="46512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hausse de sa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0040" y="2525760"/>
            <a:ext cx="16984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25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100"/>
                            </p:stCondLst>
                            <p:childTnLst>
                              <p:par>
                                <p:cTn id="46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00"/>
                            </p:stCondLst>
                            <p:childTnLst>
                              <p:par>
                                <p:cTn id="46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3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0440" y="3289320"/>
            <a:ext cx="75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3. Si on proteste, qu’est-ce qu’on fait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6000" y="465444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Un témoig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56520" y="46450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Un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7840" y="556884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Une am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4360" y="55609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La grè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5160" y="2525760"/>
            <a:ext cx="18306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5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700"/>
                            </p:stCondLst>
                            <p:childTnLst>
                              <p:par>
                                <p:cTn id="50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3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360" y="3289320"/>
            <a:ext cx="68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4. Que fera-t-il l’année procha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8360" y="46544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travaille en v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89120" y="4645080"/>
            <a:ext cx="32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a visité la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98200" y="5560920"/>
            <a:ext cx="21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ira à la f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2720" y="55324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passait son b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2800" y="2525760"/>
            <a:ext cx="18273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00"/>
                            </p:stCondLst>
                            <p:childTnLst>
                              <p:par>
                                <p:cTn id="53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700"/>
                            </p:stCondLst>
                            <p:childTnLst>
                              <p:par>
                                <p:cTn id="54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3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120" y="3289320"/>
            <a:ext cx="57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5. Où a-t-elle fait son st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5000" y="465444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va à l’hô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5520" y="5568840"/>
            <a:ext cx="39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ira dans une u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1760" y="560088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Elle va être dans un bur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7000" y="465120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est allée à l’éc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2525760"/>
            <a:ext cx="201780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00"/>
                            </p:stCondLst>
                            <p:childTnLst>
                              <p:par>
                                <p:cTn id="58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700"/>
                            </p:stCondLst>
                            <p:childTnLst>
                              <p:par>
                                <p:cTn id="5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3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 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440" y="4700520"/>
            <a:ext cx="804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nombre de réponses correctes que tu as obtenues s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montant que tu as gagné (maximum: 1 million d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90880"/>
            <a:ext cx="9144000" cy="3514680"/>
          </a:xfrm>
          <a:prstGeom prst="wedgeRoundRectCallout">
            <a:avLst>
              <a:gd name="adj1" fmla="val 32847"/>
              <a:gd name="adj2" fmla="val -91736"/>
              <a:gd name="adj3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3062160"/>
            <a:ext cx="85485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Merci encore d’avoir joué avec nou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Bravo et à la prochaine fois!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Au revoi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GCSE français, Thèm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040" y="4483080"/>
            <a:ext cx="782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on nom et t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s numéros de 1 à 15 (1 numéro par lig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4440" y="3311640"/>
            <a:ext cx="88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empus Sans ITC"/>
              </a:rPr>
              <a:t>1. Décris quelqu’un qui fait beaucoup d’exerci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9640" y="5568840"/>
            <a:ext cx="24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est aim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21240" y="5568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est do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5800" y="465120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est spor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77680" y="46674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est éner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3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40" y="328932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2. Quel est le synonyme de ”marran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4960" y="465444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mbê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87400" y="46450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y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5240" y="556092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rôl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2840" y="553248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Honnê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74600" y="2525760"/>
            <a:ext cx="1219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280" y="3289320"/>
            <a:ext cx="75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3. Quel est le contraire de “travailleur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7520" y="46544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F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3720" y="556884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Heureu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72000" y="556884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a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73360" y="465120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aresseu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200" y="3260880"/>
            <a:ext cx="90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4. Choisis le synonyme de “parler (avec des copains)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8880" y="461160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e dis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85160" y="461628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Faire la con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2760" y="555480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Répé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7720" y="556092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Bava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560" y="330372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5. Que faut-il faire pour préserver l’environn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2720" y="554040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Gaspiller l’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7120" y="46512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recyc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52840" y="46674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ter les déch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3640" y="55339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tiliser des aéros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3333600"/>
            <a:ext cx="86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6. Qu’est-ce qui est mauvais pour l’environn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3400" y="5527800"/>
            <a:ext cx="16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ecyc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6200" y="556884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tiliser un vé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7680" y="46512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Gaspiller les res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52840" y="46674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Économiser l’é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7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3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3274920"/>
            <a:ext cx="86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7. En France, où peut-on aller après le lycé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1120" y="462600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collè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03680" y="464508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Au 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36560" y="556884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cours préparat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7040" y="556092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’univers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8680" y="2525760"/>
            <a:ext cx="14227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00"/>
                            </p:stCondLst>
                            <p:childTnLst>
                              <p:par>
                                <p:cTn id="27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00"/>
                            </p:stCondLst>
                            <p:childTnLst>
                              <p:par>
                                <p:cTn id="27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5-02-03T12:02:44Z</dcterms:modified>
  <cp:revision>49</cp:revision>
  <dc:subject/>
  <dc:title>MillionnaireGCSE-Th4FR</dc:title>
</cp:coreProperties>
</file>