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2329560"/>
            <a:ext cx="250236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232956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2329560"/>
            <a:ext cx="7772400" cy="3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92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8000" indent="-3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74240" cy="3343320"/>
            <a:chOff x="0" y="0"/>
            <a:chExt cx="9174240" cy="3343320"/>
          </a:xfrm>
        </p:grpSpPr>
        <p:grpSp>
          <p:nvGrpSpPr>
            <p:cNvPr id="3" name=""/>
            <p:cNvGrpSpPr/>
            <p:nvPr/>
          </p:nvGrpSpPr>
          <p:grpSpPr>
            <a:xfrm>
              <a:off x="30240" y="19080"/>
              <a:ext cx="9086040" cy="3047400"/>
              <a:chOff x="30240" y="19080"/>
              <a:chExt cx="9086040" cy="3047400"/>
            </a:xfrm>
          </p:grpSpPr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19080"/>
                <a:ext cx="622008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40" y="19080"/>
                <a:ext cx="2865960" cy="304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2316240" y="2581200"/>
              <a:ext cx="6858000" cy="762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69200" y="0"/>
              <a:ext cx="2705040" cy="60012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201680"/>
              <a:ext cx="2400480" cy="1935360"/>
            </a:xfrm>
            <a:custGeom>
              <a:avLst/>
              <a:gdLst/>
              <a:ahLst/>
              <a:rect l="l" t="t" r="r" b="b"/>
              <a:pathLst>
                <a:path w="1512" h="1219">
                  <a:moveTo>
                    <a:pt x="19" y="7"/>
                  </a:moveTo>
                  <a:cubicBezTo>
                    <a:pt x="20" y="135"/>
                    <a:pt x="23" y="263"/>
                    <a:pt x="23" y="391"/>
                  </a:cubicBezTo>
                  <a:cubicBezTo>
                    <a:pt x="23" y="448"/>
                    <a:pt x="13" y="414"/>
                    <a:pt x="23" y="443"/>
                  </a:cubicBezTo>
                  <a:cubicBezTo>
                    <a:pt x="17" y="482"/>
                    <a:pt x="22" y="519"/>
                    <a:pt x="19" y="559"/>
                  </a:cubicBezTo>
                  <a:cubicBezTo>
                    <a:pt x="18" y="555"/>
                    <a:pt x="15" y="551"/>
                    <a:pt x="15" y="547"/>
                  </a:cubicBezTo>
                  <a:cubicBezTo>
                    <a:pt x="15" y="542"/>
                    <a:pt x="18" y="526"/>
                    <a:pt x="19" y="531"/>
                  </a:cubicBezTo>
                  <a:cubicBezTo>
                    <a:pt x="22" y="563"/>
                    <a:pt x="22" y="595"/>
                    <a:pt x="23" y="627"/>
                  </a:cubicBezTo>
                  <a:cubicBezTo>
                    <a:pt x="9" y="742"/>
                    <a:pt x="17" y="860"/>
                    <a:pt x="19" y="975"/>
                  </a:cubicBezTo>
                  <a:cubicBezTo>
                    <a:pt x="17" y="1026"/>
                    <a:pt x="21" y="1080"/>
                    <a:pt x="15" y="1131"/>
                  </a:cubicBezTo>
                  <a:cubicBezTo>
                    <a:pt x="16" y="1142"/>
                    <a:pt x="15" y="1153"/>
                    <a:pt x="19" y="1163"/>
                  </a:cubicBezTo>
                  <a:cubicBezTo>
                    <a:pt x="21" y="1167"/>
                    <a:pt x="29" y="1167"/>
                    <a:pt x="31" y="1171"/>
                  </a:cubicBezTo>
                  <a:cubicBezTo>
                    <a:pt x="35" y="1180"/>
                    <a:pt x="25" y="1190"/>
                    <a:pt x="23" y="1199"/>
                  </a:cubicBezTo>
                  <a:cubicBezTo>
                    <a:pt x="0" y="1184"/>
                    <a:pt x="17" y="1196"/>
                    <a:pt x="43" y="1191"/>
                  </a:cubicBezTo>
                  <a:cubicBezTo>
                    <a:pt x="109" y="1194"/>
                    <a:pt x="173" y="1199"/>
                    <a:pt x="239" y="1207"/>
                  </a:cubicBezTo>
                  <a:cubicBezTo>
                    <a:pt x="273" y="1218"/>
                    <a:pt x="347" y="1219"/>
                    <a:pt x="347" y="1219"/>
                  </a:cubicBezTo>
                  <a:cubicBezTo>
                    <a:pt x="673" y="1178"/>
                    <a:pt x="1017" y="1202"/>
                    <a:pt x="1343" y="1199"/>
                  </a:cubicBezTo>
                  <a:cubicBezTo>
                    <a:pt x="1380" y="1198"/>
                    <a:pt x="1418" y="1197"/>
                    <a:pt x="1455" y="1195"/>
                  </a:cubicBezTo>
                  <a:cubicBezTo>
                    <a:pt x="1509" y="1192"/>
                    <a:pt x="1512" y="1204"/>
                    <a:pt x="1495" y="1179"/>
                  </a:cubicBezTo>
                  <a:cubicBezTo>
                    <a:pt x="1492" y="1142"/>
                    <a:pt x="1485" y="1111"/>
                    <a:pt x="1479" y="1075"/>
                  </a:cubicBezTo>
                  <a:cubicBezTo>
                    <a:pt x="1480" y="1039"/>
                    <a:pt x="1481" y="1003"/>
                    <a:pt x="1483" y="967"/>
                  </a:cubicBezTo>
                  <a:cubicBezTo>
                    <a:pt x="1486" y="926"/>
                    <a:pt x="1483" y="923"/>
                    <a:pt x="1443" y="903"/>
                  </a:cubicBezTo>
                  <a:cubicBezTo>
                    <a:pt x="1417" y="908"/>
                    <a:pt x="1396" y="925"/>
                    <a:pt x="1371" y="935"/>
                  </a:cubicBezTo>
                  <a:cubicBezTo>
                    <a:pt x="1347" y="945"/>
                    <a:pt x="1333" y="944"/>
                    <a:pt x="1307" y="947"/>
                  </a:cubicBezTo>
                  <a:cubicBezTo>
                    <a:pt x="1275" y="955"/>
                    <a:pt x="1272" y="981"/>
                    <a:pt x="1255" y="1007"/>
                  </a:cubicBezTo>
                  <a:cubicBezTo>
                    <a:pt x="1241" y="1028"/>
                    <a:pt x="1205" y="1061"/>
                    <a:pt x="1187" y="1079"/>
                  </a:cubicBezTo>
                  <a:cubicBezTo>
                    <a:pt x="1183" y="1083"/>
                    <a:pt x="1181" y="1091"/>
                    <a:pt x="1175" y="1091"/>
                  </a:cubicBezTo>
                  <a:cubicBezTo>
                    <a:pt x="1159" y="1092"/>
                    <a:pt x="1143" y="1094"/>
                    <a:pt x="1127" y="1095"/>
                  </a:cubicBezTo>
                  <a:cubicBezTo>
                    <a:pt x="1113" y="1099"/>
                    <a:pt x="1097" y="1097"/>
                    <a:pt x="1083" y="1103"/>
                  </a:cubicBezTo>
                  <a:cubicBezTo>
                    <a:pt x="1039" y="1121"/>
                    <a:pt x="1098" y="1111"/>
                    <a:pt x="1059" y="1119"/>
                  </a:cubicBezTo>
                  <a:cubicBezTo>
                    <a:pt x="1043" y="1122"/>
                    <a:pt x="1011" y="1127"/>
                    <a:pt x="1011" y="1127"/>
                  </a:cubicBezTo>
                  <a:cubicBezTo>
                    <a:pt x="987" y="1103"/>
                    <a:pt x="909" y="1096"/>
                    <a:pt x="875" y="1087"/>
                  </a:cubicBezTo>
                  <a:cubicBezTo>
                    <a:pt x="874" y="1078"/>
                    <a:pt x="877" y="1066"/>
                    <a:pt x="871" y="1059"/>
                  </a:cubicBezTo>
                  <a:cubicBezTo>
                    <a:pt x="867" y="1055"/>
                    <a:pt x="798" y="1035"/>
                    <a:pt x="787" y="1031"/>
                  </a:cubicBezTo>
                  <a:cubicBezTo>
                    <a:pt x="751" y="995"/>
                    <a:pt x="669" y="975"/>
                    <a:pt x="619" y="967"/>
                  </a:cubicBezTo>
                  <a:cubicBezTo>
                    <a:pt x="615" y="958"/>
                    <a:pt x="614" y="946"/>
                    <a:pt x="607" y="939"/>
                  </a:cubicBezTo>
                  <a:cubicBezTo>
                    <a:pt x="593" y="925"/>
                    <a:pt x="549" y="935"/>
                    <a:pt x="615" y="927"/>
                  </a:cubicBezTo>
                  <a:cubicBezTo>
                    <a:pt x="522" y="908"/>
                    <a:pt x="575" y="914"/>
                    <a:pt x="455" y="919"/>
                  </a:cubicBezTo>
                  <a:cubicBezTo>
                    <a:pt x="420" y="917"/>
                    <a:pt x="383" y="925"/>
                    <a:pt x="351" y="911"/>
                  </a:cubicBezTo>
                  <a:cubicBezTo>
                    <a:pt x="347" y="909"/>
                    <a:pt x="354" y="903"/>
                    <a:pt x="355" y="899"/>
                  </a:cubicBezTo>
                  <a:cubicBezTo>
                    <a:pt x="349" y="876"/>
                    <a:pt x="345" y="868"/>
                    <a:pt x="331" y="847"/>
                  </a:cubicBezTo>
                  <a:cubicBezTo>
                    <a:pt x="326" y="839"/>
                    <a:pt x="315" y="823"/>
                    <a:pt x="315" y="823"/>
                  </a:cubicBezTo>
                  <a:cubicBezTo>
                    <a:pt x="311" y="805"/>
                    <a:pt x="306" y="789"/>
                    <a:pt x="303" y="771"/>
                  </a:cubicBezTo>
                  <a:cubicBezTo>
                    <a:pt x="300" y="714"/>
                    <a:pt x="307" y="675"/>
                    <a:pt x="259" y="643"/>
                  </a:cubicBezTo>
                  <a:cubicBezTo>
                    <a:pt x="239" y="613"/>
                    <a:pt x="205" y="593"/>
                    <a:pt x="179" y="567"/>
                  </a:cubicBezTo>
                  <a:cubicBezTo>
                    <a:pt x="160" y="511"/>
                    <a:pt x="183" y="584"/>
                    <a:pt x="171" y="423"/>
                  </a:cubicBezTo>
                  <a:cubicBezTo>
                    <a:pt x="168" y="383"/>
                    <a:pt x="144" y="322"/>
                    <a:pt x="131" y="283"/>
                  </a:cubicBezTo>
                  <a:cubicBezTo>
                    <a:pt x="127" y="272"/>
                    <a:pt x="110" y="275"/>
                    <a:pt x="99" y="271"/>
                  </a:cubicBezTo>
                  <a:cubicBezTo>
                    <a:pt x="95" y="244"/>
                    <a:pt x="90" y="230"/>
                    <a:pt x="95" y="203"/>
                  </a:cubicBezTo>
                  <a:cubicBezTo>
                    <a:pt x="97" y="192"/>
                    <a:pt x="103" y="171"/>
                    <a:pt x="103" y="171"/>
                  </a:cubicBezTo>
                  <a:cubicBezTo>
                    <a:pt x="106" y="143"/>
                    <a:pt x="108" y="85"/>
                    <a:pt x="135" y="67"/>
                  </a:cubicBezTo>
                  <a:cubicBezTo>
                    <a:pt x="130" y="3"/>
                    <a:pt x="139" y="8"/>
                    <a:pt x="75" y="3"/>
                  </a:cubicBezTo>
                  <a:cubicBezTo>
                    <a:pt x="55" y="4"/>
                    <a:pt x="34" y="0"/>
                    <a:pt x="15" y="7"/>
                  </a:cubicBezTo>
                  <a:cubicBezTo>
                    <a:pt x="10" y="9"/>
                    <a:pt x="14" y="21"/>
                    <a:pt x="19" y="23"/>
                  </a:cubicBezTo>
                  <a:cubicBezTo>
                    <a:pt x="24" y="25"/>
                    <a:pt x="27" y="16"/>
                    <a:pt x="27" y="11"/>
                  </a:cubicBezTo>
                  <a:cubicBezTo>
                    <a:pt x="27" y="8"/>
                    <a:pt x="22" y="8"/>
                    <a:pt x="19" y="7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240" y="19080"/>
              <a:ext cx="2741760" cy="1080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00"/>
              <a:ext cx="163440" cy="256860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9480" y="0"/>
              <a:ext cx="4419720" cy="26676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9360" y="82440"/>
              <a:ext cx="372960" cy="154080"/>
            </a:xfrm>
            <a:custGeom>
              <a:avLst/>
              <a:gdLst/>
              <a:ahLst/>
              <a:rect l="l" t="t" r="r" b="b"/>
              <a:pathLst>
                <a:path w="235" h="97">
                  <a:moveTo>
                    <a:pt x="8" y="8"/>
                  </a:moveTo>
                  <a:cubicBezTo>
                    <a:pt x="40" y="50"/>
                    <a:pt x="38" y="56"/>
                    <a:pt x="96" y="64"/>
                  </a:cubicBezTo>
                  <a:cubicBezTo>
                    <a:pt x="123" y="82"/>
                    <a:pt x="149" y="85"/>
                    <a:pt x="180" y="88"/>
                  </a:cubicBezTo>
                  <a:cubicBezTo>
                    <a:pt x="196" y="92"/>
                    <a:pt x="204" y="97"/>
                    <a:pt x="220" y="92"/>
                  </a:cubicBezTo>
                  <a:cubicBezTo>
                    <a:pt x="225" y="78"/>
                    <a:pt x="235" y="15"/>
                    <a:pt x="224" y="8"/>
                  </a:cubicBezTo>
                  <a:cubicBezTo>
                    <a:pt x="215" y="2"/>
                    <a:pt x="203" y="5"/>
                    <a:pt x="192" y="4"/>
                  </a:cubicBezTo>
                  <a:cubicBezTo>
                    <a:pt x="132" y="8"/>
                    <a:pt x="72" y="12"/>
                    <a:pt x="12" y="0"/>
                  </a:cubicBezTo>
                  <a:cubicBezTo>
                    <a:pt x="8" y="1"/>
                    <a:pt x="0" y="0"/>
                    <a:pt x="0" y="4"/>
                  </a:cubicBezTo>
                  <a:cubicBezTo>
                    <a:pt x="0" y="8"/>
                    <a:pt x="20" y="8"/>
                    <a:pt x="8" y="8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560" y="74520"/>
              <a:ext cx="1157040" cy="1182960"/>
            </a:xfrm>
            <a:custGeom>
              <a:avLst/>
              <a:gdLst/>
              <a:ahLst/>
              <a:rect l="l" t="t" r="r" b="b"/>
              <a:pathLst>
                <a:path w="729" h="745">
                  <a:moveTo>
                    <a:pt x="728" y="21"/>
                  </a:moveTo>
                  <a:cubicBezTo>
                    <a:pt x="717" y="65"/>
                    <a:pt x="661" y="87"/>
                    <a:pt x="620" y="97"/>
                  </a:cubicBezTo>
                  <a:cubicBezTo>
                    <a:pt x="591" y="126"/>
                    <a:pt x="568" y="129"/>
                    <a:pt x="528" y="133"/>
                  </a:cubicBezTo>
                  <a:cubicBezTo>
                    <a:pt x="474" y="125"/>
                    <a:pt x="423" y="117"/>
                    <a:pt x="368" y="113"/>
                  </a:cubicBezTo>
                  <a:cubicBezTo>
                    <a:pt x="343" y="119"/>
                    <a:pt x="357" y="114"/>
                    <a:pt x="328" y="133"/>
                  </a:cubicBezTo>
                  <a:cubicBezTo>
                    <a:pt x="324" y="136"/>
                    <a:pt x="316" y="141"/>
                    <a:pt x="316" y="141"/>
                  </a:cubicBezTo>
                  <a:cubicBezTo>
                    <a:pt x="306" y="156"/>
                    <a:pt x="296" y="169"/>
                    <a:pt x="284" y="181"/>
                  </a:cubicBezTo>
                  <a:cubicBezTo>
                    <a:pt x="272" y="216"/>
                    <a:pt x="240" y="233"/>
                    <a:pt x="224" y="265"/>
                  </a:cubicBezTo>
                  <a:cubicBezTo>
                    <a:pt x="212" y="289"/>
                    <a:pt x="199" y="311"/>
                    <a:pt x="184" y="333"/>
                  </a:cubicBezTo>
                  <a:cubicBezTo>
                    <a:pt x="168" y="357"/>
                    <a:pt x="162" y="383"/>
                    <a:pt x="140" y="405"/>
                  </a:cubicBezTo>
                  <a:cubicBezTo>
                    <a:pt x="127" y="443"/>
                    <a:pt x="106" y="478"/>
                    <a:pt x="96" y="517"/>
                  </a:cubicBezTo>
                  <a:cubicBezTo>
                    <a:pt x="102" y="536"/>
                    <a:pt x="106" y="549"/>
                    <a:pt x="116" y="565"/>
                  </a:cubicBezTo>
                  <a:cubicBezTo>
                    <a:pt x="114" y="608"/>
                    <a:pt x="126" y="651"/>
                    <a:pt x="96" y="681"/>
                  </a:cubicBezTo>
                  <a:cubicBezTo>
                    <a:pt x="90" y="698"/>
                    <a:pt x="82" y="711"/>
                    <a:pt x="76" y="729"/>
                  </a:cubicBezTo>
                  <a:cubicBezTo>
                    <a:pt x="72" y="741"/>
                    <a:pt x="40" y="745"/>
                    <a:pt x="40" y="745"/>
                  </a:cubicBezTo>
                  <a:cubicBezTo>
                    <a:pt x="20" y="738"/>
                    <a:pt x="19" y="733"/>
                    <a:pt x="24" y="713"/>
                  </a:cubicBezTo>
                  <a:cubicBezTo>
                    <a:pt x="13" y="669"/>
                    <a:pt x="17" y="630"/>
                    <a:pt x="20" y="585"/>
                  </a:cubicBezTo>
                  <a:cubicBezTo>
                    <a:pt x="12" y="486"/>
                    <a:pt x="9" y="388"/>
                    <a:pt x="0" y="289"/>
                  </a:cubicBezTo>
                  <a:cubicBezTo>
                    <a:pt x="2" y="170"/>
                    <a:pt x="3" y="106"/>
                    <a:pt x="20" y="5"/>
                  </a:cubicBezTo>
                  <a:cubicBezTo>
                    <a:pt x="67" y="10"/>
                    <a:pt x="113" y="12"/>
                    <a:pt x="160" y="17"/>
                  </a:cubicBezTo>
                  <a:cubicBezTo>
                    <a:pt x="346" y="0"/>
                    <a:pt x="533" y="6"/>
                    <a:pt x="720" y="13"/>
                  </a:cubicBezTo>
                  <a:cubicBezTo>
                    <a:pt x="729" y="26"/>
                    <a:pt x="728" y="30"/>
                    <a:pt x="728" y="21"/>
                  </a:cubicBezTo>
                  <a:close/>
                </a:path>
              </a:pathLst>
            </a:custGeom>
            <a:solidFill>
              <a:srgbClr val="00003c"/>
            </a:solidFill>
            <a:ln w="9360">
              <a:solidFill>
                <a:srgbClr val="0000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2914560"/>
              <a:ext cx="106560" cy="222480"/>
            </a:xfrm>
            <a:prstGeom prst="rect">
              <a:avLst/>
            </a:prstGeom>
            <a:solidFill>
              <a:srgbClr val="00003c"/>
            </a:solidFill>
            <a:ln w="9360">
              <a:solidFill>
                <a:srgbClr val="000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163440" y="4591080"/>
            <a:ext cx="4210200" cy="603360"/>
            <a:chOff x="163440" y="4591080"/>
            <a:chExt cx="4210200" cy="603360"/>
          </a:xfrm>
        </p:grpSpPr>
        <p:sp>
          <p:nvSpPr>
            <p:cNvPr id="16" name=""/>
            <p:cNvSpPr/>
            <p:nvPr/>
          </p:nvSpPr>
          <p:spPr>
            <a:xfrm>
              <a:off x="163440" y="459108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1880" y="459108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61880" y="519444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4830840" y="4591080"/>
            <a:ext cx="4209840" cy="603360"/>
            <a:chOff x="4830840" y="4591080"/>
            <a:chExt cx="4209840" cy="603360"/>
          </a:xfrm>
        </p:grpSpPr>
        <p:sp>
          <p:nvSpPr>
            <p:cNvPr id="20" name=""/>
            <p:cNvSpPr/>
            <p:nvPr/>
          </p:nvSpPr>
          <p:spPr>
            <a:xfrm>
              <a:off x="4830840" y="459108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128920" y="459108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128920" y="519444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182520" y="5499000"/>
            <a:ext cx="4210200" cy="603360"/>
            <a:chOff x="182520" y="5499000"/>
            <a:chExt cx="4210200" cy="603360"/>
          </a:xfrm>
        </p:grpSpPr>
        <p:sp>
          <p:nvSpPr>
            <p:cNvPr id="24" name=""/>
            <p:cNvSpPr/>
            <p:nvPr/>
          </p:nvSpPr>
          <p:spPr>
            <a:xfrm>
              <a:off x="182520" y="5499000"/>
              <a:ext cx="421020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0960" y="549900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0960" y="6102360"/>
              <a:ext cx="360684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830840" y="5499000"/>
            <a:ext cx="4209840" cy="603360"/>
            <a:chOff x="4830840" y="5499000"/>
            <a:chExt cx="4209840" cy="603360"/>
          </a:xfrm>
        </p:grpSpPr>
        <p:sp>
          <p:nvSpPr>
            <p:cNvPr id="28" name=""/>
            <p:cNvSpPr/>
            <p:nvPr/>
          </p:nvSpPr>
          <p:spPr>
            <a:xfrm>
              <a:off x="4830840" y="5499000"/>
              <a:ext cx="4209840" cy="603360"/>
            </a:xfrm>
            <a:prstGeom prst="bracePair">
              <a:avLst>
                <a:gd name="adj" fmla="val 25000"/>
              </a:avLst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8920" y="549900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128920" y="6102360"/>
              <a:ext cx="3606480" cy="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334800" y="3143160"/>
            <a:ext cx="8401320" cy="809640"/>
          </a:xfrm>
          <a:prstGeom prst="bracePair">
            <a:avLst>
              <a:gd name="adj" fmla="val 25000"/>
            </a:avLst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739800" y="314316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39800" y="3946680"/>
            <a:ext cx="7655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702640" y="3552840"/>
            <a:ext cx="4716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0240" y="3552840"/>
            <a:ext cx="37152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983800" y="489096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983800" y="5800680"/>
            <a:ext cx="1904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340160" y="489096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63920" y="5800680"/>
            <a:ext cx="5097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240" y="489096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240" y="5800680"/>
            <a:ext cx="1760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120" y="46260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63680" y="46260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1440" y="554040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5540400"/>
            <a:ext cx="6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483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480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000" y="3289320"/>
            <a:ext cx="88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8. Quelle forme du verbe “aller” est au pass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1360" y="465444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Nous a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48240" y="46594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Nous i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560" y="5560920"/>
            <a:ext cx="34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Nous sommes al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3840" y="5397480"/>
            <a:ext cx="4243320" cy="795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2560" y="55324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Nous avons al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8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1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7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3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7880" y="328932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9. Quelle question est correc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920" y="5568840"/>
            <a:ext cx="25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Où est-il al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40680" y="556884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Où fait-il al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6880" y="4651200"/>
            <a:ext cx="31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Où est-ce qu’il 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18280" y="465300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Où est-ce que va-t-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6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"/>
                            </p:stCondLst>
                            <p:childTnLst>
                              <p:par>
                                <p:cTn id="35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700"/>
                            </p:stCondLst>
                            <p:childTnLst>
                              <p:par>
                                <p:cTn id="35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3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9240" y="3289320"/>
            <a:ext cx="64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0. Quelle négation est correcte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5960" y="465444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fais r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560" y="556884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ne fais pas r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3640" y="5568840"/>
            <a:ext cx="25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pas fais r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5400" y="465120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ne fais r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4560" y="2525760"/>
            <a:ext cx="155088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00"/>
                            </p:stCondLst>
                            <p:childTnLst>
                              <p:par>
                                <p:cTn id="39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700"/>
                            </p:stCondLst>
                            <p:childTnLst>
                              <p:par>
                                <p:cTn id="40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3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6760" y="3333600"/>
            <a:ext cx="66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11. Laquelle est une opinion contrai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720" y="55688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Tu as r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43480" y="556884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suppose que o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160" y="463716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ne suis pas d’ac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66160" y="466740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suis de ton 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160" y="2525760"/>
            <a:ext cx="15652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6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00"/>
                            </p:stCondLst>
                            <p:childTnLst>
                              <p:par>
                                <p:cTn id="436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00"/>
                            </p:stCondLst>
                            <p:childTnLst>
                              <p:par>
                                <p:cTn id="43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3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72720" y="3260880"/>
            <a:ext cx="92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2. Laquelle de ces expressions est une exc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000" y="465444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en ai mar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2600" y="556884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Sans d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3880" y="556884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Ça me fait r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86320" y="465120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suis déso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0160" y="2525760"/>
            <a:ext cx="16668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25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00"/>
                            </p:stCondLst>
                            <p:childTnLst>
                              <p:par>
                                <p:cTn id="47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3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880" y="328932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3. Quel est le synonyme de “parfois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5480" y="465444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En même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45360" y="46450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Souv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23760" y="5568840"/>
            <a:ext cx="25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En c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480" y="5560920"/>
            <a:ext cx="34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e temps en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1720" y="2509920"/>
            <a:ext cx="17240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5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700"/>
                            </p:stCondLst>
                            <p:childTnLst>
                              <p:par>
                                <p:cTn id="51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3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3520" y="3289320"/>
            <a:ext cx="80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4. Laquelle de ces phrases est un ord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6560" y="465444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Quelle est la répon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1960" y="556884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Vous avez t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89920" y="5568840"/>
            <a:ext cx="27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Quel dom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71480" y="4657680"/>
            <a:ext cx="378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Donnez-moi la répon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7080" y="2525760"/>
            <a:ext cx="181296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"/>
                            </p:stCondLst>
                            <p:childTnLst>
                              <p:par>
                                <p:cTn id="55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00"/>
                            </p:stCondLst>
                            <p:childTnLst>
                              <p:par>
                                <p:cTn id="55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3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4440" y="3273480"/>
            <a:ext cx="79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15. Complète la phrase: “Si j’avais de l’argent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880" y="4703760"/>
            <a:ext cx="364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J’achèterai une voi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03960" y="4664160"/>
            <a:ext cx="3740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Je vais visiter l’Austral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26480" y="5568840"/>
            <a:ext cx="3961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empus Sans ITC"/>
              </a:rPr>
              <a:t>Je veux acheter une mai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8360" y="556092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irais en voy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7120" y="2525760"/>
            <a:ext cx="200016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100"/>
                            </p:stCondLst>
                            <p:childTnLst>
                              <p:par>
                                <p:cTn id="59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700"/>
                            </p:stCondLst>
                            <p:childTnLst>
                              <p:par>
                                <p:cTn id="59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3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6920" y="522360"/>
            <a:ext cx="79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Merci d’avoir 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joué</a:t>
            </a: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  à “QUI VEUT GAGNER DES MILLIONS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5440" y="4700520"/>
            <a:ext cx="8040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nombre de réponses correctes que tu as obtenues s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 montant que tu as gagné (maximum: 1 million d’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90880"/>
            <a:ext cx="9144000" cy="3514680"/>
          </a:xfrm>
          <a:prstGeom prst="wedgeRoundRectCallout">
            <a:avLst>
              <a:gd name="adj1" fmla="val 32847"/>
              <a:gd name="adj2" fmla="val -91736"/>
              <a:gd name="adj3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3062160"/>
            <a:ext cx="85485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Merci encore d’avoir joué avec nou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Bravo et à la prochaine fois!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ffffff"/>
                </a:solidFill>
                <a:latin typeface="Freestyle Script"/>
              </a:rPr>
              <a:t>Au revoi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100"/>
                            </p:stCondLst>
                            <p:childTnLst>
                              <p:par>
                                <p:cTn id="62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7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22360"/>
            <a:ext cx="798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empus Sans ITC"/>
              </a:rPr>
              <a:t>Bienvenus à “QUI VEUT GAGNER DES MILLIONS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Thème: gramm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040" y="4483080"/>
            <a:ext cx="7823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Tempus Sans ITC"/>
              </a:rPr>
              <a:t>ÉCRIS:</a:t>
            </a: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ton nom et t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les numéros de 1 à 15 (1 numéro par lig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560" y="3289320"/>
            <a:ext cx="74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1. Lequel de ces mots est un adverbe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560" y="556884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Apprend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48960" y="556884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ev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8640" y="465120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arfo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2440" y="466740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Mo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7600" y="2525760"/>
            <a:ext cx="12034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3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4240" y="328932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2. Lequel de ces mots est une prépos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440" y="4654440"/>
            <a:ext cx="10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Ma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6520" y="556884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eh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07560" y="556884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Beauc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25920" y="465120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rè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76320" y="2525760"/>
            <a:ext cx="1173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40" y="325908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3. Lequel de ces mots est une conjon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2480" y="4670280"/>
            <a:ext cx="26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n dessou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54360" y="461628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nsu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7080" y="55548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Pendan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1400" y="556092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Parce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44640" y="2525760"/>
            <a:ext cx="118908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3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908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255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960" y="3289320"/>
            <a:ext cx="64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4. Quel commentaire est neut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" y="5556240"/>
            <a:ext cx="21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Ça m’ag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65440" y="556884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Ça vaut la pe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7160" y="465120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Ça m’est é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8520" y="4646520"/>
            <a:ext cx="404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mpus Sans ITC"/>
              </a:rPr>
              <a:t>C’est une perte de tem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04760" y="2496960"/>
            <a:ext cx="117324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5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908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5560" y="46497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6880" y="328932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5. Quel mot indique le fut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88760" y="55404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De bonne he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8120" y="46512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Bientô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27000" y="466740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Récem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16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2520" y="553392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En ret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1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700"/>
                            </p:stCondLst>
                            <p:childTnLst>
                              <p:par>
                                <p:cTn id="20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3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4976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56240" y="463536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9080" y="3260880"/>
            <a:ext cx="844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6. Quel mot indique une action très cou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120" y="4610160"/>
            <a:ext cx="27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Encore une f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880" y="556884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mmédiat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49600" y="554040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Tous les j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05760" y="465120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Brièv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5280" y="448776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2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700"/>
                            </p:stCondLst>
                            <p:childTnLst>
                              <p:par>
                                <p:cTn id="243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3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324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9720" y="5545080"/>
            <a:ext cx="3111480" cy="49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840" y="3289320"/>
            <a:ext cx="87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7. Quelle forme du verbe “faire” est au fut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98200" y="465444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’ai f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70560" y="464508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f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9960" y="556884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fera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6040" y="55609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Je fer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4600" y="5398920"/>
            <a:ext cx="4243320" cy="795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32040" y="2525760"/>
            <a:ext cx="1463400" cy="45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empus Sans ITC"/>
              </a:rPr>
              <a:t>4 00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100"/>
                            </p:stCondLst>
                            <p:childTnLst>
                              <p:par>
                                <p:cTn id="278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00"/>
                            </p:stCondLst>
                            <p:childTnLst>
                              <p:par>
                                <p:cTn id="281" nodeType="after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3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08:00Z</dcterms:created>
  <dc:creator>MJA Regnier</dc:creator>
  <dc:description/>
  <dc:language>en-US</dc:language>
  <cp:lastModifiedBy>CSeccombe</cp:lastModifiedBy>
  <dcterms:modified xsi:type="dcterms:W3CDTF">2005-02-03T12:05:44Z</dcterms:modified>
  <cp:revision>45</cp:revision>
  <dc:subject/>
  <dc:title>Millionnaire-Grammaire+Opinions-FR</dc:title>
</cp:coreProperties>
</file>