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5.png" ContentType="image/png"/>
  <Override PartName="/ppt/media/image2.wmf" ContentType="image/x-wmf"/>
  <Override PartName="/ppt/media/image25.wmf" ContentType="image/x-wmf"/>
  <Override PartName="/ppt/media/image3.jpeg" ContentType="image/jpeg"/>
  <Override PartName="/ppt/media/image10.wmf" ContentType="image/x-wmf"/>
  <Override PartName="/ppt/media/image27.jpeg" ContentType="image/jpeg"/>
  <Override PartName="/ppt/media/image11.wmf" ContentType="image/x-wmf"/>
  <Override PartName="/ppt/media/explode.wav" ContentType="audio/x-wav"/>
  <Override PartName="/ppt/media/image12.jpeg" ContentType="image/jpeg"/>
  <Override PartName="/ppt/media/image4.jpeg" ContentType="image/jpeg"/>
  <Override PartName="/ppt/media/image8.wmf" ContentType="image/x-wmf"/>
  <Override PartName="/ppt/media/image9.png" ContentType="image/png"/>
  <Override PartName="/ppt/media/image29.wmf" ContentType="image/x-wmf"/>
  <Override PartName="/ppt/media/image19.jpeg" ContentType="image/jpeg"/>
  <Override PartName="/ppt/media/image28.png" ContentType="image/png"/>
  <Override PartName="/ppt/media/image7.jpeg" ContentType="image/jpeg"/>
  <Override PartName="/ppt/media/image1.gif" ContentType="image/gif"/>
  <Override PartName="/ppt/media/image13.jpeg" ContentType="image/jpeg"/>
  <Override PartName="/ppt/media/image14.wmf" ContentType="image/x-wmf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media/image22.wmf" ContentType="image/x-wmf"/>
  <Override PartName="/ppt/media/image20.jpeg" ContentType="image/jpeg"/>
  <Override PartName="/ppt/media/image23.wmf" ContentType="image/x-wmf"/>
  <Override PartName="/ppt/media/image2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477-7DCF-4AB2-9EFB-05B677C6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7BC-97A7-45B9-B279-668DB00F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B02-6CAE-42D8-ADED-B3B145FA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DE2-AE3C-4E83-A8C3-B840BC34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C92-DA4F-4792-ABB8-34481025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AC2-64C0-43B9-99E4-6F071F9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9D2-9421-481B-A8A8-53AD62D4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8FE-04EB-4553-B4C5-E8BA0F44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605-3138-4B86-961F-D3C7DC50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A32-5AAB-44CC-AB28-9601C035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FE8-E953-48F1-A99F-8909A474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3F5-A3D5-466C-8C5D-0481019C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0A33-E07B-400D-802C-B3C70E8F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pourtoutvousdire.com/plateforme/images/brandadvice/Advice_2590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pourtoutvousdire.com/plateforme/images/brandadvice/Advice_2590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urogrossmarket.com/images/caddie-index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gazine.fr/lagence/casting/linge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fcointe@fcointe.com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pple.com/federal/events/images/calendar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atp.nist.gov/regional_map/calendar.gif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atp.nist.gov/regional_map/calendar.gif" TargetMode="External"/><Relationship Id="rId3" Type="http://schemas.openxmlformats.org/officeDocument/2006/relationships/image" Target="../media/image28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hyperlink" Target="http://www.apple.com/federal/events/images/calendar.jpg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der à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089080" cy="270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71640" y="3227400"/>
            <a:ext cx="3961080" cy="363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3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salle de b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164360" cy="447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82880"/>
            <a:ext cx="3889440" cy="141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24000" y="1844640"/>
            <a:ext cx="5184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nettoie la salle de b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164360" cy="4479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82880"/>
            <a:ext cx="3889440" cy="1417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611280" y="2781000"/>
            <a:ext cx="2089080" cy="93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a l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643040"/>
            <a:ext cx="8642160" cy="4937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63640" y="3573360"/>
            <a:ext cx="2879640" cy="93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3573360"/>
            <a:ext cx="532944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1668600"/>
            <a:ext cx="8280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a 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655164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es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0028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a vaiss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1495440"/>
            <a:ext cx="46087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fais le me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tom et betty font le ménage"/>
          <p:cNvPicPr/>
          <p:nvPr/>
        </p:nvPicPr>
        <p:blipFill>
          <a:blip r:embed="rId1"/>
          <a:stretch/>
        </p:blipFill>
        <p:spPr>
          <a:xfrm>
            <a:off x="1619280" y="1365120"/>
            <a:ext cx="63151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’etends le li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436760"/>
            <a:ext cx="7777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sors la poub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89000"/>
            <a:ext cx="3860640" cy="3886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2133720"/>
            <a:ext cx="2233440" cy="1366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spir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911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travaille dans le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1753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vais chercher le lai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3830760" cy="498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 flipV="1">
            <a:off x="6084720" y="5229360"/>
            <a:ext cx="165600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lave la vo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997520" cy="507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803640" y="2565360"/>
            <a:ext cx="136836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1f94f"/>
                                      </p:to>
                                    </p:animClr>
                                    <p:set>
                                      <p:cBhvr>
                                        <p:cTn id="2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us les j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616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us les s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3246120" cy="2965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51280" y="2600280"/>
            <a:ext cx="505944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e fois par sem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63800"/>
            <a:ext cx="6119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ux fois par sem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48284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84720" y="4005360"/>
            <a:ext cx="43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CSE TIP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grad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semaine dern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ce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ime bien faire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’aime pas faire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lend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 heure plus t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ve to / m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d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do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s dev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Infinit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.g.: je dois passer l’apirat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passe l’aspir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740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p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nd il ve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c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’est ce que tu fais pour aider a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 ce que tu aides a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 aides a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e fois ….. a la mai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63840" y="1855800"/>
            <a:ext cx="1825560" cy="167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91240" y="171612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407960" y="3938760"/>
            <a:ext cx="213696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969160" y="4122720"/>
            <a:ext cx="1396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60640" y="765000"/>
            <a:ext cx="2565360" cy="302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805360" y="476280"/>
            <a:ext cx="265428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149720"/>
            <a:ext cx="3260520" cy="24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012000" y="4221000"/>
            <a:ext cx="24462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 ce que tu aides a la m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’est que tu fais pour aider a la mai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bien de fois mets tu la table a la mai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 ce que tu aimes bien faire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passe l’aspirateur une fois par semaine 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e garde mon petit frere le samedi soir et j’aide a mettre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mets la table  tous les soirs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t ensu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e debarass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ussi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aim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i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garder mon petit frer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a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es parents me donne de l’argent de poch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mai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’aime pas beaucou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mettre la table c’est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nnuye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pier dans les cah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’est ce que tu fais pour aider a la mai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sor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s poub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v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hercher du l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etend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 l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cui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s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l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vaiss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fa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 me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met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lav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vo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travaill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ans le jar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netto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salle de b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debaras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gard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n petit fr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rang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a cha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e pas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’aspi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cris quelques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ris ce que tu fais a la m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 tu aimes faire ca ou 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 que des membres de ta famille font pour aider a la m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ur aider a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080" y="1295280"/>
          <a:ext cx="9124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1295280"/>
                    <a:ext cx="9124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98168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range ma 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Neville's Bedroom."/>
          <p:cNvPicPr/>
          <p:nvPr/>
        </p:nvPicPr>
        <p:blipFill>
          <a:blip r:embed="rId1"/>
          <a:stretch/>
        </p:blipFill>
        <p:spPr>
          <a:xfrm>
            <a:off x="826920" y="1268280"/>
            <a:ext cx="73011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230480"/>
            <a:ext cx="4535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mets l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909800"/>
            <a:ext cx="60944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debarasse l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2932200" cy="485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80000" y="2708280"/>
            <a:ext cx="3400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garde mon petit fr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8240" y="1268280"/>
            <a:ext cx="5154480" cy="558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56000" y="2708280"/>
            <a:ext cx="2447640" cy="194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0:26:48Z</dcterms:created>
  <dc:creator>nmeneghin</dc:creator>
  <dc:description/>
  <dc:language>en-US</dc:language>
  <cp:lastModifiedBy>CSeccombe</cp:lastModifiedBy>
  <dcterms:modified xsi:type="dcterms:W3CDTF">2005-06-02T09:42:36Z</dcterms:modified>
  <cp:revision>9</cp:revision>
  <dc:subject/>
  <dc:title>Aider a la maison</dc:title>
</cp:coreProperties>
</file>