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905-D07B-4251-AD37-A2A8E62B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BD00-6A8F-43A8-9FD4-22E85B33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832F-BF0D-4CA0-9340-8C7AF6DD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DF5F-E1FD-4E12-9531-CD385A0E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A1B-EF68-4A55-B671-41B6CACE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3CC-5E6C-47EC-BB56-08770D1A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6ED-63A5-45D5-9424-D3C2366B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953-7AFC-4A57-8973-D183A97E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3D3-B807-40BF-9418-86D88AE3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375E-51F4-42B6-8C48-183339CD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A50F-09FC-43E0-9B00-55F6E9DA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FC04-143D-42BD-9B39-AC6DA79C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A827-3996-4065-AF77-CA3173FEA20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4200" y="214200"/>
          <a:ext cx="8572680" cy="61437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  <a:gridCol w="1714680"/>
              </a:tblGrid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’aime le franç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’adore le spor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 n’aime pas les math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 préfère les scien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’adore l’angl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 prof de musique est sévèr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 prof d’histoire 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éressan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technologie 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usa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géo est faci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 prof de dessin 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mp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 a trop de devoi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musique c’est diffici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’aime la gé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 n’aime pas l’informatiqu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 préfère le théâtr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14200" y="214200"/>
          <a:ext cx="8572680" cy="61437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  <a:gridCol w="1714680"/>
              </a:tblGrid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 prof d’informatique est amusa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 déteste les devoi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 n’aime pas le dessi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 suis fort(e) en math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’adore la technologi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9:01:54Z</dcterms:created>
  <dc:creator>john</dc:creator>
  <dc:description/>
  <dc:language>en-US</dc:language>
  <cp:lastModifiedBy>Clare</cp:lastModifiedBy>
  <dcterms:modified xsi:type="dcterms:W3CDTF">2011-05-19T14:53:46Z</dcterms:modified>
  <cp:revision>18</cp:revision>
  <dc:subject/>
  <dc:title>Slide 1</dc:title>
</cp:coreProperties>
</file>