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8194-A213-4EEF-9E3B-48CC6F02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AD95-4663-4DBC-A80B-284436AF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746-0688-4F10-B3B0-E8F741CF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03BE-4A39-4BA6-9D1B-C136290D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27E6-D36F-4A15-92B4-5EE040D6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5ECD-AB17-4E58-A3DA-F5AFFA34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D2DD-9D2C-40EA-9D5B-F41D1CEB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5085-C3B3-4A00-BA50-F0A17353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E1C5-E90B-418E-B882-3CE7695B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219C-8A33-4E44-949A-6043D9F9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94F-73E1-4170-80B5-EB6AA475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B40D-806B-4383-8DE3-901C67C5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5C03-0B92-46B4-A04E-4157A7E7321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14200" y="214200"/>
          <a:ext cx="8572680" cy="61437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  <a:gridCol w="1714680"/>
              </a:tblGrid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’aime le franç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’adore le spor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 n’aime pas les math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 préfère les scienc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’adore l’angl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 prof de musique est sévèr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 prof d’histoire 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éressan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technologie 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usa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géo est facil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 prof de dessin 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mp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 a trop de devoi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musique c’est difficil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’aime la gé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 n’aime pas l’informatiqu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 préfère le théâtr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14200" y="214200"/>
          <a:ext cx="8572680" cy="61437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  <a:gridCol w="1714680"/>
              </a:tblGrid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 prof d’informatique est amusa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 déteste les devoi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 n’aime pas le dessi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 suis fort(e) en math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’adore la technologi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9:01:54Z</dcterms:created>
  <dc:creator>john</dc:creator>
  <dc:description/>
  <dc:language>en-US</dc:language>
  <cp:lastModifiedBy>Clare</cp:lastModifiedBy>
  <dcterms:modified xsi:type="dcterms:W3CDTF">2011-05-19T14:53:46Z</dcterms:modified>
  <cp:revision>18</cp:revision>
  <dc:subject/>
  <dc:title>Slide 1</dc:title>
</cp:coreProperties>
</file>