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5AE-BDA1-44E1-8D32-C8AF189C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475-A6F4-4F04-A0B2-B717E10F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9E8-8C77-4DA0-8A3F-CFEC7635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FA0-CCF5-4858-9CF7-10E816C4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238-6778-4A13-A279-78E8E334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DDF-CBF0-420F-A23F-6A0C9CE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91B-9C30-4E2C-A36A-9C1A95C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E92-2443-4169-A7AC-3F494B4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9AF-C7FF-4CF0-AB78-73D06D2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2DC-71C6-40AD-81C6-8E799B8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75A-889C-4D16-B979-15F289D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BE2-83E7-4864-9901-095F4A1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A30-C58F-45B2-8DF3-285FF7ED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86040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1158840" cy="114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211640" y="249228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744480" cy="11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268360" y="5013360"/>
            <a:ext cx="84168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4000" y="4365720"/>
            <a:ext cx="1306440" cy="117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9280" y="2276640"/>
            <a:ext cx="852480" cy="151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419640" y="476280"/>
            <a:ext cx="1304640" cy="134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284640"/>
            <a:ext cx="316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547640" y="2060640"/>
            <a:ext cx="216072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2060640"/>
            <a:ext cx="2016000" cy="23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Ga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68360" y="2492280"/>
            <a:ext cx="97164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17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n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530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dou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62784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éc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1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62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645000"/>
            <a:ext cx="144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9640" y="155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206064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90792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184464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844640"/>
            <a:ext cx="3585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47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n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263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52000" y="155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55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 Rounded MT Bold"/>
              </a:rPr>
              <a:t>o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0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9:19:55Z</dcterms:created>
  <dc:creator>CSeccombe</dc:creator>
  <dc:description/>
  <dc:language>en-US</dc:language>
  <cp:lastModifiedBy>CSeccombe</cp:lastModifiedBy>
  <dcterms:modified xsi:type="dcterms:W3CDTF">2005-05-10T19:36:04Z</dcterms:modified>
  <cp:revision>3</cp:revision>
  <dc:subject/>
  <dc:title>Slide 1</dc:title>
</cp:coreProperties>
</file>