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041-4ABB-4D0E-9512-DAC5AD57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9BA-AA0A-4C36-A81E-45A0BFE6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89B-1E4E-4C4F-AF14-51A425FB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E46-6B5D-4DAA-9259-E456E4AC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BF9-BCFD-4925-AA9F-CB57B73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832-DF3F-4186-BB97-2B0FA9F1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7B1-4F41-433C-90D0-FF9EE72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3E1-6EB7-4ADD-BE09-E982F2CE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5D8-992A-4E7A-ABFC-3CB275F0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04E-C812-4078-98E1-5A57DFE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14A-FB43-4C58-9C76-1ED6DED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768-5562-42E3-9179-CD6ECAE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3354-F941-42DB-BD0E-02F7AD053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86040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1158840" cy="114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211640" y="249228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744480" cy="11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268360" y="5013360"/>
            <a:ext cx="84168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4000" y="4365720"/>
            <a:ext cx="1306440" cy="117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9280" y="2276640"/>
            <a:ext cx="852480" cy="151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419640" y="476280"/>
            <a:ext cx="1304640" cy="134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284640"/>
            <a:ext cx="316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547640" y="2060640"/>
            <a:ext cx="216072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2060640"/>
            <a:ext cx="201600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Ga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68360" y="2492280"/>
            <a:ext cx="97164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17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n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530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dou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62784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éc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1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62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645000"/>
            <a:ext cx="144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55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206064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90792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184464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844640"/>
            <a:ext cx="3585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47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n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263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52000" y="155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55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o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0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9:19:55Z</dcterms:created>
  <dc:creator>CSeccombe</dc:creator>
  <dc:description/>
  <dc:language>en-US</dc:language>
  <cp:lastModifiedBy>CSeccombe</cp:lastModifiedBy>
  <dcterms:modified xsi:type="dcterms:W3CDTF">2005-05-10T19:36:04Z</dcterms:modified>
  <cp:revision>3</cp:revision>
  <dc:subject/>
  <dc:title>Slide 1</dc:title>
</cp:coreProperties>
</file>