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01E-04FF-4753-8EF8-C5D51820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BD7-0ABF-4AD8-B162-DD12B326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778-C65E-4D3E-832D-7133F1FA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B25-5E58-42C3-9836-27A832D5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5A1-0963-4A1A-8938-532BAA63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98E-EC3B-4F08-91E8-D78543D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E6B-07A7-4B44-B0C1-520C8156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8BA-67F9-4BC9-8AA5-600D79AB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CE2-C6E9-4043-9857-DB9822B8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9C7-A63E-40E1-9D60-A09B001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B25-0DA2-477A-963C-540D139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E15-D2BC-49BE-BC1F-ED05FEEC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DEA8-B00D-4E6B-9213-9F4F4CA5D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990720"/>
            <a:ext cx="704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762120"/>
          </a:xfrm>
          <a:prstGeom prst="rightArrowCallout">
            <a:avLst>
              <a:gd name="adj1" fmla="val 25002"/>
              <a:gd name="adj2" fmla="val 25000"/>
              <a:gd name="adj3" fmla="val 10664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a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0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3068640"/>
            <a:ext cx="2448000" cy="647640"/>
          </a:xfrm>
          <a:prstGeom prst="rightArrowCallout">
            <a:avLst>
              <a:gd name="adj1" fmla="val 25002"/>
              <a:gd name="adj2" fmla="val 25000"/>
              <a:gd name="adj3" fmla="val 629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1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4941720"/>
            <a:ext cx="3024000" cy="1079640"/>
          </a:xfrm>
          <a:prstGeom prst="downArrowCallout">
            <a:avLst>
              <a:gd name="adj1" fmla="val 28375"/>
              <a:gd name="adj2" fmla="val 35803"/>
              <a:gd name="adj3" fmla="val 17796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Pyré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765000"/>
            <a:ext cx="5472360" cy="648000"/>
          </a:xfrm>
          <a:prstGeom prst="rightArrowCallout">
            <a:avLst>
              <a:gd name="adj1" fmla="val 33336"/>
              <a:gd name="adj2" fmla="val 25000"/>
              <a:gd name="adj3" fmla="val 199904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Luxembou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4005360"/>
            <a:ext cx="3671640" cy="1008000"/>
          </a:xfrm>
          <a:prstGeom prst="rightArrowCallout">
            <a:avLst>
              <a:gd name="adj1" fmla="val 25002"/>
              <a:gd name="adj2" fmla="val 25000"/>
              <a:gd name="adj3" fmla="val 6070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Mass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5562720"/>
            <a:ext cx="117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1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5157720"/>
            <a:ext cx="3743280" cy="1081080"/>
          </a:xfrm>
          <a:prstGeom prst="downArrowCallout">
            <a:avLst>
              <a:gd name="adj1" fmla="val 25266"/>
              <a:gd name="adj2" fmla="val 31275"/>
              <a:gd name="adj3" fmla="val 1833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éditerrané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71640" y="692280"/>
            <a:ext cx="7056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Black"/>
              </a:rPr>
              <a:t>FIN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221000"/>
            <a:ext cx="3960720" cy="648000"/>
          </a:xfrm>
          <a:prstGeom prst="rightArrowCallout">
            <a:avLst>
              <a:gd name="adj1" fmla="val 25002"/>
              <a:gd name="adj2" fmla="val 25000"/>
              <a:gd name="adj3" fmla="val 10187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s Al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3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429000"/>
            <a:ext cx="3384720" cy="1079640"/>
          </a:xfrm>
          <a:prstGeom prst="rightArrowCallout">
            <a:avLst>
              <a:gd name="adj1" fmla="val 25002"/>
              <a:gd name="adj2" fmla="val 25000"/>
              <a:gd name="adj3" fmla="val 52251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Océ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Pac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4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1413000"/>
            <a:ext cx="2737080" cy="936360"/>
          </a:xfrm>
          <a:prstGeom prst="downArrowCallout">
            <a:avLst>
              <a:gd name="adj1" fmla="val 25769"/>
              <a:gd name="adj2" fmla="val 31532"/>
              <a:gd name="adj3" fmla="val 1356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L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5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141720"/>
            <a:ext cx="4319640" cy="718920"/>
          </a:xfrm>
          <a:prstGeom prst="rightArrowCallout">
            <a:avLst>
              <a:gd name="adj1" fmla="val 25002"/>
              <a:gd name="adj2" fmla="val 25000"/>
              <a:gd name="adj3" fmla="val 100142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Ita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6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3456000" y="260280"/>
            <a:ext cx="5688000" cy="863640"/>
          </a:xfrm>
          <a:prstGeom prst="leftArrowCallout">
            <a:avLst>
              <a:gd name="adj1" fmla="val 34559"/>
              <a:gd name="adj2" fmla="val 25000"/>
              <a:gd name="adj3" fmla="val 145016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Royaume-U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24720" y="659772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7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941720"/>
            <a:ext cx="3095640" cy="1008360"/>
          </a:xfrm>
          <a:prstGeom prst="downArrowCallout">
            <a:avLst>
              <a:gd name="adj1" fmla="val 34967"/>
              <a:gd name="adj2" fmla="val 39824"/>
              <a:gd name="adj3" fmla="val 14398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e Portu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8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81000"/>
            <a:ext cx="4176720" cy="505080"/>
          </a:xfrm>
          <a:prstGeom prst="leftArrowCallout">
            <a:avLst>
              <a:gd name="adj1" fmla="val 25002"/>
              <a:gd name="adj2" fmla="val 25000"/>
              <a:gd name="adj3" fmla="val 137824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a Man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6324480" cy="622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80880" y="1371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faux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10800000"/>
                </a:gradFill>
                <a:latin typeface="Impact"/>
              </a:rPr>
              <a:t>vra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990720"/>
            <a:ext cx="476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ou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556272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9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765000"/>
            <a:ext cx="4464000" cy="721080"/>
          </a:xfrm>
          <a:prstGeom prst="rightArrowCallout">
            <a:avLst>
              <a:gd name="adj1" fmla="val 25002"/>
              <a:gd name="adj2" fmla="val 25000"/>
              <a:gd name="adj3" fmla="val 10317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Rounded MT Bold"/>
              </a:rPr>
              <a:t>L’Allemag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24720" y="66135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 Rounded MT Bold"/>
              </a:rPr>
              <a:t>©CA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25:57Z</dcterms:created>
  <dc:creator>clare.seccombe</dc:creator>
  <dc:description/>
  <dc:language>en-US</dc:language>
  <cp:lastModifiedBy>CSeccombe</cp:lastModifiedBy>
  <dcterms:modified xsi:type="dcterms:W3CDTF">2005-06-02T09:46:35Z</dcterms:modified>
  <cp:revision>14</cp:revision>
  <dc:subject/>
  <dc:title>PowerPoint Presentation</dc:title>
</cp:coreProperties>
</file>