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7EA-23F5-4414-AB49-955CE0EB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E36-E57D-4745-B59E-073C504E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58E-C700-4B1E-B4A8-761CB8A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1BA-1B70-4445-BE4E-F286D3FA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EEC-1D6C-4EF1-8E09-14C2FD82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1CA-410D-4155-827E-45653EB6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71A-9391-47A3-BC59-B491BA74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99B-9C94-4883-809C-1E3B1733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3FD-077F-4EB0-A3FC-99D5D21F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BF8-D36B-4024-B606-D3BFB3B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ECC-BA21-4D76-B23A-C66B048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EF1-864B-4658-B4D9-6C2E9E8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C8D-E7D8-4012-B785-9DFB4D2C2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990720"/>
            <a:ext cx="704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971800"/>
            <a:ext cx="4876560" cy="762120"/>
          </a:xfrm>
          <a:prstGeom prst="rightArrowCallout">
            <a:avLst>
              <a:gd name="adj1" fmla="val 25002"/>
              <a:gd name="adj2" fmla="val 25000"/>
              <a:gd name="adj3" fmla="val 10664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a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0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3068640"/>
            <a:ext cx="2448000" cy="647640"/>
          </a:xfrm>
          <a:prstGeom prst="rightArrowCallout">
            <a:avLst>
              <a:gd name="adj1" fmla="val 25002"/>
              <a:gd name="adj2" fmla="val 25000"/>
              <a:gd name="adj3" fmla="val 629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941720"/>
            <a:ext cx="3024000" cy="1079640"/>
          </a:xfrm>
          <a:prstGeom prst="downArrowCallout">
            <a:avLst>
              <a:gd name="adj1" fmla="val 28375"/>
              <a:gd name="adj2" fmla="val 35803"/>
              <a:gd name="adj3" fmla="val 17796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Pyré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765000"/>
            <a:ext cx="5472360" cy="648000"/>
          </a:xfrm>
          <a:prstGeom prst="rightArrowCallout">
            <a:avLst>
              <a:gd name="adj1" fmla="val 33336"/>
              <a:gd name="adj2" fmla="val 25000"/>
              <a:gd name="adj3" fmla="val 199904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Luxembou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4005360"/>
            <a:ext cx="3671640" cy="1008000"/>
          </a:xfrm>
          <a:prstGeom prst="rightArrowCallout">
            <a:avLst>
              <a:gd name="adj1" fmla="val 25002"/>
              <a:gd name="adj2" fmla="val 25000"/>
              <a:gd name="adj3" fmla="val 6070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Mass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5157720"/>
            <a:ext cx="3743280" cy="1081080"/>
          </a:xfrm>
          <a:prstGeom prst="downArrowCallout">
            <a:avLst>
              <a:gd name="adj1" fmla="val 25266"/>
              <a:gd name="adj2" fmla="val 31275"/>
              <a:gd name="adj3" fmla="val 1833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éditerrané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71640" y="692280"/>
            <a:ext cx="70563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Black"/>
              </a:rPr>
              <a:t>FIN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221000"/>
            <a:ext cx="3960720" cy="648000"/>
          </a:xfrm>
          <a:prstGeom prst="rightArrowCallout">
            <a:avLst>
              <a:gd name="adj1" fmla="val 25002"/>
              <a:gd name="adj2" fmla="val 25000"/>
              <a:gd name="adj3" fmla="val 10187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l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3429000"/>
            <a:ext cx="3384720" cy="1079640"/>
          </a:xfrm>
          <a:prstGeom prst="rightArrowCallout">
            <a:avLst>
              <a:gd name="adj1" fmla="val 25002"/>
              <a:gd name="adj2" fmla="val 25000"/>
              <a:gd name="adj3" fmla="val 52251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Océ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cif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1413000"/>
            <a:ext cx="2737080" cy="936360"/>
          </a:xfrm>
          <a:prstGeom prst="downArrowCallout">
            <a:avLst>
              <a:gd name="adj1" fmla="val 25769"/>
              <a:gd name="adj2" fmla="val 31532"/>
              <a:gd name="adj3" fmla="val 1356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Lo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141720"/>
            <a:ext cx="4319640" cy="718920"/>
          </a:xfrm>
          <a:prstGeom prst="rightArrowCallout">
            <a:avLst>
              <a:gd name="adj1" fmla="val 25002"/>
              <a:gd name="adj2" fmla="val 25000"/>
              <a:gd name="adj3" fmla="val 100142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Ital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3456000" y="260280"/>
            <a:ext cx="5688000" cy="863640"/>
          </a:xfrm>
          <a:prstGeom prst="leftArrowCallout">
            <a:avLst>
              <a:gd name="adj1" fmla="val 34559"/>
              <a:gd name="adj2" fmla="val 25000"/>
              <a:gd name="adj3" fmla="val 145016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Royaume-U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24720" y="659772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941720"/>
            <a:ext cx="3095640" cy="1008360"/>
          </a:xfrm>
          <a:prstGeom prst="downArrowCallout">
            <a:avLst>
              <a:gd name="adj1" fmla="val 34967"/>
              <a:gd name="adj2" fmla="val 39824"/>
              <a:gd name="adj3" fmla="val 143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Portu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8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81000"/>
            <a:ext cx="4176720" cy="505080"/>
          </a:xfrm>
          <a:prstGeom prst="leftArrowCallout">
            <a:avLst>
              <a:gd name="adj1" fmla="val 25002"/>
              <a:gd name="adj2" fmla="val 25000"/>
              <a:gd name="adj3" fmla="val 137824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an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9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765000"/>
            <a:ext cx="4464000" cy="721080"/>
          </a:xfrm>
          <a:prstGeom prst="rightArrowCallout">
            <a:avLst>
              <a:gd name="adj1" fmla="val 25002"/>
              <a:gd name="adj2" fmla="val 25000"/>
              <a:gd name="adj3" fmla="val 103179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llemag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25:57Z</dcterms:created>
  <dc:creator>clare.seccombe</dc:creator>
  <dc:description/>
  <dc:language>en-US</dc:language>
  <cp:lastModifiedBy>CSeccombe</cp:lastModifiedBy>
  <dcterms:modified xsi:type="dcterms:W3CDTF">2005-06-02T09:46:35Z</dcterms:modified>
  <cp:revision>14</cp:revision>
  <dc:subject/>
  <dc:title>PowerPoint Presentation</dc:title>
</cp:coreProperties>
</file>