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2D6-D1A6-4A71-80B9-3A1CCB0C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FE8-945A-4D4C-A2A9-08118B9A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715-D360-4FDE-B2B1-13714C15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BFF-72ED-43CE-AA84-8AA332F2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5AB5-B49A-46D0-BFC5-C8419E26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2705-FD62-4BC3-B8DF-30391849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F6E-8DEB-4460-BAB1-F24E95D2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257-B7BA-440C-94F7-390CCB25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534-297A-4D87-B059-F1866353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E325-95F9-48CB-81E3-CC7F4BE1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8487-8044-4DA5-9553-4DDCE7B9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5E92-BE89-4BD5-9935-5841D165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02FF-4550-4B0C-84A2-00DA2EAAA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990720"/>
            <a:ext cx="704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971800"/>
            <a:ext cx="4876560" cy="762120"/>
          </a:xfrm>
          <a:prstGeom prst="rightArrowCallout">
            <a:avLst>
              <a:gd name="adj1" fmla="val 25002"/>
              <a:gd name="adj2" fmla="val 25000"/>
              <a:gd name="adj3" fmla="val 106645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La F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64000" y="3645000"/>
            <a:ext cx="3816360" cy="2448000"/>
          </a:xfrm>
          <a:prstGeom prst="irregularSeal2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VRAI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5562720"/>
            <a:ext cx="117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0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3068640"/>
            <a:ext cx="2448000" cy="647640"/>
          </a:xfrm>
          <a:prstGeom prst="rightArrowCallout">
            <a:avLst>
              <a:gd name="adj1" fmla="val 25002"/>
              <a:gd name="adj2" fmla="val 25000"/>
              <a:gd name="adj3" fmla="val 62998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Par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3716280"/>
            <a:ext cx="3672000" cy="273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FAUX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5562720"/>
            <a:ext cx="117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1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4941720"/>
            <a:ext cx="3024000" cy="1079640"/>
          </a:xfrm>
          <a:prstGeom prst="downArrowCallout">
            <a:avLst>
              <a:gd name="adj1" fmla="val 28375"/>
              <a:gd name="adj2" fmla="val 35803"/>
              <a:gd name="adj3" fmla="val 17796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s Pyréné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24360" y="1628640"/>
            <a:ext cx="3816360" cy="2448000"/>
          </a:xfrm>
          <a:prstGeom prst="irregularSeal2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VRAI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5562720"/>
            <a:ext cx="117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2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765000"/>
            <a:ext cx="5472360" cy="648000"/>
          </a:xfrm>
          <a:prstGeom prst="rightArrowCallout">
            <a:avLst>
              <a:gd name="adj1" fmla="val 33336"/>
              <a:gd name="adj2" fmla="val 25000"/>
              <a:gd name="adj3" fmla="val 199904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 Luxembou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1700280"/>
            <a:ext cx="3672000" cy="27367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FAUX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5562720"/>
            <a:ext cx="117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3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4005360"/>
            <a:ext cx="3671640" cy="1008000"/>
          </a:xfrm>
          <a:prstGeom prst="rightArrowCallout">
            <a:avLst>
              <a:gd name="adj1" fmla="val 25002"/>
              <a:gd name="adj2" fmla="val 25000"/>
              <a:gd name="adj3" fmla="val 60708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 Mass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Cent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51280" y="1052640"/>
            <a:ext cx="3672000" cy="27367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FAUX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5562720"/>
            <a:ext cx="117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4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5157720"/>
            <a:ext cx="3743280" cy="1081080"/>
          </a:xfrm>
          <a:prstGeom prst="downArrowCallout">
            <a:avLst>
              <a:gd name="adj1" fmla="val 25266"/>
              <a:gd name="adj2" fmla="val 31275"/>
              <a:gd name="adj3" fmla="val 18338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Méditerrané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2133720"/>
            <a:ext cx="3816360" cy="2447640"/>
          </a:xfrm>
          <a:prstGeom prst="irregularSeal2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VRAI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71640" y="692280"/>
            <a:ext cx="7056360" cy="53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Arial Black"/>
              </a:rPr>
              <a:t>FIN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2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4221000"/>
            <a:ext cx="3960720" cy="648000"/>
          </a:xfrm>
          <a:prstGeom prst="rightArrowCallout">
            <a:avLst>
              <a:gd name="adj1" fmla="val 25002"/>
              <a:gd name="adj2" fmla="val 25000"/>
              <a:gd name="adj3" fmla="val 101870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s Al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1700280"/>
            <a:ext cx="3672000" cy="27367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FAUX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3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3429000"/>
            <a:ext cx="3384720" cy="1079640"/>
          </a:xfrm>
          <a:prstGeom prst="rightArrowCallout">
            <a:avLst>
              <a:gd name="adj1" fmla="val 25002"/>
              <a:gd name="adj2" fmla="val 25000"/>
              <a:gd name="adj3" fmla="val 52251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’Océ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Pacifi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56000" y="1700280"/>
            <a:ext cx="3672000" cy="27367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FAUX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4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1413000"/>
            <a:ext cx="2737080" cy="936360"/>
          </a:xfrm>
          <a:prstGeom prst="downArrowCallout">
            <a:avLst>
              <a:gd name="adj1" fmla="val 25769"/>
              <a:gd name="adj2" fmla="val 31532"/>
              <a:gd name="adj3" fmla="val 13560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Lo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56000" y="1700280"/>
            <a:ext cx="3672000" cy="27367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FAUX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5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3851280" y="3141720"/>
            <a:ext cx="4319640" cy="718920"/>
          </a:xfrm>
          <a:prstGeom prst="rightArrowCallout">
            <a:avLst>
              <a:gd name="adj1" fmla="val 25002"/>
              <a:gd name="adj2" fmla="val 25000"/>
              <a:gd name="adj3" fmla="val 100142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’Ital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3860640"/>
            <a:ext cx="3672000" cy="273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FAUX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6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81" name=""/>
          <p:cNvSpPr/>
          <p:nvPr/>
        </p:nvSpPr>
        <p:spPr>
          <a:xfrm>
            <a:off x="3456000" y="260280"/>
            <a:ext cx="5688000" cy="863640"/>
          </a:xfrm>
          <a:prstGeom prst="leftArrowCallout">
            <a:avLst>
              <a:gd name="adj1" fmla="val 34559"/>
              <a:gd name="adj2" fmla="val 25000"/>
              <a:gd name="adj3" fmla="val 145016"/>
              <a:gd name="adj4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 Royaume-U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3645000"/>
            <a:ext cx="3816360" cy="2448000"/>
          </a:xfrm>
          <a:prstGeom prst="irregularSeal2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VRAI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7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4941720"/>
            <a:ext cx="3095640" cy="1008360"/>
          </a:xfrm>
          <a:prstGeom prst="downArrowCallout">
            <a:avLst>
              <a:gd name="adj1" fmla="val 34967"/>
              <a:gd name="adj2" fmla="val 39824"/>
              <a:gd name="adj3" fmla="val 14398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 Portug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700280"/>
            <a:ext cx="3672000" cy="27367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FAUX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8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995640" y="981000"/>
            <a:ext cx="4176720" cy="505080"/>
          </a:xfrm>
          <a:prstGeom prst="leftArrowCallout">
            <a:avLst>
              <a:gd name="adj1" fmla="val 25002"/>
              <a:gd name="adj2" fmla="val 25000"/>
              <a:gd name="adj3" fmla="val 137824"/>
              <a:gd name="adj4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Man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3645000"/>
            <a:ext cx="3816360" cy="2448000"/>
          </a:xfrm>
          <a:prstGeom prst="irregularSeal2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VRAI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9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765000"/>
            <a:ext cx="4464000" cy="721080"/>
          </a:xfrm>
          <a:prstGeom prst="rightArrowCallout">
            <a:avLst>
              <a:gd name="adj1" fmla="val 25002"/>
              <a:gd name="adj2" fmla="val 25000"/>
              <a:gd name="adj3" fmla="val 103179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’Allemag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3645000"/>
            <a:ext cx="3816360" cy="2448000"/>
          </a:xfrm>
          <a:prstGeom prst="irregularSeal2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VRAI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8:25:57Z</dcterms:created>
  <dc:creator>clare.seccombe</dc:creator>
  <dc:description/>
  <dc:language>en-US</dc:language>
  <cp:lastModifiedBy>CSeccombe</cp:lastModifiedBy>
  <dcterms:modified xsi:type="dcterms:W3CDTF">2007-09-27T11:40:10Z</dcterms:modified>
  <cp:revision>16</cp:revision>
  <dc:subject/>
  <dc:title>PowerPoint Presentation</dc:title>
</cp:coreProperties>
</file>