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5D34-FCD5-4E8B-B1EC-8EBC6FF1B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4FC2-418A-47B8-8699-AE37C8DCF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B458-A648-47DE-9B32-7A7FEAEA9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9849-F110-4E06-A2A8-ED3AAD35B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D4FF-E33A-4CCA-80F4-0435F64E0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E9C3-E5C7-42FE-BAAA-44C748F9C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C52C-1266-4AE6-BD7B-86AD2691C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1CD1-B6F2-4582-837B-80D130894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A662-DE83-4A38-AAC2-2BB950926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BE3A-F906-4A28-85AC-4C2C290D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ACB0-C16D-46CD-A099-0DDAE9C0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6A7C-0A46-421C-BE74-BD22D88A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DF773-7BAF-48E6-8286-83B4899F15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62320" y="304920"/>
            <a:ext cx="6324480" cy="6221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80880" y="1371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faux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80880" y="228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vrai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838080" y="990720"/>
            <a:ext cx="7048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Impact"/>
              </a:rPr>
              <a:t>ou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Impact"/>
              <a:ea typeface="Impac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04920" y="5562720"/>
            <a:ext cx="60948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1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2971800"/>
            <a:ext cx="4876560" cy="762120"/>
          </a:xfrm>
          <a:prstGeom prst="rightArrowCallout">
            <a:avLst>
              <a:gd name="adj1" fmla="val 25002"/>
              <a:gd name="adj2" fmla="val 25000"/>
              <a:gd name="adj3" fmla="val 106645"/>
              <a:gd name="adj4" fmla="val 6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La Fr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64000" y="3645000"/>
            <a:ext cx="3816360" cy="2448000"/>
          </a:xfrm>
          <a:prstGeom prst="irregularSeal2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VRAI 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362320" y="304920"/>
            <a:ext cx="6324480" cy="62211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380880" y="1371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faux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80880" y="228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vrai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914400" y="990720"/>
            <a:ext cx="4762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Impact"/>
              </a:rPr>
              <a:t>ou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Impact"/>
              <a:ea typeface="Impact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5562720"/>
            <a:ext cx="117144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10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109" name=""/>
          <p:cNvSpPr/>
          <p:nvPr/>
        </p:nvSpPr>
        <p:spPr>
          <a:xfrm>
            <a:off x="3708360" y="3068640"/>
            <a:ext cx="2448000" cy="647640"/>
          </a:xfrm>
          <a:prstGeom prst="rightArrowCallout">
            <a:avLst>
              <a:gd name="adj1" fmla="val 25002"/>
              <a:gd name="adj2" fmla="val 25000"/>
              <a:gd name="adj3" fmla="val 62998"/>
              <a:gd name="adj4" fmla="val 6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Par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84720" y="3716280"/>
            <a:ext cx="3672000" cy="273708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FAUX </a:t>
            </a:r>
            <a:r>
              <a:rPr b="0" lang="en-GB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362320" y="304920"/>
            <a:ext cx="6324480" cy="62211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380880" y="1371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faux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80880" y="228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vrai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914400" y="990720"/>
            <a:ext cx="4762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Impact"/>
              </a:rPr>
              <a:t>ou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Impact"/>
              <a:ea typeface="Impact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5562720"/>
            <a:ext cx="117144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11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116" name=""/>
          <p:cNvSpPr/>
          <p:nvPr/>
        </p:nvSpPr>
        <p:spPr>
          <a:xfrm>
            <a:off x="3059280" y="4941720"/>
            <a:ext cx="3024000" cy="1079640"/>
          </a:xfrm>
          <a:prstGeom prst="downArrowCallout">
            <a:avLst>
              <a:gd name="adj1" fmla="val 28375"/>
              <a:gd name="adj2" fmla="val 35803"/>
              <a:gd name="adj3" fmla="val 17796"/>
              <a:gd name="adj4" fmla="val 6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Les Pyréné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24360" y="1628640"/>
            <a:ext cx="3816360" cy="2448000"/>
          </a:xfrm>
          <a:prstGeom prst="irregularSeal2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VRAI 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362320" y="304920"/>
            <a:ext cx="6324480" cy="62211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380880" y="1371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faux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80880" y="228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vrai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14400" y="990720"/>
            <a:ext cx="4762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Impact"/>
              </a:rPr>
              <a:t>ou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Impact"/>
              <a:ea typeface="Impact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5562720"/>
            <a:ext cx="117144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12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123" name=""/>
          <p:cNvSpPr/>
          <p:nvPr/>
        </p:nvSpPr>
        <p:spPr>
          <a:xfrm>
            <a:off x="1763640" y="765000"/>
            <a:ext cx="5472360" cy="648000"/>
          </a:xfrm>
          <a:prstGeom prst="rightArrowCallout">
            <a:avLst>
              <a:gd name="adj1" fmla="val 33336"/>
              <a:gd name="adj2" fmla="val 25000"/>
              <a:gd name="adj3" fmla="val 199904"/>
              <a:gd name="adj4" fmla="val 6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Le Luxembour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56000" y="1700280"/>
            <a:ext cx="3672000" cy="273672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FAUX </a:t>
            </a:r>
            <a:r>
              <a:rPr b="0" lang="en-GB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362320" y="304920"/>
            <a:ext cx="6324480" cy="62211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380880" y="1371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faux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80880" y="228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vrai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914400" y="990720"/>
            <a:ext cx="4762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Impact"/>
              </a:rPr>
              <a:t>ou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Impact"/>
              <a:ea typeface="Impact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5562720"/>
            <a:ext cx="117144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13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130" name=""/>
          <p:cNvSpPr/>
          <p:nvPr/>
        </p:nvSpPr>
        <p:spPr>
          <a:xfrm>
            <a:off x="4140360" y="4005360"/>
            <a:ext cx="3671640" cy="1008000"/>
          </a:xfrm>
          <a:prstGeom prst="rightArrowCallout">
            <a:avLst>
              <a:gd name="adj1" fmla="val 25002"/>
              <a:gd name="adj2" fmla="val 25000"/>
              <a:gd name="adj3" fmla="val 60708"/>
              <a:gd name="adj4" fmla="val 6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Le Massi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Centr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51280" y="1052640"/>
            <a:ext cx="3672000" cy="273672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FAUX </a:t>
            </a:r>
            <a:r>
              <a:rPr b="0" lang="en-GB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362320" y="304920"/>
            <a:ext cx="6324480" cy="62211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380880" y="1371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faux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80880" y="228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vrai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14400" y="990720"/>
            <a:ext cx="4762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Impact"/>
              </a:rPr>
              <a:t>ou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Impact"/>
              <a:ea typeface="Impact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5562720"/>
            <a:ext cx="117144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14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137" name=""/>
          <p:cNvSpPr/>
          <p:nvPr/>
        </p:nvSpPr>
        <p:spPr>
          <a:xfrm>
            <a:off x="5148360" y="5157720"/>
            <a:ext cx="3743280" cy="1081080"/>
          </a:xfrm>
          <a:prstGeom prst="downArrowCallout">
            <a:avLst>
              <a:gd name="adj1" fmla="val 25266"/>
              <a:gd name="adj2" fmla="val 31275"/>
              <a:gd name="adj3" fmla="val 18338"/>
              <a:gd name="adj4" fmla="val 6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La Méditerrané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80000" y="2133720"/>
            <a:ext cx="3816360" cy="2447640"/>
          </a:xfrm>
          <a:prstGeom prst="irregularSeal2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VRAI 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362320" y="304920"/>
            <a:ext cx="6324480" cy="62211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380880" y="1371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faux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228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vrai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14400" y="990720"/>
            <a:ext cx="4762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Impact"/>
              </a:rPr>
              <a:t>ou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Impact"/>
              <a:ea typeface="Impact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971640" y="692280"/>
            <a:ext cx="7056360" cy="532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5400000"/>
                </a:gradFill>
                <a:latin typeface="Arial Black"/>
              </a:rPr>
              <a:t>FIN</a:t>
            </a:r>
            <a:endParaRPr b="0" lang="en-US" sz="96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362320" y="304920"/>
            <a:ext cx="6324480" cy="6221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380880" y="1371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faux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80880" y="228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vrai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914400" y="990720"/>
            <a:ext cx="4762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Impact"/>
              </a:rPr>
              <a:t>ou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Impact"/>
              <a:ea typeface="Impac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4920" y="5562720"/>
            <a:ext cx="60948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2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4221000"/>
            <a:ext cx="3960720" cy="648000"/>
          </a:xfrm>
          <a:prstGeom prst="rightArrowCallout">
            <a:avLst>
              <a:gd name="adj1" fmla="val 25002"/>
              <a:gd name="adj2" fmla="val 25000"/>
              <a:gd name="adj3" fmla="val 101870"/>
              <a:gd name="adj4" fmla="val 6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Les Alp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56000" y="1700280"/>
            <a:ext cx="3672000" cy="273672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FAUX </a:t>
            </a:r>
            <a:r>
              <a:rPr b="0" lang="en-GB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362320" y="304920"/>
            <a:ext cx="6324480" cy="62211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380880" y="1371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faux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80880" y="228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vrai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914400" y="990720"/>
            <a:ext cx="4762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Impact"/>
              </a:rPr>
              <a:t>ou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Impact"/>
              <a:ea typeface="Impac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04920" y="5562720"/>
            <a:ext cx="60948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3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3429000"/>
            <a:ext cx="3384720" cy="1079640"/>
          </a:xfrm>
          <a:prstGeom prst="rightArrowCallout">
            <a:avLst>
              <a:gd name="adj1" fmla="val 25002"/>
              <a:gd name="adj2" fmla="val 25000"/>
              <a:gd name="adj3" fmla="val 52251"/>
              <a:gd name="adj4" fmla="val 6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L’Océ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Pacifiq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56000" y="1700280"/>
            <a:ext cx="3672000" cy="273672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FAUX </a:t>
            </a:r>
            <a:r>
              <a:rPr b="0" lang="en-GB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362320" y="304920"/>
            <a:ext cx="6324480" cy="6221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380880" y="1371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faux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80880" y="228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vrai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914400" y="990720"/>
            <a:ext cx="4762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Impact"/>
              </a:rPr>
              <a:t>ou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Impact"/>
              <a:ea typeface="Impact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04920" y="5562720"/>
            <a:ext cx="60948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4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67" name=""/>
          <p:cNvSpPr/>
          <p:nvPr/>
        </p:nvSpPr>
        <p:spPr>
          <a:xfrm>
            <a:off x="5076720" y="1413000"/>
            <a:ext cx="2737080" cy="936360"/>
          </a:xfrm>
          <a:prstGeom prst="downArrowCallout">
            <a:avLst>
              <a:gd name="adj1" fmla="val 25769"/>
              <a:gd name="adj2" fmla="val 31532"/>
              <a:gd name="adj3" fmla="val 13560"/>
              <a:gd name="adj4" fmla="val 6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La Loi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356000" y="1700280"/>
            <a:ext cx="3672000" cy="273672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FAUX </a:t>
            </a:r>
            <a:r>
              <a:rPr b="0" lang="en-GB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362320" y="304920"/>
            <a:ext cx="6324480" cy="62211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380880" y="1371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faux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80880" y="228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vrai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914400" y="990720"/>
            <a:ext cx="4762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Impact"/>
              </a:rPr>
              <a:t>ou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Impact"/>
              <a:ea typeface="Impact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04920" y="5562720"/>
            <a:ext cx="60948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5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74" name=""/>
          <p:cNvSpPr/>
          <p:nvPr/>
        </p:nvSpPr>
        <p:spPr>
          <a:xfrm>
            <a:off x="3851280" y="3141720"/>
            <a:ext cx="4319640" cy="718920"/>
          </a:xfrm>
          <a:prstGeom prst="rightArrowCallout">
            <a:avLst>
              <a:gd name="adj1" fmla="val 25002"/>
              <a:gd name="adj2" fmla="val 25000"/>
              <a:gd name="adj3" fmla="val 100142"/>
              <a:gd name="adj4" fmla="val 6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L’Ital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92360" y="3860640"/>
            <a:ext cx="3672000" cy="273708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FAUX </a:t>
            </a:r>
            <a:r>
              <a:rPr b="0" lang="en-GB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362320" y="304920"/>
            <a:ext cx="6324480" cy="62211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380880" y="1371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faux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80880" y="228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vrai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14400" y="990720"/>
            <a:ext cx="4762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Impact"/>
              </a:rPr>
              <a:t>ou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Impact"/>
              <a:ea typeface="Impact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04920" y="5562720"/>
            <a:ext cx="60948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6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81" name=""/>
          <p:cNvSpPr/>
          <p:nvPr/>
        </p:nvSpPr>
        <p:spPr>
          <a:xfrm>
            <a:off x="3456000" y="260280"/>
            <a:ext cx="5688000" cy="863640"/>
          </a:xfrm>
          <a:prstGeom prst="leftArrowCallout">
            <a:avLst>
              <a:gd name="adj1" fmla="val 34559"/>
              <a:gd name="adj2" fmla="val 25000"/>
              <a:gd name="adj3" fmla="val 145016"/>
              <a:gd name="adj4" fmla="val 666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Le Royaume-Un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64000" y="3645000"/>
            <a:ext cx="3816360" cy="2448000"/>
          </a:xfrm>
          <a:prstGeom prst="irregularSeal2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VRAI 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362320" y="304920"/>
            <a:ext cx="6324480" cy="62211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380880" y="1371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faux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80880" y="228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vrai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14400" y="990720"/>
            <a:ext cx="4762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Impact"/>
              </a:rPr>
              <a:t>ou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Impact"/>
              <a:ea typeface="Impact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04920" y="5562720"/>
            <a:ext cx="60948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7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88" name=""/>
          <p:cNvSpPr/>
          <p:nvPr/>
        </p:nvSpPr>
        <p:spPr>
          <a:xfrm>
            <a:off x="1692360" y="4941720"/>
            <a:ext cx="3095640" cy="1008360"/>
          </a:xfrm>
          <a:prstGeom prst="downArrowCallout">
            <a:avLst>
              <a:gd name="adj1" fmla="val 34967"/>
              <a:gd name="adj2" fmla="val 39824"/>
              <a:gd name="adj3" fmla="val 14398"/>
              <a:gd name="adj4" fmla="val 6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Le Portug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56000" y="1700280"/>
            <a:ext cx="3672000" cy="273672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FAUX </a:t>
            </a:r>
            <a:r>
              <a:rPr b="0" lang="en-GB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362320" y="304920"/>
            <a:ext cx="6324480" cy="62211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380880" y="1371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faux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0880" y="228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vrai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914400" y="990720"/>
            <a:ext cx="4762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Impact"/>
              </a:rPr>
              <a:t>ou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Impact"/>
              <a:ea typeface="Impac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04920" y="5562720"/>
            <a:ext cx="60948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8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95" name=""/>
          <p:cNvSpPr/>
          <p:nvPr/>
        </p:nvSpPr>
        <p:spPr>
          <a:xfrm>
            <a:off x="3995640" y="981000"/>
            <a:ext cx="4176720" cy="505080"/>
          </a:xfrm>
          <a:prstGeom prst="leftArrowCallout">
            <a:avLst>
              <a:gd name="adj1" fmla="val 25002"/>
              <a:gd name="adj2" fmla="val 25000"/>
              <a:gd name="adj3" fmla="val 137824"/>
              <a:gd name="adj4" fmla="val 666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La Manc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3645000"/>
            <a:ext cx="3816360" cy="2448000"/>
          </a:xfrm>
          <a:prstGeom prst="irregularSeal2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VRAI 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362320" y="304920"/>
            <a:ext cx="6324480" cy="62211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380880" y="1371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faux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80880" y="228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vrai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914400" y="990720"/>
            <a:ext cx="4762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Impact"/>
              </a:rPr>
              <a:t>ou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Impact"/>
              <a:ea typeface="Impact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04920" y="5562720"/>
            <a:ext cx="60948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9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3780000" y="765000"/>
            <a:ext cx="4464000" cy="721080"/>
          </a:xfrm>
          <a:prstGeom prst="rightArrowCallout">
            <a:avLst>
              <a:gd name="adj1" fmla="val 25002"/>
              <a:gd name="adj2" fmla="val 25000"/>
              <a:gd name="adj3" fmla="val 103179"/>
              <a:gd name="adj4" fmla="val 6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L’Allemag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64000" y="3645000"/>
            <a:ext cx="3816360" cy="2448000"/>
          </a:xfrm>
          <a:prstGeom prst="irregularSeal2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VRAI 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2T08:25:57Z</dcterms:created>
  <dc:creator>clare.seccombe</dc:creator>
  <dc:description/>
  <dc:language>en-US</dc:language>
  <cp:lastModifiedBy>CSeccombe</cp:lastModifiedBy>
  <dcterms:modified xsi:type="dcterms:W3CDTF">2007-09-27T11:40:10Z</dcterms:modified>
  <cp:revision>16</cp:revision>
  <dc:subject/>
  <dc:title>PowerPoint Presentation</dc:title>
</cp:coreProperties>
</file>