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951-3001-4DD0-8C7E-89579460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C80-34A2-47CD-A56A-2E3245E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A41-63FA-4681-84CF-2DAE7F93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883-2A01-4DDD-B493-1B9B82B2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29B-5C97-4753-B183-F7CF63AD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48C-C59A-4023-976E-0F2C03EF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EC1-9D30-49A2-9C7C-B303831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8FF-E2C7-45F8-B4B3-F992B448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9AE-18D5-46D7-A6C3-D3B56FF2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D88-3084-4DA9-A708-3B8A752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6C3-BF24-47EA-B3F6-7187F21F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6D5-ED40-46F5-BB57-0E164AB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8A56-651E-4F9F-82E5-F77EAB2F5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4247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oyager = to tra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gir = to blu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ntendre = to 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63700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I travelled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 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5. You (sg.) bl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He blushed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6.  We 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They (f.) heard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7.  You (pl.) 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She travelled         8.  They (m.) bl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260280"/>
            <a:ext cx="84247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Voyager = to tra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Rougir = to blu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Entendre = to h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3700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I travelled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 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5. You (sg.) bl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He blushed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6.  We 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They (f.) heard  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	</a:t>
            </a: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7.  You (pl.) h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 Rounded MT Bold"/>
              </a:rPr>
              <a:t>She travelled         8.  They (m.) bl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37000"/>
            <a:ext cx="291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708280"/>
            <a:ext cx="356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1. J’ai voyag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0280"/>
            <a:ext cx="363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2.  il a rou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92640"/>
            <a:ext cx="4572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3. Elles ont enten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84640"/>
            <a:ext cx="4284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4. Elle a voyag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5. Tu as rou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3500280"/>
            <a:ext cx="464328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3399"/>
                </a:solidFill>
                <a:latin typeface="Arial Rounded MT Bold"/>
              </a:rPr>
              <a:t>6. Nous avons enten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292640"/>
            <a:ext cx="4572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Arial Rounded MT Bold"/>
              </a:rPr>
              <a:t>7. Vous avez enten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5157720"/>
            <a:ext cx="478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99"/>
                </a:solidFill>
                <a:latin typeface="Arial Rounded MT Bold"/>
              </a:rPr>
              <a:t>8.  Ils ont rou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20:21:01Z</dcterms:created>
  <dc:creator>CSeccombe</dc:creator>
  <dc:description/>
  <dc:language>en-US</dc:language>
  <cp:lastModifiedBy>PSeccombe</cp:lastModifiedBy>
  <dcterms:modified xsi:type="dcterms:W3CDTF">2005-08-03T21:15:40Z</dcterms:modified>
  <cp:revision>3</cp:revision>
  <dc:subject/>
  <dc:title>Slide 1</dc:title>
</cp:coreProperties>
</file>