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ED8D-7843-422A-96AB-16078B2FC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FA36-C37A-4782-B207-7658764B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F726-3FEB-4A6E-AA79-FF80DA79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7B72-07A4-423E-982F-9FDD9958C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7617-AC39-43BC-A172-16D40CF1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109D-2678-48B6-984E-4C30A5DD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522E-2AC9-4EBF-946A-642AF7D6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9E54-FD58-458D-A794-B00F58C1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A54E-2457-4C7E-A882-FE78FD4E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B9D7-FEAF-4D01-AEEE-80F4E729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6C1A-6ED0-4DAE-8EB7-107A9B85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902C-79DB-4A11-AE53-DDE1CEAA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E77B-B225-41DD-8F70-6CB1D3B9E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260280"/>
            <a:ext cx="8424720" cy="20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Voyager = to tra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Rougir = to blu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Entendre = to h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637000"/>
            <a:ext cx="91440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66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I travelled</a:t>
            </a: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   </a:t>
            </a: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5. You (sg.) blush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66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He blushed</a:t>
            </a: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6.  We he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66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They (f.) heard  </a:t>
            </a: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7.  You (pl.) he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66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She travelled         8.  They (m.) blush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260280"/>
            <a:ext cx="8424720" cy="20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Voyager = to tra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Rougir = to blu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Entendre = to h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637000"/>
            <a:ext cx="91440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66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I travelled</a:t>
            </a: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   </a:t>
            </a: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5. You (sg.) blush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66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He blushed</a:t>
            </a: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6.  We he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66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They (f.) heard  </a:t>
            </a: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7.  You (pl.) he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66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She travelled         8.  They (m.) blush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637000"/>
            <a:ext cx="2916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708280"/>
            <a:ext cx="3564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99"/>
                </a:solidFill>
                <a:latin typeface="Arial Rounded MT Bold"/>
              </a:rPr>
              <a:t>1. J’ai voyag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00280"/>
            <a:ext cx="36352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99"/>
                </a:solidFill>
                <a:latin typeface="Arial Rounded MT Bold"/>
              </a:rPr>
              <a:t>2.  il a roug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292640"/>
            <a:ext cx="4572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99"/>
                </a:solidFill>
                <a:latin typeface="Arial Rounded MT Bold"/>
              </a:rPr>
              <a:t>3. Elles ont entend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084640"/>
            <a:ext cx="42847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99"/>
                </a:solidFill>
                <a:latin typeface="Arial Rounded MT Bold"/>
              </a:rPr>
              <a:t>4. Elle a voyag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2708280"/>
            <a:ext cx="4572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99"/>
                </a:solidFill>
                <a:latin typeface="Arial Rounded MT Bold"/>
              </a:rPr>
              <a:t>5. Tu as roug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00720" y="3500280"/>
            <a:ext cx="464328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3399"/>
                </a:solidFill>
                <a:latin typeface="Arial Rounded MT Bold"/>
              </a:rPr>
              <a:t>6. Nous avons entend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4292640"/>
            <a:ext cx="45720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99"/>
                </a:solidFill>
                <a:latin typeface="Arial Rounded MT Bold"/>
              </a:rPr>
              <a:t>7. Vous avez enten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56000" y="5157720"/>
            <a:ext cx="4788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99"/>
                </a:solidFill>
                <a:latin typeface="Arial Rounded MT Bold"/>
              </a:rPr>
              <a:t>8.  Ils ont roug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31T20:21:01Z</dcterms:created>
  <dc:creator>CSeccombe</dc:creator>
  <dc:description/>
  <dc:language>en-US</dc:language>
  <cp:lastModifiedBy>PSeccombe</cp:lastModifiedBy>
  <dcterms:modified xsi:type="dcterms:W3CDTF">2005-08-03T21:15:40Z</dcterms:modified>
  <cp:revision>3</cp:revision>
  <dc:subject/>
  <dc:title>Slide 1</dc:title>
</cp:coreProperties>
</file>