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A77-8B58-41E0-AD00-D14298C3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30C-811D-4087-AB38-BE8B5FA3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16D-0F30-4E10-8B69-98BF5F81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AE8-3C5A-44DE-A2F2-70F972C2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050-8766-40BE-AA13-CD5E575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321-E05E-439F-8737-A4007689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F4E-7279-43E8-9101-6A4FAF2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72F-506F-4546-877E-7BA5F1C2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B71-28B6-4ACD-92C9-38E6E54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2C0-B00C-456D-BE5F-0F4769FA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F55-55D6-43CF-92D4-5E7BB0C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35C-AB21-455F-A8A6-FB31536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566-96BB-4AC9-A40B-7CEDEBEFF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643280" y="1557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067280" y="2852640"/>
            <a:ext cx="576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huit he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08000" y="2852640"/>
            <a:ext cx="93492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852640"/>
            <a:ext cx="43344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cinq heures moins ving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852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284720" y="2276640"/>
            <a:ext cx="35856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72428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onze heures et qu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284720" y="2852640"/>
            <a:ext cx="35856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3280" y="2781360"/>
            <a:ext cx="720720" cy="7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trois heures moins vingt-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852640"/>
            <a:ext cx="7308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3280" y="2204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midi et dem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852640"/>
            <a:ext cx="10810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43280" y="2349360"/>
            <a:ext cx="36036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une heure ving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492000" y="2852640"/>
            <a:ext cx="1150920" cy="7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67280" y="2565360"/>
            <a:ext cx="57600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dix heures moins le qu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643280" y="1844640"/>
            <a:ext cx="576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2852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six heures 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2852640"/>
            <a:ext cx="576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43280" y="2420640"/>
            <a:ext cx="6494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deux heures vingt-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708000" y="2349360"/>
            <a:ext cx="93492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2852640"/>
            <a:ext cx="6494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quatre heures moins d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21:31:12Z</dcterms:created>
  <dc:creator>CSeccombe</dc:creator>
  <dc:description/>
  <dc:language>en-US</dc:language>
  <cp:lastModifiedBy>CSeccombe</cp:lastModifiedBy>
  <dcterms:modified xsi:type="dcterms:W3CDTF">2005-03-31T20:00:43Z</dcterms:modified>
  <cp:revision>5</cp:revision>
  <dc:subject/>
  <dc:title>Slide 1</dc:title>
</cp:coreProperties>
</file>