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199C-4900-46AC-8334-12BD71D5F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95B6-B0D2-4C5C-8609-F160FE5D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C808-57FF-4AA7-8460-BB0C9A921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F928-EEEE-4B18-B65F-4405CBA91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5E13-66CC-474F-BCFF-AF0676E4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70E2-5C43-46B7-947F-39509805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F3D4-DB0C-4E7F-AD71-F1B60628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848E-065E-46F9-A5D0-1311FD09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29CB-97B0-48F3-BB5A-00574DF7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C6D2-AC1C-4E42-A730-D4187DA8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5445-8485-4C71-B201-6701A450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14D9-B2EA-49AE-8469-29464795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B8DB-31B1-4600-AA58-6B2A97D53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132000" y="1341360"/>
            <a:ext cx="3035520" cy="3035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547640" y="189000"/>
            <a:ext cx="61437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 Black"/>
              </a:rPr>
              <a:t>Quelle heure est-il ?</a:t>
            </a:r>
            <a:endParaRPr b="0" lang="en-US" sz="4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4643280" y="1557360"/>
            <a:ext cx="0" cy="1295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4067280" y="2852640"/>
            <a:ext cx="57600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72428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Rounded MT Bold"/>
              </a:rPr>
              <a:t>il est huit he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132000" y="1341360"/>
            <a:ext cx="3035520" cy="3035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547640" y="189000"/>
            <a:ext cx="61437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 Black"/>
              </a:rPr>
              <a:t>Quelle heure est-il ?</a:t>
            </a:r>
            <a:endParaRPr b="0" lang="en-US" sz="4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708000" y="2852640"/>
            <a:ext cx="93492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43280" y="2852640"/>
            <a:ext cx="433440" cy="5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472428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Rounded MT Bold"/>
              </a:rPr>
              <a:t>il est cinq heures moins ving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132000" y="1341360"/>
            <a:ext cx="3035520" cy="3035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547640" y="189000"/>
            <a:ext cx="61437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 Black"/>
              </a:rPr>
              <a:t>Quelle heure est-il ?</a:t>
            </a:r>
            <a:endParaRPr b="0" lang="en-US" sz="4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4643280" y="2852640"/>
            <a:ext cx="1152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4284720" y="2276640"/>
            <a:ext cx="358560" cy="57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4724280"/>
            <a:ext cx="81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Rounded MT Bold"/>
              </a:rPr>
              <a:t>il est onze heures et qua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132000" y="1341360"/>
            <a:ext cx="3035520" cy="3035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547640" y="189000"/>
            <a:ext cx="61437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 Black"/>
              </a:rPr>
              <a:t>Quelle heure est-il ?</a:t>
            </a:r>
            <a:endParaRPr b="0" lang="en-US" sz="4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4284720" y="2852640"/>
            <a:ext cx="358560" cy="79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643280" y="2781360"/>
            <a:ext cx="720720" cy="71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472428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Rounded MT Bold"/>
              </a:rPr>
              <a:t>il est trois heures moins vingt-cinq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132000" y="1341360"/>
            <a:ext cx="3035520" cy="3035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1547640" y="189000"/>
            <a:ext cx="61437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 Black"/>
              </a:rPr>
              <a:t>Quelle heure est-il ?</a:t>
            </a:r>
            <a:endParaRPr b="0" lang="en-US" sz="4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4643280" y="2852640"/>
            <a:ext cx="73080" cy="1297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643280" y="220464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472428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Rounded MT Bold"/>
              </a:rPr>
              <a:t>il est midi et demi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132000" y="1341360"/>
            <a:ext cx="3035520" cy="3035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1547640" y="189000"/>
            <a:ext cx="61437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 Black"/>
              </a:rPr>
              <a:t>Quelle heure est-il ?</a:t>
            </a:r>
            <a:endParaRPr b="0" lang="en-US" sz="4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852640"/>
            <a:ext cx="108108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643280" y="2349360"/>
            <a:ext cx="36036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6920" y="472428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Rounded MT Bold"/>
              </a:rPr>
              <a:t>il est une heure ving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132000" y="1341360"/>
            <a:ext cx="3035520" cy="3035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1547640" y="189000"/>
            <a:ext cx="61437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 Black"/>
              </a:rPr>
              <a:t>Quelle heure est-il ?</a:t>
            </a:r>
            <a:endParaRPr b="0" lang="en-US" sz="4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492000" y="2852640"/>
            <a:ext cx="1150920" cy="7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4067280" y="2565360"/>
            <a:ext cx="576000" cy="287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6920" y="472428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Rounded MT Bold"/>
              </a:rPr>
              <a:t>il est dix heures moins le qua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132000" y="1341360"/>
            <a:ext cx="3035520" cy="3035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547640" y="189000"/>
            <a:ext cx="61437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 Black"/>
              </a:rPr>
              <a:t>Quelle heure est-il ?</a:t>
            </a:r>
            <a:endParaRPr b="0" lang="en-US" sz="4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643280" y="1844640"/>
            <a:ext cx="576360" cy="1008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43280" y="285264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472428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Rounded MT Bold"/>
              </a:rPr>
              <a:t>il est six heures cinq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132000" y="1341360"/>
            <a:ext cx="3035520" cy="3035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1547640" y="189000"/>
            <a:ext cx="61437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 Black"/>
              </a:rPr>
              <a:t>Quelle heure est-il ?</a:t>
            </a:r>
            <a:endParaRPr b="0" lang="en-US" sz="4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4643280" y="2852640"/>
            <a:ext cx="57636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643280" y="2420640"/>
            <a:ext cx="64944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26920" y="472428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Rounded MT Bold"/>
              </a:rPr>
              <a:t>il est deux heures vingt-cinq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132000" y="1341360"/>
            <a:ext cx="3035520" cy="30355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1547640" y="189000"/>
            <a:ext cx="61437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 Black"/>
              </a:rPr>
              <a:t>Quelle heure est-il ?</a:t>
            </a:r>
            <a:endParaRPr b="0" lang="en-US" sz="4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708000" y="2349360"/>
            <a:ext cx="93492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2852640"/>
            <a:ext cx="64944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26920" y="472428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Rounded MT Bold"/>
              </a:rPr>
              <a:t>il est quatre heures moins di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7T21:31:12Z</dcterms:created>
  <dc:creator>CSeccombe</dc:creator>
  <dc:description/>
  <dc:language>en-US</dc:language>
  <cp:lastModifiedBy>CSeccombe</cp:lastModifiedBy>
  <dcterms:modified xsi:type="dcterms:W3CDTF">2005-03-31T20:00:43Z</dcterms:modified>
  <cp:revision>5</cp:revision>
  <dc:subject/>
  <dc:title>Slide 1</dc:title>
</cp:coreProperties>
</file>