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07F-C453-4C75-9536-ED30D5D9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25E-7493-42A0-A3B0-26DB36E2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454-4F33-441A-B3A5-95E7D285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613-F53A-40E3-921C-174CFD3D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C73-9156-4D93-ABC8-6F873F52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EA6-F06A-42C0-9324-61DFEC09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B90-6C90-4052-AEA0-0056E6FB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2D7-CC36-405E-82F5-7491FEA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52B-FBAE-4E85-845E-B55C074E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D42-A154-4F6C-9B60-4C7C0B4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19F-DD05-4A22-80E9-181CDC1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898-FB48-454C-B64D-A0B6EA9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495-5C6A-47B2-8A91-597FF5850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logs.mysanantonio.com/weblogs/latinnotes/archives/DomingoPlacido022807.JPG&amp;imgrefurl=http://blogs.mysanantonio.com/weblogs/latinnotes/archives/2007/02/placido_domingo.html&amp;h=360&amp;w=298&amp;sz=18&amp;hl=en&amp;start=11&amp;um=1&amp;tbnid=HPnF2judnHJ9zM:&amp;tbnh=121&amp;tbnw=100&amp;prev=/images%3Fq%3Dplacido%2Bdomingo%26svnum%3D10%26um%3D1%26hl%3Den%26safe%3Dactive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0280"/>
            <a:ext cx="7920000" cy="61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Des Superlatif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638172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underlandschools.org/mfl-sunderl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2467080" cy="334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homm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Robert Pershing Wadlow, 8’1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2536560" cy="338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Sandy Allen, 7’7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femm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ld Frog"/>
          <p:cNvPicPr/>
          <p:nvPr/>
        </p:nvPicPr>
        <p:blipFill>
          <a:blip r:embed="rId1"/>
          <a:stretch/>
        </p:blipFill>
        <p:spPr>
          <a:xfrm>
            <a:off x="3635280" y="1413000"/>
            <a:ext cx="191448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il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9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d Fr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Goliath Toad"/>
          <p:cNvPicPr/>
          <p:nvPr/>
        </p:nvPicPr>
        <p:blipFill>
          <a:blip r:embed="rId1"/>
          <a:stretch/>
        </p:blipFill>
        <p:spPr>
          <a:xfrm>
            <a:off x="2556000" y="1773360"/>
            <a:ext cx="319068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grenouill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centi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Goliath Frog, Camer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468000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fromage le plus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___________ to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5,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Wisconsin,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37024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botte la plu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6,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Minnesota, 4.9m tall, 6.1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351160" cy="3528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scenseur le plus rap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___ mètres par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46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445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Rounded MT Bold"/>
              </a:rPr>
              <a:t>Taipei 101 Building, Taiwan.  508m, 101 storeys.  84 floors in 37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26828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pplaudissements les plus l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4653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________ heures______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45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Rounded MT Bold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544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Rounded MT Bold"/>
              </a:rPr>
              <a:t>Plácido Domingo, Vienna,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4797360"/>
            <a:ext cx="21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9:37:56Z</dcterms:created>
  <dc:creator>clare.seccombe</dc:creator>
  <dc:description/>
  <dc:language>en-US</dc:language>
  <cp:lastModifiedBy>CSeccombe</cp:lastModifiedBy>
  <dcterms:modified xsi:type="dcterms:W3CDTF">2007-10-05T10:09:12Z</dcterms:modified>
  <cp:revision>7</cp:revision>
  <dc:subject/>
  <dc:title>Slide 1</dc:title>
</cp:coreProperties>
</file>