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AD3-57D8-4EE7-B8E4-F6C71C51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900-6559-4B40-B087-091D10D4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876-C6C2-4D45-9C91-C39D9AD2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FB7-C8F0-43EA-B7FB-67A71FB5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CA7-0C08-446E-AF8F-424DAFF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687-05EF-477D-97E9-FF6B06B8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3A0-4DD3-4358-9371-2A64B4D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772-87B5-455B-99E1-BB2B3B76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4CC-B22A-4FA0-9E70-AC2B851C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CF4-9F45-4E75-90C6-F1859F9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893-F918-4BF7-A803-13139E4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7B5-EA46-419C-8423-5C0398F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184B-E75B-4130-BA81-4E04DFB4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logs.mysanantonio.com/weblogs/latinnotes/archives/DomingoPlacido022807.JPG&amp;imgrefurl=http://blogs.mysanantonio.com/weblogs/latinnotes/archives/2007/02/placido_domingo.html&amp;h=360&amp;w=298&amp;sz=18&amp;hl=en&amp;start=11&amp;um=1&amp;tbnid=HPnF2judnHJ9zM:&amp;tbnh=121&amp;tbnw=100&amp;prev=/images%3Fq%3Dplacido%2Bdomingo%26svnum%3D10%26um%3D1%26hl%3Den%26safe%3Dactive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92000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Des Superlatif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638172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67080" cy="33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homm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Robert Pershing Wadlow, 8’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2536560" cy="338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Sandy Allen, 7’7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femm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ld Frog"/>
          <p:cNvPicPr/>
          <p:nvPr/>
        </p:nvPicPr>
        <p:blipFill>
          <a:blip r:embed="rId1"/>
          <a:stretch/>
        </p:blipFill>
        <p:spPr>
          <a:xfrm>
            <a:off x="3635280" y="1413000"/>
            <a:ext cx="191448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il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9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d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Goliath Toad"/>
          <p:cNvPicPr/>
          <p:nvPr/>
        </p:nvPicPr>
        <p:blipFill>
          <a:blip r:embed="rId1"/>
          <a:stretch/>
        </p:blipFill>
        <p:spPr>
          <a:xfrm>
            <a:off x="2556000" y="1773360"/>
            <a:ext cx="319068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cent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iath Frog, Came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680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fromag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___________ to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5,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Wisconsin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37024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bott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6,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Minnesota, 4.9m tall, 6.1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351160" cy="352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scenseur le plus rap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 par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445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Taipei 101 Building, Taiwan.  508m, 101 storeys.  84 floors in 37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26828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pplaudissements les plus 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 heures______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5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Plácido Domingo, Vienna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4797360"/>
            <a:ext cx="21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9:37:56Z</dcterms:created>
  <dc:creator>clare.seccombe</dc:creator>
  <dc:description/>
  <dc:language>en-US</dc:language>
  <cp:lastModifiedBy>CSeccombe</cp:lastModifiedBy>
  <dcterms:modified xsi:type="dcterms:W3CDTF">2007-10-05T10:09:12Z</dcterms:modified>
  <cp:revision>7</cp:revision>
  <dc:subject/>
  <dc:title>Slide 1</dc:title>
</cp:coreProperties>
</file>