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285-5126-4553-B310-8D8FAEE4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4D9-00BE-4EB9-B257-35215981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D87-A5CA-4CC1-ADC4-BDFF6B4A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D1A-09BC-472B-99AC-26FF81CB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D65-4F7D-482C-8B6C-335AAAC0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91C-09E7-4499-A662-8F847D01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0BE-674D-4374-8879-61B46565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01B-24A6-4A59-A530-2AA0A95A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31A-6191-4B71-B6A7-01AAC0FF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3B9-6E68-406A-A8A5-22DB8092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26A-3710-4668-A609-F37047F4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C36-3C03-4D92-8CB2-279A04BA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2B67-7153-4CC5-A554-095FC783B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333360"/>
            <a:ext cx="6616800" cy="29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Les Vêtements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22100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Choisissez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a</a:t>
            </a: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,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b</a:t>
            </a: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 ou </a:t>
            </a:r>
            <a:r>
              <a:rPr b="0" lang="en-GB" sz="5400" spc="-1" strike="noStrike">
                <a:solidFill>
                  <a:srgbClr val="ffff00"/>
                </a:solidFill>
                <a:latin typeface="Arial Rounded MT Bold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1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rouges gant et g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gant rouges et g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gants rouges et g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2592360" cy="25416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pantalon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jean blan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bleu j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95640" y="476280"/>
            <a:ext cx="1281240" cy="309708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chaussures multico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baskets multico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baskets multicol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59280" y="907920"/>
            <a:ext cx="3817800" cy="234648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short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short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short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360" y="981000"/>
            <a:ext cx="2448000" cy="22068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jupe ble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jupes ble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jupes ble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2663640" cy="2343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92720" y="981000"/>
            <a:ext cx="2664000" cy="234324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os football tee-shi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ux tee-shirts de foot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ux football tee-shi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56000" y="692280"/>
            <a:ext cx="1892160" cy="2133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1994040" cy="21589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68360" y="2060640"/>
            <a:ext cx="8424720" cy="26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'est fini !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03640" y="476280"/>
            <a:ext cx="2693880" cy="29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jupe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jupe bl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robe bl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7336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des blanches et vertes chausset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des chaussettes blanches et ver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des chaussures blanches et ver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32000" y="836640"/>
            <a:ext cx="2951280" cy="22129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57336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tee-shirt rouge et blan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tee-shirt rouge et blan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rouge et blanc tee-sh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384720" cy="21258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baskets ver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bottes ver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bottes ve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3168720" cy="27115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sandale 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sandales 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sandales marr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2736720" cy="269856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chemise v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e veste v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Un pull v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3311280" cy="268128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chemise bl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a bleue chem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pull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35280" y="549360"/>
            <a:ext cx="2379600" cy="3024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40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No.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573360"/>
            <a:ext cx="74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 chaussette 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s marron chaus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Rounded MT Bol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Des chaussures mar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3311640" cy="26334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9:34:31Z</dcterms:created>
  <dc:creator>CSeccombe</dc:creator>
  <dc:description/>
  <dc:language>en-US</dc:language>
  <cp:lastModifiedBy>CSeccombe</cp:lastModifiedBy>
  <dcterms:modified xsi:type="dcterms:W3CDTF">2005-04-05T20:37:30Z</dcterms:modified>
  <cp:revision>5</cp:revision>
  <dc:subject/>
  <dc:title>Slide 1</dc:title>
</cp:coreProperties>
</file>