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D3A-67A6-482F-A0BC-E59D9C72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21D2-8659-4050-8ECC-5FAD7292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232A-6A03-49F9-AC6F-D4271F1F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B5F3-466C-4C70-8D14-93CBA21F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B51-211B-4D87-9AE6-F3995CA0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B27D-FC8E-49E1-B38A-ADF0CF97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C9D1-8D6C-4B02-9E56-ED818F8E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8E9-5DF9-48E4-8D80-F902F6DA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D6F8-1040-4C53-BE6D-24F68C99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388-A635-4FB4-BFCF-B452395D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1B04-A35E-45C7-A4C1-997F0EBC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03B0-5E4A-4E04-B362-ED7FD7CD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FBC8-B982-4C6F-834F-C75836359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333360"/>
            <a:ext cx="6616800" cy="29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Les Vêtements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422100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Choisissez </a:t>
            </a: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a</a:t>
            </a: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, </a:t>
            </a: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b</a:t>
            </a: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 ou </a:t>
            </a: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1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rouges gant et g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gant rouges et g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gants rouges et g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48000" y="692280"/>
            <a:ext cx="2592360" cy="25416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pantalon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jean blan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bleu j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95640" y="476280"/>
            <a:ext cx="1281240" cy="309708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s chaussures multico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s baskets multico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s baskets multicol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59280" y="907920"/>
            <a:ext cx="3817800" cy="234648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short 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short 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short 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92360" y="981000"/>
            <a:ext cx="2448000" cy="22068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jupe bleu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s jupes ble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jupes ble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2663640" cy="2343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92720" y="981000"/>
            <a:ext cx="2664000" cy="234324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os football tee-shi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ux tee-shirts de foot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ux football tee-shi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56000" y="692280"/>
            <a:ext cx="1892160" cy="2133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1994040" cy="215892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68360" y="2060640"/>
            <a:ext cx="8424720" cy="26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'est fini !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 advTm="1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03640" y="476280"/>
            <a:ext cx="2693880" cy="29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jupe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jupe ble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robe ble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7336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des blanches et vertes chausset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des chaussettes blanches et ver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des chaussures blanches et ver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32000" y="836640"/>
            <a:ext cx="2951280" cy="221292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tee-shirt rouge et blan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tee-shirt rouge et blan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rouge et blanc tee-sh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87640" y="981000"/>
            <a:ext cx="3384720" cy="21258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baskets ver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bottes ver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bottes ve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32000" y="620640"/>
            <a:ext cx="3168720" cy="271152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sandale mar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sandales mar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sandales marr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348000" y="692280"/>
            <a:ext cx="2736720" cy="269856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chemise v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veste v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pull v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16360" y="692280"/>
            <a:ext cx="3311280" cy="268128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chemise ble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bleue chem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pull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35280" y="549360"/>
            <a:ext cx="2379600" cy="3024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chaussette mar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s marron chaus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chaussures mar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3311640" cy="26334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9:34:31Z</dcterms:created>
  <dc:creator>CSeccombe</dc:creator>
  <dc:description/>
  <dc:language>en-US</dc:language>
  <cp:lastModifiedBy>CSeccombe</cp:lastModifiedBy>
  <dcterms:modified xsi:type="dcterms:W3CDTF">2005-04-05T20:37:30Z</dcterms:modified>
  <cp:revision>5</cp:revision>
  <dc:subject/>
  <dc:title>Slide 1</dc:title>
</cp:coreProperties>
</file>