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071-008A-4775-99D7-BDC0F00A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B02-643B-4868-9870-0B0F8CC3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3E5-F4F9-4747-A8AB-45FE1D63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4F6-8532-4D2E-8734-739863CB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1B2-74C6-454C-B4F4-4214AA3F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F66-A912-485C-9918-6A43C94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69F-911D-4999-ABC6-BFA2D419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AEF-7491-4230-9693-8A17A715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BCC-60AF-4C2F-9301-3FE9AD4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F44-F0EC-4A72-B477-1E01114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756-7562-4A84-A27B-3B7581D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45C-58E3-4300-849B-A2772A8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F9A-D344-4217-901A-AF3D097BC9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’appelle Véréna.  J’habite _____ Lausanne, en Suisse.  J’ai une ______ jumelle qui s’appelle Anne-Laure.  Nous ________ suisses.  Nous avons quatorze ________.  Nous avons toutes les deux _______ yeux bleus.  Anne-Laure a les cheveux châtains et moi, j’ai les ________ blonds.  Nous avons un grand frère ______ s’appelle Pascal.  Il a ______ ans.  Nous n’avons pas d’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720" y="54936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o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77336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om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34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2997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2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cheve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4797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551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602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2:15:53Z</dcterms:created>
  <dc:creator>Clare</dc:creator>
  <dc:description/>
  <dc:language>en-US</dc:language>
  <cp:lastModifiedBy>Clare</cp:lastModifiedBy>
  <dcterms:modified xsi:type="dcterms:W3CDTF">2008-06-13T12:51:34Z</dcterms:modified>
  <cp:revision>3</cp:revision>
  <dc:subject/>
  <dc:title>Slide 1</dc:title>
</cp:coreProperties>
</file>