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6A2-85F9-4411-8300-6444605D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03D-5864-4720-9979-B39571A6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674-F363-4233-AC9A-024221B5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8ED-1743-4E21-8FB2-7D42AF7D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087-306C-4AB1-8D50-9EA29A5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B99-1773-4D68-8D57-3BC739D6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2EF-FC00-4BE4-819F-B08BA58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3A7-4AA1-4E77-B502-5DCF2510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4D5-55F4-43CF-8390-1D26D4E5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BFA-6013-467A-A296-F59940D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96C-EE8E-4E0A-AAFA-61F6EF22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CAF-744A-4AA7-8EC7-8C1AD4B9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100-068F-4C77-863E-EF8D9D3394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Véréna.  J’habite _____ Lausanne, en Suisse.  J’ai une ______ jumelle qui s’appelle Anne-Laure.  Nous ________ suisses.  Nous avons quatorze ________.  Nous avons toutes les deux _______ yeux bleus.  Anne-Laure a les cheveux châtains et moi, j’ai les ________ blonds.  Nous avons un grand frère ______ s’appelle Pascal.  Il a ______ ans.  Nous n’avons pas d’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720" y="54936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o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177336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om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34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2997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422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cheve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4797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551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6021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2:15:53Z</dcterms:created>
  <dc:creator>Clare</dc:creator>
  <dc:description/>
  <dc:language>en-US</dc:language>
  <cp:lastModifiedBy>Clare</cp:lastModifiedBy>
  <dcterms:modified xsi:type="dcterms:W3CDTF">2008-06-13T12:51:34Z</dcterms:modified>
  <cp:revision>3</cp:revision>
  <dc:subject/>
  <dc:title>Slide 1</dc:title>
</cp:coreProperties>
</file>