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6AD-E7DF-4F83-9604-49C05E28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7F9-0AA7-436A-AB38-BAE6E8F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520-143F-4671-AD67-6D137568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D52-4605-4268-94EB-1D0045F4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C4E-6427-4B32-8706-D4461FD1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BD8-16DC-49E0-8BCD-35F193BE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CB0-DDCD-47A8-97DA-B6B997F0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A60-D7D1-4726-9E87-8940DE50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616-E5AC-4ABF-9D63-B9C9F4C5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D0B-1AC4-465E-9BCB-E95DD45B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027-EFE8-47D8-9CF7-416D832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38E-22CF-4A7B-891E-65C2611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0C53-B9AD-49A2-8B60-89A45791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Fill in the missing word each ti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92280"/>
            <a:ext cx="914400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.g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mange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mang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îner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lareFrench"/>
              </a:rPr>
              <a:t>je dî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parl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rle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joue 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parl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rle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finis 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choisi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il choisit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âtir    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ve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lle lav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omir  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nou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-on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ous     _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endr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-r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regarder 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endr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ils vendent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ondre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u fini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ous finisson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 Rounded MT Bold"/>
              </a:rPr>
              <a:t>tu chante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148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jo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20000" y="213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fi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48360" y="2781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il bâ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42900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elle v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20000" y="407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-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72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-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5445000"/>
            <a:ext cx="21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ils po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51640" y="579132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nous</a:t>
            </a:r>
            <a:br>
              <a:rPr sz="3200"/>
            </a:b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chan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17:31Z</dcterms:created>
  <dc:creator>Clare</dc:creator>
  <dc:description/>
  <dc:language>en-US</dc:language>
  <cp:lastModifiedBy>Clare</cp:lastModifiedBy>
  <dcterms:modified xsi:type="dcterms:W3CDTF">2008-06-13T12:54:08Z</dcterms:modified>
  <cp:revision>3</cp:revision>
  <dc:subject/>
  <dc:title>Slide 1</dc:title>
</cp:coreProperties>
</file>