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BA1A3-565B-4F19-93A8-A96375234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96D76-5AA6-40EC-870A-25FB55D7A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EB8BB-802A-4F41-8F0E-308AC079D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ECDD7-1A50-4FB2-B742-83ABD8DDB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A50A1-8EDD-4009-95CA-5FA5634A9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969A9-72CC-4E8E-904F-A9ACA8146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0E302-7EF0-4717-88CC-D58FB27B3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F83E9-D0CD-4D1E-970E-59AF1C3CD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0B72C-2914-4D49-B19B-596B9BE4D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05734-A2D4-459C-B179-73B004CFA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FCFEB-BC59-4F97-9F97-97ACE3CC0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2974A-75E8-403E-8F2C-2BB506EF8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A9D94-7738-425D-BB6F-18F2B22827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Rounded MT Bold"/>
              </a:rPr>
              <a:t>Fill in the missing word each tim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692280"/>
            <a:ext cx="9144000" cy="60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Rounded MT Bold"/>
              </a:rPr>
              <a:t>e.g.</a:t>
            </a:r>
            <a:r>
              <a:rPr b="0" lang="en-GB" sz="32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 Rounded MT Bold"/>
              </a:rPr>
              <a:t>manger</a:t>
            </a:r>
            <a:r>
              <a:rPr b="0" lang="en-GB" sz="32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 Rounded MT Bold"/>
              </a:rPr>
              <a:t>je mange</a:t>
            </a:r>
            <a:r>
              <a:rPr b="0" lang="en-GB" sz="32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 Rounded MT Bold"/>
              </a:rPr>
              <a:t>dîner   </a:t>
            </a:r>
            <a:r>
              <a:rPr b="1" lang="en-GB" sz="3200" spc="-1" strike="noStrike" u="sng">
                <a:solidFill>
                  <a:srgbClr val="cc0000"/>
                </a:solidFill>
                <a:uFillTx/>
                <a:latin typeface="ClareFrench"/>
              </a:rPr>
              <a:t>je dîne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 Rounded MT Bold"/>
              </a:rPr>
              <a:t>1.</a:t>
            </a:r>
            <a:r>
              <a:rPr b="0" lang="en-GB" sz="32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 Rounded MT Bold"/>
              </a:rPr>
              <a:t>je parle</a:t>
            </a:r>
            <a:r>
              <a:rPr b="0" lang="en-GB" sz="32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 Rounded MT Bold"/>
              </a:rPr>
              <a:t>parler</a:t>
            </a:r>
            <a:r>
              <a:rPr b="0" lang="en-GB" sz="32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 Rounded MT Bold"/>
              </a:rPr>
              <a:t>je joue  _________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 Rounded MT Bold"/>
              </a:rPr>
              <a:t>2.</a:t>
            </a:r>
            <a:r>
              <a:rPr b="0" lang="en-GB" sz="32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 Rounded MT Bold"/>
              </a:rPr>
              <a:t>je parle</a:t>
            </a:r>
            <a:r>
              <a:rPr b="0" lang="en-GB" sz="32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 Rounded MT Bold"/>
              </a:rPr>
              <a:t>parler</a:t>
            </a:r>
            <a:r>
              <a:rPr b="0" lang="en-GB" sz="32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 Rounded MT Bold"/>
              </a:rPr>
              <a:t>je finis  _________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 Rounded MT Bold"/>
              </a:rPr>
              <a:t>3.</a:t>
            </a:r>
            <a:r>
              <a:rPr b="0" lang="en-GB" sz="32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 Rounded MT Bold"/>
              </a:rPr>
              <a:t>choisir</a:t>
            </a:r>
            <a:r>
              <a:rPr b="0" lang="en-GB" sz="32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 Rounded MT Bold"/>
              </a:rPr>
              <a:t>il choisit</a:t>
            </a:r>
            <a:r>
              <a:rPr b="0" lang="en-GB" sz="32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 Rounded MT Bold"/>
              </a:rPr>
              <a:t>bâtir     _________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 Rounded MT Bold"/>
              </a:rPr>
              <a:t>4.</a:t>
            </a:r>
            <a:r>
              <a:rPr b="0" lang="en-GB" sz="32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 Rounded MT Bold"/>
              </a:rPr>
              <a:t>laver</a:t>
            </a:r>
            <a:r>
              <a:rPr b="0" lang="en-GB" sz="32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 Rounded MT Bold"/>
              </a:rPr>
              <a:t>elle lave</a:t>
            </a:r>
            <a:r>
              <a:rPr b="0" lang="en-GB" sz="32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 Rounded MT Bold"/>
              </a:rPr>
              <a:t>vomir   _________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 Rounded MT Bold"/>
              </a:rPr>
              <a:t>5.</a:t>
            </a:r>
            <a:r>
              <a:rPr b="0" lang="en-GB" sz="32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 Rounded MT Bold"/>
              </a:rPr>
              <a:t>nous</a:t>
            </a:r>
            <a:r>
              <a:rPr b="0" lang="en-GB" sz="32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 Rounded MT Bold"/>
              </a:rPr>
              <a:t>-ons</a:t>
            </a:r>
            <a:r>
              <a:rPr b="0" lang="en-GB" sz="32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 Rounded MT Bold"/>
              </a:rPr>
              <a:t>vous     __________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 Rounded MT Bold"/>
              </a:rPr>
              <a:t>6.</a:t>
            </a:r>
            <a:r>
              <a:rPr b="0" lang="en-GB" sz="32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 Rounded MT Bold"/>
              </a:rPr>
              <a:t>vendre</a:t>
            </a:r>
            <a:r>
              <a:rPr b="0" lang="en-GB" sz="32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 Rounded MT Bold"/>
              </a:rPr>
              <a:t>-re</a:t>
            </a:r>
            <a:r>
              <a:rPr b="0" lang="en-GB" sz="32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 Rounded MT Bold"/>
              </a:rPr>
              <a:t>regarder _______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 Rounded MT Bold"/>
              </a:rPr>
              <a:t>7.</a:t>
            </a:r>
            <a:r>
              <a:rPr b="0" lang="en-GB" sz="32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 Rounded MT Bold"/>
              </a:rPr>
              <a:t>vendre</a:t>
            </a:r>
            <a:r>
              <a:rPr b="0" lang="en-GB" sz="32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 Rounded MT Bold"/>
              </a:rPr>
              <a:t>ils vendent</a:t>
            </a:r>
            <a:r>
              <a:rPr b="0" lang="en-GB" sz="32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 Rounded MT Bold"/>
              </a:rPr>
              <a:t>pondre _________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 Rounded MT Bold"/>
              </a:rPr>
              <a:t>8.</a:t>
            </a:r>
            <a:r>
              <a:rPr b="0" lang="en-GB" sz="32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 Rounded MT Bold"/>
              </a:rPr>
              <a:t>tu finis</a:t>
            </a:r>
            <a:r>
              <a:rPr b="0" lang="en-GB" sz="32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 Rounded MT Bold"/>
              </a:rPr>
              <a:t>nous finissons</a:t>
            </a:r>
            <a:r>
              <a:rPr b="0" lang="en-GB" sz="32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Arial Rounded MT Bold"/>
              </a:rPr>
              <a:t>tu chantes</a:t>
            </a:r>
            <a:r>
              <a:rPr b="0" lang="en-GB" sz="3200" spc="-1" strike="noStrike">
                <a:solidFill>
                  <a:srgbClr val="000000"/>
                </a:solidFill>
                <a:latin typeface="Arial Rounded MT Bold"/>
              </a:rPr>
              <a:t> 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7020000" y="1484280"/>
            <a:ext cx="19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cc0000"/>
                </a:solidFill>
                <a:latin typeface="ClareFrench"/>
              </a:rPr>
              <a:t>jou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020000" y="2133720"/>
            <a:ext cx="19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cc0000"/>
                </a:solidFill>
                <a:latin typeface="ClareFrench"/>
              </a:rPr>
              <a:t>fin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948360" y="2781360"/>
            <a:ext cx="19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cc0000"/>
                </a:solidFill>
                <a:latin typeface="ClareFrench"/>
              </a:rPr>
              <a:t>il bât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948360" y="3429000"/>
            <a:ext cx="194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cc0000"/>
                </a:solidFill>
                <a:latin typeface="ClareFrench"/>
              </a:rPr>
              <a:t>elle vo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020000" y="4076640"/>
            <a:ext cx="19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cc0000"/>
                </a:solidFill>
                <a:latin typeface="ClareFrench"/>
              </a:rPr>
              <a:t>-e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451640" y="4724280"/>
            <a:ext cx="19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cc0000"/>
                </a:solidFill>
                <a:latin typeface="ClareFrench"/>
              </a:rPr>
              <a:t>-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020000" y="5445000"/>
            <a:ext cx="212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cc0000"/>
                </a:solidFill>
                <a:latin typeface="ClareFrench"/>
              </a:rPr>
              <a:t>ils pond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451640" y="5791320"/>
            <a:ext cx="1944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cc0000"/>
                </a:solidFill>
                <a:latin typeface="ClareFrench"/>
              </a:rPr>
              <a:t>nous</a:t>
            </a:r>
            <a:br>
              <a:rPr sz="3200"/>
            </a:br>
            <a:r>
              <a:rPr b="1" lang="en-GB" sz="3200" spc="-1" strike="noStrike">
                <a:solidFill>
                  <a:srgbClr val="cc0000"/>
                </a:solidFill>
                <a:latin typeface="ClareFrench"/>
              </a:rPr>
              <a:t>chant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1T20:17:31Z</dcterms:created>
  <dc:creator>Clare</dc:creator>
  <dc:description/>
  <dc:language>en-US</dc:language>
  <cp:lastModifiedBy>Clare</cp:lastModifiedBy>
  <dcterms:modified xsi:type="dcterms:W3CDTF">2008-06-13T12:54:08Z</dcterms:modified>
  <cp:revision>3</cp:revision>
  <dc:subject/>
  <dc:title>Slide 1</dc:title>
</cp:coreProperties>
</file>