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7B6-E5C7-44B0-900F-48C8C461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793-2B01-4DA1-AC4F-F224E744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15F-C89B-4D4C-93BE-F8CB868A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DCB-ED72-4AE6-9727-E36726F3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C2D-B267-4562-82B8-B5588216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0C3-6A5D-4489-8D7B-7453AA07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F25-B9A3-4DA1-8D7E-6E913477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A98-23DB-4FCF-9E0C-234F3ADD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22C-0310-4B6F-8FCF-3E2B60E9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049-5967-4B8F-8B48-6496F074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B37-D8C4-4051-98E4-AE4D125C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BB9-434E-4C2C-9626-3150D83D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6E46-0920-4D45-9793-60CCCA9715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0038" t="20771" r="8163" b="15334"/>
          <a:stretch/>
        </p:blipFill>
        <p:spPr>
          <a:xfrm>
            <a:off x="0" y="476280"/>
            <a:ext cx="9144000" cy="4464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0968" t="19127" r="15252" b="68109"/>
          <a:stretch/>
        </p:blipFill>
        <p:spPr>
          <a:xfrm>
            <a:off x="324000" y="5084640"/>
            <a:ext cx="8640720" cy="93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5280" y="9079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12000" y="836640"/>
            <a:ext cx="165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mic Sans MS"/>
              </a:rPr>
              <a:t>après-mi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268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a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1197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av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155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écou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88000" y="1628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360" y="2997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ordin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ba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335772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cop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regard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3716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407664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evo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1:36:22Z</dcterms:created>
  <dc:creator>Clare</dc:creator>
  <dc:description/>
  <dc:language>en-US</dc:language>
  <cp:lastModifiedBy>Clare</cp:lastModifiedBy>
  <dcterms:modified xsi:type="dcterms:W3CDTF">2008-06-13T13:01:38Z</dcterms:modified>
  <cp:revision>2</cp:revision>
  <dc:subject/>
  <dc:title>Slide 1</dc:title>
</cp:coreProperties>
</file>