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789-E46E-4298-B2D0-0FFC0A6D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29F-CA72-4F21-A01B-66F58F4F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68C-3576-455E-AD8D-D0E9209E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004-F230-4344-8EDB-BABE11BD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C39-5A1B-4977-895A-2B5C6ECB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6240-4A41-484F-ADF4-19E527AE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C98-9B78-4346-B560-62E2411E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F9C-317B-426A-B712-CF66601F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141-6AE6-420F-83A3-E6790F91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9D5-082D-44DE-9969-9A17CF37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852-5A83-4D75-8B8D-5215B588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221-609C-4450-8BE0-ECCAC800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6A41-625F-4FCF-82AD-15A830C9C3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0038" t="20771" r="8163" b="15334"/>
          <a:stretch/>
        </p:blipFill>
        <p:spPr>
          <a:xfrm>
            <a:off x="0" y="476280"/>
            <a:ext cx="9144000" cy="4464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0968" t="19127" r="15252" b="68109"/>
          <a:stretch/>
        </p:blipFill>
        <p:spPr>
          <a:xfrm>
            <a:off x="324000" y="5084640"/>
            <a:ext cx="8640720" cy="93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5280" y="9079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12000" y="836640"/>
            <a:ext cx="165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mic Sans MS"/>
              </a:rPr>
              <a:t>après-mi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268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a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1197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av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155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écou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88000" y="1628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360" y="2997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ordin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ba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335772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cop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regard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3716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407664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evo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1:36:22Z</dcterms:created>
  <dc:creator>Clare</dc:creator>
  <dc:description/>
  <dc:language>en-US</dc:language>
  <cp:lastModifiedBy>Clare</cp:lastModifiedBy>
  <dcterms:modified xsi:type="dcterms:W3CDTF">2008-06-13T13:01:38Z</dcterms:modified>
  <cp:revision>2</cp:revision>
  <dc:subject/>
  <dc:title>Slide 1</dc:title>
</cp:coreProperties>
</file>