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A70-ED75-43E7-A917-E3BEEA24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1FE-269D-4EDA-96DC-C9401F65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26F-BAB3-4E87-B1FD-7DE24D9C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442-8842-496B-BBB2-3237A4D1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D0D-ECE8-469B-8B10-72B85872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435-C6E3-4EA6-8017-E2BD954D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156-3A19-4A43-A20C-96E7B231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BA5-115A-455E-9DBA-246D8541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D2A-6A41-4843-AFB1-6BA53EE9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B74-A9A7-4163-AA06-EAFC373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89C-0346-4201-A1EE-C6A77227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480-B749-49CA-B2C0-30FE9E33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D77B-1264-4088-8875-56A4DE5050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15920"/>
            <a:ext cx="8785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ai acheté une ________ ble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 vas gagner de l’_________, mais fais attentio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ujourd’hui nous avons __________ un mus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nous envoyons __________ e-m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l’aime _________ qu’il est bea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 soeur Marjolaine prépare les repas _________ la cuis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 as une memoire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 emporte __________ de jus de fruits et du chocol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229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gen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aucoup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n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cellent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jupe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rce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i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1159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j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62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19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i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2276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a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0720" y="2852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37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xcel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429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eauc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89000"/>
            <a:ext cx="871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’aime le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 _____________ s’appelle Boubo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’ai des _________________ b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1:43:44Z</dcterms:created>
  <dc:creator>clare.seccombe</dc:creator>
  <dc:description/>
  <dc:language>en-US</dc:language>
  <cp:lastModifiedBy>Clare</cp:lastModifiedBy>
  <dcterms:modified xsi:type="dcterms:W3CDTF">2008-06-13T13:10:26Z</dcterms:modified>
  <cp:revision>5</cp:revision>
  <dc:subject/>
  <dc:title>Slide 1</dc:title>
</cp:coreProperties>
</file>