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95FB-4DE9-4C84-9C45-B1D9DCDE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FC3B-A139-4299-8F5F-19E15CAB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70E3-6CD9-4717-B000-43CCB93B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1BCF-4F4F-4049-8052-A9BB15D9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CC0-A5D9-435B-A542-348FE216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EDCC-AD77-4BBF-A280-0008936A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4966-D90C-4126-99E4-222BF6E7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FE61-1BDD-424C-B3F6-35F2E441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8F0-ADC6-4528-B8B0-E57092A8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6DCD-0BA3-476B-8518-FA89A25B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A5B-09B9-4787-BAF8-E2859FBE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A1A-1032-4505-B7CF-D7862AA9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87C9-A4FF-41A9-9134-FA59FFDC1B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15920"/>
            <a:ext cx="87854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’ai acheté une ________ ble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u vas gagner de l’_________, mais fais attentio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ujourd’hui nous avons __________ un mus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s nous envoyons __________ e-m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e l’aime _________ qu’il est bea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 soeur Marjolaine prépare les repas _________ la cuis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u as une memoire 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l emporte __________ de jus de fruits et du chocol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2293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rgent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eaucoup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ans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xcellente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jupe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arce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is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43280" y="1159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ju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620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r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1197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vis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1700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0920" y="2276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a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00720" y="2852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d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48000" y="3716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xcel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4292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eauc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189000"/>
            <a:ext cx="8713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’aime le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 _____________ s’appelle Boubo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’ai des _________________ b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1:43:44Z</dcterms:created>
  <dc:creator>clare.seccombe</dc:creator>
  <dc:description/>
  <dc:language>en-US</dc:language>
  <cp:lastModifiedBy>Clare</cp:lastModifiedBy>
  <dcterms:modified xsi:type="dcterms:W3CDTF">2008-06-13T13:10:26Z</dcterms:modified>
  <cp:revision>5</cp:revision>
  <dc:subject/>
  <dc:title>Slide 1</dc:title>
</cp:coreProperties>
</file>