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CD5B-F382-4E2D-8A9C-51D6BE4FE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C08C-CD0C-4D23-AC07-8B0E83D73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AB7E-F97A-41C6-9B61-34E9E99E3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FD58-448F-4F82-BE34-2E74DC624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A3D0-77C7-4E0C-9D29-E78A8D6E9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66EE-87AA-457E-9CAC-8D8F1DDCE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7A7B-8051-4DF9-893E-03CF8D800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3FF0-A5AD-4110-9BB3-9C115E695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3DC3-9DC8-408C-ABB0-A3507539F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FB84-38DA-4E7D-9401-67F0152D3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E488-8747-4481-B6C1-F079801A6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A5EC-6505-41C7-8E29-18B8483F2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727E3-4143-4147-A2AE-64A9CF9EDE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underlandschools.org/mfl-sunderland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en/9/95/Paris_logo_rer_jms.svg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90792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evision Starter 2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2133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will help you to revise for the reading pap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6643800"/>
            <a:ext cx="860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©MFL Sunderland 2008 CS </a:t>
            </a:r>
            <a:r>
              <a:rPr b="0" lang="en-GB" sz="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underlandschools.org/mfl-sunderl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826920" cy="90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Elephant"/>
              </a:rPr>
              <a:t>9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71640" y="4437000"/>
            <a:ext cx="756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For whom does Dany-Mode sell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clothes ? 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00000" y="170028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00000" y="234936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604360" y="170028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604360" y="234936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55640" y="1052640"/>
            <a:ext cx="7704000" cy="2379240"/>
          </a:xfrm>
          <a:prstGeom prst="rect">
            <a:avLst/>
          </a:prstGeom>
          <a:solidFill>
            <a:srgbClr val="f2e1f3"/>
          </a:solidFill>
          <a:ln w="12708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John Handy LET"/>
              </a:rPr>
              <a:t>Dany-Mode</a:t>
            </a:r>
            <a:r>
              <a:rPr b="0" lang="en-GB" sz="4400" spc="-1" strike="noStrike">
                <a:solidFill>
                  <a:srgbClr val="000000"/>
                </a:solidFill>
                <a:latin typeface="John Handy LET"/>
              </a:rPr>
              <a:t> 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John Handy LET"/>
              </a:rPr>
              <a:t>prêt-à-porter</a:t>
            </a:r>
            <a:br>
              <a:rPr sz="44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Hommes   Femmes   Enfa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826920" cy="90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Elephant"/>
              </a:rPr>
              <a:t>10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71640" y="4437000"/>
            <a:ext cx="75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When is Intermarché open ?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00000" y="170028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00000" y="234936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604360" y="170028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604360" y="234936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332000" y="620640"/>
            <a:ext cx="7095960" cy="20289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332000" y="2637000"/>
            <a:ext cx="712764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uvert le dimanche mat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32000" y="620640"/>
            <a:ext cx="7127640" cy="27370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826920" cy="90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Elephant"/>
              </a:rPr>
              <a:t>11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71640" y="4437000"/>
            <a:ext cx="817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is the haunted house open ?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00000" y="170028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00000" y="234936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604360" y="170028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604360" y="234936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13973" t="0" r="22078" b="0"/>
          <a:stretch/>
        </p:blipFill>
        <p:spPr>
          <a:xfrm>
            <a:off x="2556000" y="-316080"/>
            <a:ext cx="3959280" cy="3810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411280" y="3357720"/>
            <a:ext cx="42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33cc"/>
                </a:solidFill>
                <a:latin typeface="Papyrus"/>
              </a:rPr>
              <a:t>jeudi et vendre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9144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Need it to exi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Glas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Hors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Wine sell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Car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stair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a) farm b) 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ad / on the lef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 goat’s / chees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men / women / childre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. Sunday / morni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. Thursday / Fri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826920" cy="90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Elephant"/>
              </a:rPr>
              <a:t>1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71640" y="765000"/>
            <a:ext cx="7272360" cy="1922400"/>
          </a:xfrm>
          <a:prstGeom prst="rect">
            <a:avLst/>
          </a:prstGeom>
          <a:solidFill>
            <a:srgbClr val="ffffcc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4000" spc="-1" strike="noStrike">
                <a:solidFill>
                  <a:srgbClr val="333399"/>
                </a:solidFill>
                <a:latin typeface="Lucida Sans"/>
              </a:rPr>
              <a:t>Conservez votre ticket, </a:t>
            </a:r>
            <a:r>
              <a:rPr b="0" lang="en-GB" sz="4000" spc="-1" strike="noStrike">
                <a:solidFill>
                  <a:srgbClr val="333399"/>
                </a:solidFill>
                <a:latin typeface="Lucida Sans"/>
              </a:rPr>
              <a:t>	</a:t>
            </a:r>
            <a:r>
              <a:rPr b="0" lang="en-GB" sz="4000" spc="-1" strike="noStrike">
                <a:solidFill>
                  <a:srgbClr val="333399"/>
                </a:solidFill>
                <a:latin typeface="Lucida Sans"/>
              </a:rPr>
              <a:t>  vous en aurez besoin </a:t>
            </a:r>
            <a:r>
              <a:rPr b="0" lang="en-GB" sz="4000" spc="-1" strike="noStrike">
                <a:solidFill>
                  <a:srgbClr val="333399"/>
                </a:solidFill>
                <a:latin typeface="Lucida Sans"/>
              </a:rPr>
              <a:t>	</a:t>
            </a:r>
            <a:r>
              <a:rPr b="0" lang="en-GB" sz="4000" spc="-1" strike="noStrike">
                <a:solidFill>
                  <a:srgbClr val="333399"/>
                </a:solidFill>
                <a:latin typeface="Lucida Sans"/>
              </a:rPr>
              <a:t>  pour sorti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Image:Paris logo rer jms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6000" y="1197000"/>
            <a:ext cx="1152360" cy="1152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971640" y="4221000"/>
            <a:ext cx="727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y do you need to keep your train ticket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826920" cy="90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Elephant"/>
              </a:rPr>
              <a:t>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76360" y="476280"/>
            <a:ext cx="6696000" cy="252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340000" y="907920"/>
            <a:ext cx="1649520" cy="16542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995640" y="836640"/>
            <a:ext cx="295272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8000"/>
                </a:solidFill>
                <a:latin typeface="FreesiaUPC"/>
              </a:rPr>
              <a:t>Recyclage de verr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71640" y="4221000"/>
            <a:ext cx="72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n you recycle her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826920" cy="90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Elephant"/>
              </a:rPr>
              <a:t>3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71640" y="4437000"/>
            <a:ext cx="72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as priority on this road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050920" y="189000"/>
            <a:ext cx="4969080" cy="3816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19640" y="1557360"/>
            <a:ext cx="2087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 Narrow"/>
              </a:rPr>
              <a:t>Priorité aux</a:t>
            </a:r>
            <a:br>
              <a:rPr sz="4800"/>
            </a:br>
            <a:r>
              <a:rPr b="0" lang="en-GB" sz="4800" spc="-1" strike="noStrike">
                <a:solidFill>
                  <a:srgbClr val="000000"/>
                </a:solidFill>
                <a:latin typeface="Arial Narrow"/>
              </a:rPr>
              <a:t>chevau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826920" cy="90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Elephant"/>
              </a:rPr>
              <a:t>4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71640" y="4437000"/>
            <a:ext cx="72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100m away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63640" y="692280"/>
            <a:ext cx="6193080" cy="2520720"/>
          </a:xfrm>
          <a:custGeom>
            <a:avLst/>
            <a:gdLst>
              <a:gd name="textAreaLeft" fmla="*/ 0 w 6193080"/>
              <a:gd name="textAreaRight" fmla="*/ 6193440 w 6193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000000"/>
                </a:solidFill>
                <a:latin typeface="Arial Narrow"/>
              </a:rPr>
              <a:t>Marchand de vin </a:t>
            </a:r>
            <a:br>
              <a:rPr sz="4800"/>
            </a:br>
            <a:r>
              <a:rPr b="0" i="1" lang="en-GB" sz="4800" spc="-1" strike="noStrike">
                <a:solidFill>
                  <a:srgbClr val="000000"/>
                </a:solidFill>
                <a:latin typeface="Arial Narrow"/>
              </a:rPr>
              <a:t>à 100 mètr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826920" cy="90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Elephant"/>
              </a:rPr>
              <a:t>5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71640" y="4437000"/>
            <a:ext cx="72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can park her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11280" y="260280"/>
            <a:ext cx="4033800" cy="3960720"/>
          </a:xfrm>
          <a:prstGeom prst="donut">
            <a:avLst>
              <a:gd name="adj" fmla="val 6925"/>
            </a:avLst>
          </a:prstGeom>
          <a:solidFill>
            <a:srgbClr val="5037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27280" y="476280"/>
            <a:ext cx="3600360" cy="3529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260280"/>
            <a:ext cx="1368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5037e5"/>
                </a:solidFill>
                <a:latin typeface="Arial Rounded MT Bold"/>
              </a:rPr>
              <a:t>P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2565360"/>
            <a:ext cx="316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 Narrow"/>
              </a:rPr>
              <a:t>Voitur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826920" cy="90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Elephant"/>
              </a:rPr>
              <a:t>6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71640" y="4437000"/>
            <a:ext cx="727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n you buy made-to-measure her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26920" y="1628640"/>
            <a:ext cx="7921800" cy="8251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Segoe Print"/>
              </a:rPr>
              <a:t>Escaliers à vos mesur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00000" y="170028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00000" y="234936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604360" y="170028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604360" y="234936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826920" cy="90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Elephant"/>
              </a:rPr>
              <a:t>7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71640" y="4437000"/>
            <a:ext cx="72723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is the campsit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do you get there ?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170028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00000" y="234936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604360" y="170028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604360" y="234936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763640" y="692280"/>
            <a:ext cx="6193080" cy="2520720"/>
          </a:xfrm>
          <a:custGeom>
            <a:avLst/>
            <a:gdLst>
              <a:gd name="textAreaLeft" fmla="*/ 0 w 6193080"/>
              <a:gd name="textAreaRight" fmla="*/ 6193440 w 6193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979640" y="98100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987640" y="1125360"/>
            <a:ext cx="41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Narrow"/>
              </a:rPr>
              <a:t>Camping à la ferm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050920" y="2205000"/>
            <a:ext cx="47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000000"/>
                </a:solidFill>
                <a:latin typeface="Arial Narrow"/>
              </a:rPr>
              <a:t>Troisième rue à gau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826920" cy="90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Elephant"/>
              </a:rPr>
              <a:t>8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71640" y="4437000"/>
            <a:ext cx="72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on sale here ?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00000" y="170028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00000" y="234936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604360" y="170028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604360" y="234936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43280" y="260280"/>
            <a:ext cx="3241440" cy="3124440"/>
          </a:xfrm>
          <a:prstGeom prst="rect">
            <a:avLst/>
          </a:prstGeom>
          <a:solidFill>
            <a:srgbClr val="eafc80"/>
          </a:solidFill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ligraph421 BT"/>
              </a:rPr>
              <a:t>Fromages pur chèv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3276720" y="2924280"/>
            <a:ext cx="23032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4T17:45:14Z</dcterms:created>
  <dc:creator>Clare</dc:creator>
  <dc:description/>
  <dc:language>en-US</dc:language>
  <cp:lastModifiedBy>Clare</cp:lastModifiedBy>
  <dcterms:modified xsi:type="dcterms:W3CDTF">2008-09-07T20:55:15Z</dcterms:modified>
  <cp:revision>13</cp:revision>
  <dc:subject/>
  <dc:title>Slide 1</dc:title>
</cp:coreProperties>
</file>