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543-5568-4CF8-AEE9-6166C9C0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E4E-2DBA-43DA-8876-B3AC7484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E4C-772E-46AB-B190-F6B0F573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DE6-3F58-466E-A90A-8F088E1D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BBA-B812-4C11-9126-C2BF0E97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C1A-EE46-4B90-AF3E-E88030DE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854-6B9C-40FB-82AA-C759F0C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295-F93B-41E3-937D-3F78CA5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3FA-3036-4DBA-BE90-C4F05DC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DB0-37A9-45A8-8AF8-AD353FC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DEA-93E9-4F6F-A8D3-1995F2DF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409-9EDC-41E8-96D2-697F93EF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A0AD-BF9F-4AAC-96BE-9EBD54B1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5/Paris_logo_rer_jm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079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sion Starter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ill help you to revise for the reading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6643800"/>
            <a:ext cx="860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4370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 whom does Dany-Mode sell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lothes ?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052640"/>
            <a:ext cx="7704000" cy="2379240"/>
          </a:xfrm>
          <a:prstGeom prst="rect">
            <a:avLst/>
          </a:prstGeom>
          <a:solidFill>
            <a:srgbClr val="f2e1f3"/>
          </a:solidFill>
          <a:ln w="127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John Handy LET"/>
              </a:rPr>
              <a:t>Dany-Mode</a:t>
            </a:r>
            <a:r>
              <a:rPr b="0" lang="en-GB" sz="4400" spc="-1" strike="noStrike">
                <a:solidFill>
                  <a:srgbClr val="000000"/>
                </a:solidFill>
                <a:latin typeface="John Handy LET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John Handy LET"/>
              </a:rPr>
              <a:t>prêt-à-porter</a:t>
            </a:r>
            <a:br>
              <a:rPr sz="44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mes   Femmes   Enf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4437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en is Intermarché open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7095960" cy="2028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32000" y="2637000"/>
            <a:ext cx="7127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vert le dimanche ma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20640"/>
            <a:ext cx="7127640" cy="2737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437000"/>
            <a:ext cx="81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he haunted house open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3973" t="0" r="22078" b="0"/>
          <a:stretch/>
        </p:blipFill>
        <p:spPr>
          <a:xfrm>
            <a:off x="2556000" y="-316080"/>
            <a:ext cx="3959280" cy="381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11280" y="335772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Papyrus"/>
              </a:rPr>
              <a:t>jeudi et vend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eed it to ex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Gla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or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ine sel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tai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a) farm b)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ad / on the lef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goat’s / chee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men / women / child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Sunday / mo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Thursday /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765000"/>
            <a:ext cx="7272360" cy="1922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Conservez votre ticket,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 vous en aurez besoin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 pour sort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Image:Paris logo rer jm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9700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1640" y="4221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you need to keep your train ticke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476280"/>
            <a:ext cx="6696000" cy="252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1649520" cy="165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836640"/>
            <a:ext cx="29527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FreesiaUPC"/>
              </a:rPr>
              <a:t>Recyclage de ver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221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recycle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riority on this roa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89000"/>
            <a:ext cx="4969080" cy="381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557360"/>
            <a:ext cx="208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Priorité aux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chevau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00m awa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692280"/>
            <a:ext cx="6193080" cy="25207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 Narrow"/>
              </a:rPr>
              <a:t>Marchand de vin 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rial Narrow"/>
              </a:rPr>
              <a:t>à 100 mèt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n park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60280"/>
            <a:ext cx="4033800" cy="3960720"/>
          </a:xfrm>
          <a:prstGeom prst="donut">
            <a:avLst>
              <a:gd name="adj" fmla="val 6925"/>
            </a:avLst>
          </a:prstGeom>
          <a:solidFill>
            <a:srgbClr val="5037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476280"/>
            <a:ext cx="3600360" cy="352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60280"/>
            <a:ext cx="136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5037e5"/>
                </a:solidFill>
                <a:latin typeface="Arial Rounded MT Bold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2565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Voi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4437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made-to-measure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628640"/>
            <a:ext cx="79218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Segoe Print"/>
              </a:rPr>
              <a:t>Escaliers à vos mes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437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campsit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get there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692280"/>
            <a:ext cx="6193080" cy="25207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87640" y="1125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Camping à la fer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22050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Arial Narrow"/>
              </a:rPr>
              <a:t>Troisième rue à gau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 sale here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60280"/>
            <a:ext cx="3241440" cy="3124440"/>
          </a:xfrm>
          <a:prstGeom prst="rect">
            <a:avLst/>
          </a:prstGeom>
          <a:solidFill>
            <a:srgbClr val="eafc80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ligraph421 BT"/>
              </a:rPr>
              <a:t>Fromages pur chè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76720" y="2924280"/>
            <a:ext cx="23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7:45:14Z</dcterms:created>
  <dc:creator>Clare</dc:creator>
  <dc:description/>
  <dc:language>en-US</dc:language>
  <cp:lastModifiedBy>Clare</cp:lastModifiedBy>
  <dcterms:modified xsi:type="dcterms:W3CDTF">2008-09-07T20:55:15Z</dcterms:modified>
  <cp:revision>13</cp:revision>
  <dc:subject/>
  <dc:title>Slide 1</dc:title>
</cp:coreProperties>
</file>