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6FEB-4705-44E1-A25B-678D953A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E2E0-6651-4724-BA54-01777746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991B-2381-49EF-B28F-C4B56323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0E94-7EB7-4656-92BA-AC15D41E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B62C-BACB-40CC-A368-DEB8524D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4D5F-5601-4937-8932-C303C426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5B59-4631-4A71-B9D7-6A9B1B58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50C1-AC56-4CD0-BACD-03BC7648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C2AA-E96F-496D-8709-D3F5DBCB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6CD4-2D36-436E-A243-D983B75B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2A6B-74CD-4B54-BB65-467A1C5C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7860-47F0-48A4-9434-144C0620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7454-6812-4927-B6CB-81FF8A644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89000"/>
          <a:ext cx="8642160" cy="5486400"/>
        </p:xfrm>
        <a:graphic>
          <a:graphicData uri="http://schemas.openxmlformats.org/drawingml/2006/table">
            <a:tbl>
              <a:tblPr/>
              <a:tblGrid>
                <a:gridCol w="2160360"/>
                <a:gridCol w="2162160"/>
                <a:gridCol w="2159280"/>
                <a:gridCol w="2160360"/>
              </a:tblGrid>
              <a:tr h="15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– le café au la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– quand j’avais huit 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– les sandwic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 – je pense 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 – le petit déjeu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 – je détes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 – le sport ou la musique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 – les restaura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 – le foot ou le rugby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 – l’E.P.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 – la da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 – je préfè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2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 – l’exercice physi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 – j’ad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 – je voudr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 – avec la famille ou les copain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179280" y="5877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much can you say about each of thes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6597720"/>
            <a:ext cx="46432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Rounded MT Bold"/>
              </a:rPr>
              <a:t>©MFL Sunderland 2008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800" spc="-1" strike="noStrike" u="sng">
                <a:solidFill>
                  <a:srgbClr val="ffffff"/>
                </a:solidFill>
                <a:uFillTx/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20:24:06Z</dcterms:created>
  <dc:creator>Clare</dc:creator>
  <dc:description/>
  <dc:language>en-US</dc:language>
  <cp:lastModifiedBy>Clare</cp:lastModifiedBy>
  <dcterms:modified xsi:type="dcterms:W3CDTF">2008-11-05T14:21:10Z</dcterms:modified>
  <cp:revision>3</cp:revision>
  <dc:subject/>
  <dc:title>Slide 1</dc:title>
</cp:coreProperties>
</file>