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5C88-7CDC-4834-B579-FA6DA40C8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9C8E-4A93-4ADF-BCC5-F38D05FE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9ECC-EB4A-40C3-84E8-4DB0CE052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5A53-BA35-4589-AA7F-67EE126FC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FE1E-746F-4AC1-B84C-1ACA5F4B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6F6E-93C9-420C-A8F6-23F82500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4A73-3504-47CD-883C-D009AFB8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A0D9-AC6A-4C7B-BA72-0C328A51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11DD-297B-45DA-9FB7-2E664441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C045-78CE-4C4A-B682-BC391802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107C-9953-47BE-8A69-3054569C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C37A-CDAD-4CB1-BC54-E3110FF1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46DE-4BE9-4459-9B7B-31C139C0E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189000"/>
          <a:ext cx="8642160" cy="5486400"/>
        </p:xfrm>
        <a:graphic>
          <a:graphicData uri="http://schemas.openxmlformats.org/drawingml/2006/table">
            <a:tbl>
              <a:tblPr/>
              <a:tblGrid>
                <a:gridCol w="2160360"/>
                <a:gridCol w="2162160"/>
                <a:gridCol w="2159280"/>
                <a:gridCol w="2160360"/>
              </a:tblGrid>
              <a:tr h="15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– le café au la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 – quand j’avais huit 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– les sandwich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 – je pense q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 – le petit déjeun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 – je détes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 – le sport ou la musique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 – les restaura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 – le foot ou le rugby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 – l’E.P.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 – la dan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 – je préfè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2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 – l’exercice physiq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 – j’ado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 – je voudra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 – avec la famille ou les copains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179280" y="587700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w much can you say about each of thes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00720" y="6597720"/>
            <a:ext cx="46432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Rounded MT Bold"/>
              </a:rPr>
              <a:t>©MFL Sunderland 2008 CS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800" spc="-1" strike="noStrike" u="sng">
                <a:solidFill>
                  <a:srgbClr val="ffffff"/>
                </a:solidFill>
                <a:uFillTx/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20:24:06Z</dcterms:created>
  <dc:creator>Clare</dc:creator>
  <dc:description/>
  <dc:language>en-US</dc:language>
  <cp:lastModifiedBy>Clare</cp:lastModifiedBy>
  <dcterms:modified xsi:type="dcterms:W3CDTF">2008-11-05T14:21:10Z</dcterms:modified>
  <cp:revision>3</cp:revision>
  <dc:subject/>
  <dc:title>Slide 1</dc:title>
</cp:coreProperties>
</file>