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926-1DAA-4075-8FF8-33FBF323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A9F-3E9A-4072-A2A2-B510D341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0E1-197F-4F2C-A593-3CF8BBCE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001-1445-4FF1-8EA7-D9F9DC9E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7E0-74A3-4055-8369-F885A97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B24-21DF-438D-B810-33183C2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3FD-0E49-491C-A34C-44B45097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A98-4788-4A28-8B0C-48F7918B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077-242A-489F-AA7C-62A2A6F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0F5-56B2-47E2-93CB-6F3D4F7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1F3-CFF1-4611-95BD-327FAF2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9EA-4C14-4688-9D29-38BFEFE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5E9-AADA-4E6F-BF42-64AF79BA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2693880" cy="295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rob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antalon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jean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bleu j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1281240" cy="309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chaussure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817800" cy="234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7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jupe ble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jupes ble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jupes b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2663640" cy="23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66400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189216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994040" cy="2158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789360"/>
            <a:ext cx="8640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.  dos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.  deux tee-shirts de foo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.  deux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8464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blanches et vertes chauss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ett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ur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24000" y="5084280"/>
            <a:ext cx="792000" cy="115092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tee-shirt rouge et blan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ee-shirt rouge et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 et blanc tee-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38472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asket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3168720" cy="271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sandal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736720" cy="2698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4869000"/>
            <a:ext cx="122364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hemis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vest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ull 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311280" cy="26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chemis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bleue che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ull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237960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chaussett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marron chau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haussur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11640" cy="2633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s gant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gant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gants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592360" cy="254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73408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20:38:39Z</dcterms:modified>
  <cp:revision>3</cp:revision>
  <dc:subject/>
  <dc:title>Slide 1</dc:title>
</cp:coreProperties>
</file>