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12A-372F-4C11-A62F-8030AA01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377-495E-49D2-B15C-50B96C24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9C0-EFD6-433A-AB38-B8116DC3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8C8-1F51-4662-8A5A-8C36A3EF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DE9-D8CD-4DB6-8BCA-B180EDBB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75D-E109-4A7A-A9D8-2BBA08E6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5CE-9CF6-4484-8D4F-54D39AC9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320-B38E-4E4D-BEE0-82C2713C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EEF-F8D1-4710-AAC8-B817F0A5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D04-BB04-4713-BEE9-42495E81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5D5-8456-430A-846C-86BAFB93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EA9-4F9D-4658-BDCA-258B7A1E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7BD2-92F4-48BF-A672-C6039A8ED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476280"/>
            <a:ext cx="2693880" cy="295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jupe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jup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rob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58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pantalon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jean bla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bleu j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1281240" cy="309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40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chaussures multico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baskets multico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baskets multico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3817800" cy="2346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8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360" y="981000"/>
            <a:ext cx="2448000" cy="2206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87280" y="40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jupe ble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jupes ble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jupes b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2663640" cy="2343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266400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486900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1892160" cy="21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1994040" cy="2158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3789360"/>
            <a:ext cx="8640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.  dos football tee-shi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b.  deux tee-shirts de foot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c.  deux football tee-shi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08464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blanches et vertes chausset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chaussettes blanches et ver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chaussures blanches et ver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2951280" cy="221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324000" y="5084280"/>
            <a:ext cx="792000" cy="115092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tee-shirt rouge et blan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tee-shirt rouge et bla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rouge et blanc tee-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384720" cy="2125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486900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askets ver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ottes ver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ottes ve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3168720" cy="2711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486900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sandale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sandales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sandales marr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736720" cy="2698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4869000"/>
            <a:ext cx="122364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chemise v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veste v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pull v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3311280" cy="268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58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chemis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bleue chem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pull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35280" y="549360"/>
            <a:ext cx="2379600" cy="302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0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chaussette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marron chaus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haussures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311640" cy="2633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580536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rouges gant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gant rouges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gants rouges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592360" cy="2541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734080"/>
            <a:ext cx="1224000" cy="0"/>
          </a:xfrm>
          <a:prstGeom prst="line">
            <a:avLst/>
          </a:prstGeom>
          <a:ln w="190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04-05T20:38:39Z</dcterms:modified>
  <cp:revision>3</cp:revision>
  <dc:subject/>
  <dc:title>Slide 1</dc:title>
</cp:coreProperties>
</file>