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01E-1999-47FE-A7B9-0AD0436F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4BC-9A4C-47ED-9684-850F91D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666-AA84-4A29-87C4-FF58E402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471-0802-4041-9844-96A5C640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4A0-227A-48A5-AF2E-B9D1844F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B97-F8C1-41E1-A1E9-0672B9A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F86-45EE-466B-A033-96B0777D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4B3-239A-4707-96FA-BFBAC0D0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B53-3C75-417A-97F3-2EBEC3FD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79C-327A-42E6-B4B9-247B273B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F36-0E7E-481F-BC77-43781F7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8C9-12ED-4F6D-9043-5DB7590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FA1-FAB1-4E4A-9810-D23D111945E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ngfl.northumberland.gov.uk/clipart/Animals/images/mouse_jpg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nyu.edu/pages/gsasweb/dept/mideast/hindi/clipart/bird2.gif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www.graphicsfactory.com/clip-art/image_files/image/5/710885-elderlycouple001PR_bw.gif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freeclipartnow.com/d/6728-1/friendly-rabbit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fotosearch.com/bthumb/ARP/ARP116/Hamstr_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ngfl.northumberland.gov.uk/clipart/Animals/images/snake_jpg.jpg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school.discoveryeducation.com/clipart/images/boo_too.gif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comps.fotosearch.com/comp/UNC/UNC342/animal-pets-vet_~u13880435.jpg" TargetMode="External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hyperlink" Target="http://www.google.co.uk/imgres?imgurl=http://www.thesignanddesigncompany.com/holiday-hearts_clipart_3.gif&amp;imgrefurl=http://www.thesignanddesigncompany.com/holidays.htm&amp;usg=__0NM7rl2wSwRScpTyf0Nc8tE26is=&amp;h=483&amp;w=654&amp;sz=6&amp;hl=en&amp;start=13&amp;zoom=1&amp;um=1&amp;itbs=1&amp;tbnid=3iPj9kkMAJB1SM:&amp;tbnh=102&amp;tbnw=138&amp;prev=/images?q=heart+clipart&amp;um=1&amp;hl=en&amp;rlz=1T4GGLJ_en-GBGB340GB340&amp;ndsp=21&amp;tbs=isch:1,ic:gray" TargetMode="External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307440" y="9000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LA FAM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938600" y="900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m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274720" y="900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2124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fr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124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so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348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grand-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1951920" y="4859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5155560" y="4859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855800" y="61563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sou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132880" y="615636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ois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1842480" y="7596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pois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5132520" y="7667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che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149720" y="611280"/>
            <a:ext cx="3240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6640" y="1908000"/>
            <a:ext cx="360360" cy="8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836640" y="3348000"/>
            <a:ext cx="504720" cy="72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3933720" y="478800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>
            <a:off x="765000" y="6084720"/>
            <a:ext cx="560520" cy="80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>
            <a:off x="3933720" y="7380360"/>
            <a:ext cx="79056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7"/>
          <a:stretch/>
        </p:blipFill>
        <p:spPr>
          <a:xfrm>
            <a:off x="3860640" y="1979640"/>
            <a:ext cx="792360" cy="71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33720" y="608472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0640" y="7451640"/>
            <a:ext cx="971640" cy="75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005360" y="3348000"/>
            <a:ext cx="619200" cy="75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2"/>
          <p:cNvSpPr/>
          <p:nvPr/>
        </p:nvSpPr>
        <p:spPr>
          <a:xfrm>
            <a:off x="5013360" y="32767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fils/fil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iq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4"/>
          <a:stretch/>
        </p:blipFill>
        <p:spPr>
          <a:xfrm>
            <a:off x="549360" y="4716360"/>
            <a:ext cx="503280" cy="728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15"/>
          <a:stretch/>
        </p:blipFill>
        <p:spPr>
          <a:xfrm>
            <a:off x="1197000" y="4859280"/>
            <a:ext cx="495360" cy="44604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67"/>
          <p:cNvSpPr/>
          <p:nvPr/>
        </p:nvSpPr>
        <p:spPr>
          <a:xfrm flipV="1">
            <a:off x="476280" y="4716360"/>
            <a:ext cx="1152360" cy="71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69"/>
          <p:cNvSpPr/>
          <p:nvPr/>
        </p:nvSpPr>
        <p:spPr>
          <a:xfrm>
            <a:off x="404640" y="4716360"/>
            <a:ext cx="1224000" cy="71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858320" y="8269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la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5018760" y="826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ham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1780920" y="21240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serp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1773360" y="341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n’ai p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’ani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5013360" y="3419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dou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1790640" y="478800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Mon anniversa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est le quinze ma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1740600" y="6084720"/>
            <a:ext cx="155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Ma mére 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trente-deux 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1809360" y="745164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on chi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5013360" y="6156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perdu mon ch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92280" y="684360"/>
            <a:ext cx="576000" cy="790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9360" y="68436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0640" y="1979640"/>
            <a:ext cx="83844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9360" y="1979640"/>
            <a:ext cx="10666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4"/>
          <p:cNvSpPr/>
          <p:nvPr/>
        </p:nvSpPr>
        <p:spPr>
          <a:xfrm>
            <a:off x="5084640" y="2050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araign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0640" y="3276720"/>
            <a:ext cx="88596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9360" y="3348000"/>
            <a:ext cx="9334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Straight Connector 58"/>
          <p:cNvSpPr/>
          <p:nvPr/>
        </p:nvSpPr>
        <p:spPr>
          <a:xfrm>
            <a:off x="3645000" y="3348000"/>
            <a:ext cx="1224000" cy="79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60"/>
          <p:cNvSpPr/>
          <p:nvPr/>
        </p:nvSpPr>
        <p:spPr>
          <a:xfrm flipV="1">
            <a:off x="3716280" y="3347640"/>
            <a:ext cx="1152720" cy="79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Rectangle 61" descr=""/>
          <p:cNvPicPr/>
          <p:nvPr/>
        </p:nvPicPr>
        <p:blipFill>
          <a:blip r:embed="rId12"/>
          <a:stretch/>
        </p:blipFill>
        <p:spPr>
          <a:xfrm>
            <a:off x="291960" y="4468680"/>
            <a:ext cx="1536840" cy="11034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2" descr=""/>
          <p:cNvPicPr/>
          <p:nvPr/>
        </p:nvPicPr>
        <p:blipFill>
          <a:blip r:embed="rId13"/>
          <a:stretch/>
        </p:blipFill>
        <p:spPr>
          <a:xfrm>
            <a:off x="3584520" y="4711680"/>
            <a:ext cx="1359000" cy="542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3"/>
          <p:cNvSpPr/>
          <p:nvPr/>
        </p:nvSpPr>
        <p:spPr>
          <a:xfrm>
            <a:off x="5084640" y="4643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on frère s’appelle T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5" descr=""/>
          <p:cNvPicPr/>
          <p:nvPr/>
        </p:nvPicPr>
        <p:blipFill>
          <a:blip r:embed="rId14"/>
          <a:stretch/>
        </p:blipFill>
        <p:spPr>
          <a:xfrm>
            <a:off x="549360" y="6084720"/>
            <a:ext cx="358560" cy="590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5"/>
          <p:cNvSpPr/>
          <p:nvPr/>
        </p:nvSpPr>
        <p:spPr>
          <a:xfrm>
            <a:off x="981000" y="6227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5"/>
          <a:stretch/>
        </p:blipFill>
        <p:spPr>
          <a:xfrm>
            <a:off x="3789360" y="6084720"/>
            <a:ext cx="324000" cy="79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7"/>
          <p:cNvSpPr/>
          <p:nvPr/>
        </p:nvSpPr>
        <p:spPr>
          <a:xfrm>
            <a:off x="4292640" y="6156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6"/>
          <a:stretch/>
        </p:blipFill>
        <p:spPr>
          <a:xfrm>
            <a:off x="692280" y="738036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9"/>
          <p:cNvSpPr/>
          <p:nvPr/>
        </p:nvSpPr>
        <p:spPr>
          <a:xfrm>
            <a:off x="620640" y="8028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W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7"/>
          <a:stretch/>
        </p:blipFill>
        <p:spPr>
          <a:xfrm>
            <a:off x="4365720" y="7380360"/>
            <a:ext cx="560160" cy="7999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7">
            <a:hlinkClick r:id="rId18"/>
          </p:cNvPr>
          <p:cNvSpPr/>
          <p:nvPr/>
        </p:nvSpPr>
        <p:spPr>
          <a:xfrm>
            <a:off x="155520" y="-465120"/>
            <a:ext cx="131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9" descr="See full size image"/>
          <p:cNvPicPr/>
          <p:nvPr/>
        </p:nvPicPr>
        <p:blipFill>
          <a:blip r:embed="rId19"/>
          <a:stretch/>
        </p:blipFill>
        <p:spPr>
          <a:xfrm>
            <a:off x="3716280" y="7524720"/>
            <a:ext cx="649440" cy="4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5:32Z</dcterms:modified>
  <cp:revision>12</cp:revision>
  <dc:subject/>
  <dc:title>Slide 1</dc:title>
</cp:coreProperties>
</file>