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17.png" ContentType="image/png"/>
  <Override PartName="/ppt/media/image15.jpeg" ContentType="image/jpeg"/>
  <Override PartName="/ppt/media/image14.wmf" ContentType="image/x-wmf"/>
  <Override PartName="/ppt/media/image1.png" ContentType="image/png"/>
  <Override PartName="/ppt/media/image3.png" ContentType="image/png"/>
  <Override PartName="/ppt/media/image23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A4E-C800-4F3E-86A2-A0184DC5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4F6-3274-46C6-966D-22624EE1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C9A-D5D0-43FB-8258-152D41A9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472-78A9-490C-BA3F-0A3395DE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7AE-5041-4496-9457-5C3065C4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BDC-4F12-43A5-B2BE-56016E0B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B9E-39DE-49A8-B32F-F4144D4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68A-9083-451F-BF56-6043E136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0E5-DB38-4938-823B-A727DDB7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1EE-5BDF-4146-AFFE-91B13B2B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A6F-105A-4C1F-BB57-1137352A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ECE-BCDD-4096-8E34-F8A0AA2A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DC2A-4EB0-459A-B1C5-06AD290D73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hyperlink" Target="http://www.sunderlandschools.org/mfl-sunderland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png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542520" y="7556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JE SU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MAL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986120" y="75564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u 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084640" y="684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u ven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773360" y="197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013360" y="197964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la tê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44640" y="3276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aux d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6"/>
          <p:cNvSpPr/>
          <p:nvPr/>
        </p:nvSpPr>
        <p:spPr>
          <a:xfrm>
            <a:off x="5171400" y="334800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’oreil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1936800" y="478800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main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5171400" y="478800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gor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1879200" y="6156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e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171400" y="615636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jam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1773360" y="7451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u pi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1"/>
          <p:cNvSpPr/>
          <p:nvPr/>
        </p:nvSpPr>
        <p:spPr>
          <a:xfrm>
            <a:off x="5208840" y="752472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froi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aperfectworld.org/clipart/emotions/sick.gif"/>
          <p:cNvPicPr/>
          <p:nvPr/>
        </p:nvPicPr>
        <p:blipFill>
          <a:blip r:embed="rId1"/>
          <a:stretch/>
        </p:blipFill>
        <p:spPr>
          <a:xfrm>
            <a:off x="3860640" y="6012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clear.msu.edu/dennie/clipart/headache.gif"/>
          <p:cNvPicPr/>
          <p:nvPr/>
        </p:nvPicPr>
        <p:blipFill>
          <a:blip r:embed="rId2"/>
          <a:stretch/>
        </p:blipFill>
        <p:spPr>
          <a:xfrm>
            <a:off x="549360" y="3276720"/>
            <a:ext cx="1035000" cy="85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school.discoveryeducation.com/clipart/images/b-carefl.gif"/>
          <p:cNvPicPr/>
          <p:nvPr/>
        </p:nvPicPr>
        <p:blipFill>
          <a:blip r:embed="rId3"/>
          <a:stretch/>
        </p:blipFill>
        <p:spPr>
          <a:xfrm>
            <a:off x="3933720" y="1908000"/>
            <a:ext cx="647640" cy="8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clear.msu.edu/dennie/clipart/stomachache.gif"/>
          <p:cNvPicPr/>
          <p:nvPr/>
        </p:nvPicPr>
        <p:blipFill>
          <a:blip r:embed="rId4"/>
          <a:stretch/>
        </p:blipFill>
        <p:spPr>
          <a:xfrm>
            <a:off x="476280" y="1979640"/>
            <a:ext cx="108108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clipartguide.com/_named_clipart_images/0511-0902-0200-0028_Black_and_White_Cartoon_of_a_Man_with_a_Hurt_Back_clipart_image.jpg"/>
          <p:cNvPicPr/>
          <p:nvPr/>
        </p:nvPicPr>
        <p:blipFill>
          <a:blip r:embed="rId5"/>
          <a:stretch/>
        </p:blipFill>
        <p:spPr>
          <a:xfrm>
            <a:off x="3860640" y="611280"/>
            <a:ext cx="863640" cy="85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9" descr="http://www.glickdental.com/images/Web%20Site%20Clip%20Art/toothache.jpg"/>
          <p:cNvPicPr/>
          <p:nvPr/>
        </p:nvPicPr>
        <p:blipFill>
          <a:blip r:embed="rId6"/>
          <a:stretch/>
        </p:blipFill>
        <p:spPr>
          <a:xfrm>
            <a:off x="3789360" y="3276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do2learn.com/picturecards/images/imageschedule/earache_l.gif"/>
          <p:cNvPicPr/>
          <p:nvPr/>
        </p:nvPicPr>
        <p:blipFill>
          <a:blip r:embed="rId7"/>
          <a:stretch/>
        </p:blipFill>
        <p:spPr>
          <a:xfrm>
            <a:off x="620640" y="4643280"/>
            <a:ext cx="863640" cy="83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ngfl.northumberland.gov.uk/clipart/People/images/hand_jpg.jpg"/>
          <p:cNvPicPr/>
          <p:nvPr/>
        </p:nvPicPr>
        <p:blipFill>
          <a:blip r:embed="rId8"/>
          <a:stretch/>
        </p:blipFill>
        <p:spPr>
          <a:xfrm>
            <a:off x="3933720" y="4643280"/>
            <a:ext cx="666720" cy="911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img.crossdaily.com/cards/encouragement/getwell/getwell19.gif"/>
          <p:cNvPicPr/>
          <p:nvPr/>
        </p:nvPicPr>
        <p:blipFill>
          <a:blip r:embed="rId9"/>
          <a:stretch/>
        </p:blipFill>
        <p:spPr>
          <a:xfrm>
            <a:off x="620640" y="6012000"/>
            <a:ext cx="873360" cy="84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myctrring.com/wp-content/uploads/2009/03/leg.jpg"/>
          <p:cNvPicPr/>
          <p:nvPr/>
        </p:nvPicPr>
        <p:blipFill>
          <a:blip r:embed="rId10"/>
          <a:stretch/>
        </p:blipFill>
        <p:spPr>
          <a:xfrm>
            <a:off x="692280" y="7380360"/>
            <a:ext cx="80172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5" descr="http://ngfl.northumberland.gov.uk/clipart/people/images/foot_jpg.jpg"/>
          <p:cNvPicPr/>
          <p:nvPr/>
        </p:nvPicPr>
        <p:blipFill>
          <a:blip r:embed="rId11"/>
          <a:stretch/>
        </p:blipFill>
        <p:spPr>
          <a:xfrm>
            <a:off x="3716280" y="7451640"/>
            <a:ext cx="1008000" cy="763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22360" y="8929800"/>
            <a:ext cx="4535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2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2034360" y="8269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soi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213880" y="334800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de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èv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135760" y="20509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su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tigué(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1773360" y="3348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Je suis enhrumé(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5084640" y="4716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la grip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9"/>
          <p:cNvSpPr/>
          <p:nvPr/>
        </p:nvSpPr>
        <p:spPr>
          <a:xfrm>
            <a:off x="1844640" y="471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suis mala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0"/>
          <p:cNvSpPr/>
          <p:nvPr/>
        </p:nvSpPr>
        <p:spPr>
          <a:xfrm>
            <a:off x="5013360" y="755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chau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2"/>
          <p:cNvSpPr/>
          <p:nvPr/>
        </p:nvSpPr>
        <p:spPr>
          <a:xfrm>
            <a:off x="1844640" y="615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au ne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3"/>
          <p:cNvSpPr/>
          <p:nvPr/>
        </p:nvSpPr>
        <p:spPr>
          <a:xfrm>
            <a:off x="1989000" y="75247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vais mieux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961920" y="745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1844640" y="2124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fa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C:\Documents and Settings\cm8890c\Application Data\Microsoft\Media Catalog\Downloaded Clips\cl0\HM00492_.wmf"/>
          <p:cNvPicPr/>
          <p:nvPr/>
        </p:nvPicPr>
        <p:blipFill>
          <a:blip r:embed="rId1"/>
          <a:stretch/>
        </p:blipFill>
        <p:spPr>
          <a:xfrm>
            <a:off x="3860640" y="3276720"/>
            <a:ext cx="936720" cy="795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t0.gstatic.com/images?q=tbn:Fp7sFEP6Q1X7JM:http://images.clipartof.com/small/17671-Clipart-Illustration-Of-An-Ill-Bald-Middle-Aged-Caucasian-Man-Resting-His-Head-Against-A-Pillow-And-Lying-Under-A-Blanket-In-A-Green-Chair-With-Medicine-On-A-Table-Beside-Him.jpg&amp;t=1"/>
          <p:cNvPicPr/>
          <p:nvPr/>
        </p:nvPicPr>
        <p:blipFill>
          <a:blip r:embed="rId2"/>
          <a:stretch/>
        </p:blipFill>
        <p:spPr>
          <a:xfrm>
            <a:off x="3716280" y="4643280"/>
            <a:ext cx="1152720" cy="90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Documents and Settings\cm8890c\Application Data\Microsoft\Media Catalog\Downloaded Clips\cl3\PE07665_.wmf"/>
          <p:cNvPicPr/>
          <p:nvPr/>
        </p:nvPicPr>
        <p:blipFill>
          <a:blip r:embed="rId3"/>
          <a:stretch/>
        </p:blipFill>
        <p:spPr>
          <a:xfrm>
            <a:off x="549360" y="611280"/>
            <a:ext cx="863640" cy="88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t2.gstatic.com/images?q=tbn:PkwKrRIm0mj1rM:http://images.clipartof.com/small/35994-Clipart-Illustration-Of-A-Black-And-White-Thirsty-Frog-Drinking-From-A-Can.jpg&amp;t=1"/>
          <p:cNvPicPr/>
          <p:nvPr/>
        </p:nvPicPr>
        <p:blipFill>
          <a:blip r:embed="rId4"/>
          <a:stretch/>
        </p:blipFill>
        <p:spPr>
          <a:xfrm>
            <a:off x="3789360" y="684360"/>
            <a:ext cx="1008000" cy="78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www.clipartreview.com/_gallery/_TN/r_260.gif"/>
          <p:cNvPicPr/>
          <p:nvPr/>
        </p:nvPicPr>
        <p:blipFill>
          <a:blip r:embed="rId5"/>
          <a:stretch/>
        </p:blipFill>
        <p:spPr>
          <a:xfrm>
            <a:off x="549360" y="1908000"/>
            <a:ext cx="934920" cy="876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marktoon.co.uk/cartoons/blobs/blob-hungry-with-food-sign-clipart.gif"/>
          <p:cNvPicPr/>
          <p:nvPr/>
        </p:nvPicPr>
        <p:blipFill>
          <a:blip r:embed="rId6"/>
          <a:stretch/>
        </p:blipFill>
        <p:spPr>
          <a:xfrm>
            <a:off x="3789360" y="1835280"/>
            <a:ext cx="1004760" cy="93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:\Documents and Settings\cm8890c\Application Data\Microsoft\Media Catalog\Downloaded Clips\cl32\j0126780.wmf"/>
          <p:cNvPicPr/>
          <p:nvPr/>
        </p:nvPicPr>
        <p:blipFill>
          <a:blip r:embed="rId7"/>
          <a:stretch/>
        </p:blipFill>
        <p:spPr>
          <a:xfrm>
            <a:off x="476280" y="3276720"/>
            <a:ext cx="1152360" cy="86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Program Files\Microsoft Office\Clipart\standard\stddir4\pe02928_.wmf"/>
          <p:cNvPicPr/>
          <p:nvPr/>
        </p:nvPicPr>
        <p:blipFill>
          <a:blip r:embed="rId8"/>
          <a:stretch/>
        </p:blipFill>
        <p:spPr>
          <a:xfrm>
            <a:off x="549360" y="4643280"/>
            <a:ext cx="1085760" cy="865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Program Files\Microsoft Office\Clipart\smbusbas\pe07292_.wmf"/>
          <p:cNvPicPr/>
          <p:nvPr/>
        </p:nvPicPr>
        <p:blipFill>
          <a:blip r:embed="rId9"/>
          <a:stretch/>
        </p:blipFill>
        <p:spPr>
          <a:xfrm>
            <a:off x="404640" y="6084720"/>
            <a:ext cx="1195560" cy="7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t1.gstatic.com/images?q=tbn:TSjhM36HTYWeGM:http://img383.imageshack.us/img383/3066/ss35450qf7.jpg&amp;t=1"/>
          <p:cNvPicPr/>
          <p:nvPr/>
        </p:nvPicPr>
        <p:blipFill>
          <a:blip r:embed="rId10"/>
          <a:stretch/>
        </p:blipFill>
        <p:spPr>
          <a:xfrm>
            <a:off x="3860640" y="7451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1.gstatic.com/images?q=tbn:6B2N5w1wIc5IRM:http://www.freeclipartisland.com/clipsahoy/clipart2/as3399tn.gif&amp;t=1"/>
          <p:cNvPicPr/>
          <p:nvPr/>
        </p:nvPicPr>
        <p:blipFill>
          <a:blip r:embed="rId11"/>
          <a:stretch/>
        </p:blipFill>
        <p:spPr>
          <a:xfrm>
            <a:off x="3860640" y="6012000"/>
            <a:ext cx="762120" cy="847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1"/>
          <p:cNvSpPr/>
          <p:nvPr/>
        </p:nvSpPr>
        <p:spPr>
          <a:xfrm>
            <a:off x="5340600" y="6084720"/>
            <a:ext cx="9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Ça 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va 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0" descr="Thumbs Down Clip Art"/>
          <p:cNvPicPr/>
          <p:nvPr/>
        </p:nvPicPr>
        <p:blipFill>
          <a:blip r:embed="rId12"/>
          <a:stretch/>
        </p:blipFill>
        <p:spPr>
          <a:xfrm>
            <a:off x="836640" y="7451640"/>
            <a:ext cx="431640" cy="792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22360" y="8929800"/>
            <a:ext cx="4535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3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7:14Z</dcterms:modified>
  <cp:revision>18</cp:revision>
  <dc:subject/>
  <dc:title>Slide 1</dc:title>
</cp:coreProperties>
</file>