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17.png" ContentType="image/png"/>
  <Override PartName="/ppt/media/image15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23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ACC-B19F-420A-9F44-4760D3E3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18E-7D39-4AAB-B19F-C930FB2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F60-5A12-4EBB-950D-4892F917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311-E078-4C30-BACE-B4A8610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B20-E87F-4A3E-A410-4374EA1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DC3-7233-4102-9E93-70002225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6ED-EEDA-483C-9B7C-6105671C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7C3-6CB9-47E2-9701-7DFAC461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FF6-3482-443F-9D0A-99C6405D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062-65A1-49E6-8BD7-3547AD6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823-E2D9-4595-825A-45A6F2D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E2E-FE9C-421C-8EC9-F962547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787-2F1A-48A9-90D7-8AA03F6BE9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hyperlink" Target="http://www.sunderlandschools.org/mfl-sunderland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png"/><Relationship Id="rId13" Type="http://schemas.openxmlformats.org/officeDocument/2006/relationships/hyperlink" Target="http://www.sunderlandschools.org/mfl-sunderland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542520" y="7556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JE SU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MAL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986120" y="75564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084640" y="684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ven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1773360" y="1979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b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013360" y="197964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la tê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44640" y="3276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x d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5171400" y="334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’oreil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1936800" y="478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main</a:t>
            </a: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5171400" y="478800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gor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1879200" y="6156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coe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171400" y="6156360"/>
            <a:ext cx="11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la jam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773360" y="7451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u p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1"/>
          <p:cNvSpPr/>
          <p:nvPr/>
        </p:nvSpPr>
        <p:spPr>
          <a:xfrm>
            <a:off x="5208840" y="752472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fro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aperfectworld.org/clipart/emotions/sick.gif"/>
          <p:cNvPicPr/>
          <p:nvPr/>
        </p:nvPicPr>
        <p:blipFill>
          <a:blip r:embed="rId1"/>
          <a:stretch/>
        </p:blipFill>
        <p:spPr>
          <a:xfrm>
            <a:off x="3860640" y="6012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clear.msu.edu/dennie/clipart/headache.gif"/>
          <p:cNvPicPr/>
          <p:nvPr/>
        </p:nvPicPr>
        <p:blipFill>
          <a:blip r:embed="rId2"/>
          <a:stretch/>
        </p:blipFill>
        <p:spPr>
          <a:xfrm>
            <a:off x="549360" y="3276720"/>
            <a:ext cx="1035000" cy="85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school.discoveryeducation.com/clipart/images/b-carefl.gif"/>
          <p:cNvPicPr/>
          <p:nvPr/>
        </p:nvPicPr>
        <p:blipFill>
          <a:blip r:embed="rId3"/>
          <a:stretch/>
        </p:blipFill>
        <p:spPr>
          <a:xfrm>
            <a:off x="3933720" y="1908000"/>
            <a:ext cx="647640" cy="8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clear.msu.edu/dennie/clipart/stomachache.gif"/>
          <p:cNvPicPr/>
          <p:nvPr/>
        </p:nvPicPr>
        <p:blipFill>
          <a:blip r:embed="rId4"/>
          <a:stretch/>
        </p:blipFill>
        <p:spPr>
          <a:xfrm>
            <a:off x="476280" y="1979640"/>
            <a:ext cx="108108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clipartguide.com/_named_clipart_images/0511-0902-0200-0028_Black_and_White_Cartoon_of_a_Man_with_a_Hurt_Back_clipart_image.jpg"/>
          <p:cNvPicPr/>
          <p:nvPr/>
        </p:nvPicPr>
        <p:blipFill>
          <a:blip r:embed="rId5"/>
          <a:stretch/>
        </p:blipFill>
        <p:spPr>
          <a:xfrm>
            <a:off x="3860640" y="611280"/>
            <a:ext cx="86364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9" descr="http://www.glickdental.com/images/Web%20Site%20Clip%20Art/toothache.jpg"/>
          <p:cNvPicPr/>
          <p:nvPr/>
        </p:nvPicPr>
        <p:blipFill>
          <a:blip r:embed="rId6"/>
          <a:stretch/>
        </p:blipFill>
        <p:spPr>
          <a:xfrm>
            <a:off x="3789360" y="3276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do2learn.com/picturecards/images/imageschedule/earache_l.gif"/>
          <p:cNvPicPr/>
          <p:nvPr/>
        </p:nvPicPr>
        <p:blipFill>
          <a:blip r:embed="rId7"/>
          <a:stretch/>
        </p:blipFill>
        <p:spPr>
          <a:xfrm>
            <a:off x="620640" y="4643280"/>
            <a:ext cx="863640" cy="83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ngfl.northumberland.gov.uk/clipart/People/images/hand_jpg.jpg"/>
          <p:cNvPicPr/>
          <p:nvPr/>
        </p:nvPicPr>
        <p:blipFill>
          <a:blip r:embed="rId8"/>
          <a:stretch/>
        </p:blipFill>
        <p:spPr>
          <a:xfrm>
            <a:off x="3933720" y="4643280"/>
            <a:ext cx="666720" cy="91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.crossdaily.com/cards/encouragement/getwell/getwell19.gif"/>
          <p:cNvPicPr/>
          <p:nvPr/>
        </p:nvPicPr>
        <p:blipFill>
          <a:blip r:embed="rId9"/>
          <a:stretch/>
        </p:blipFill>
        <p:spPr>
          <a:xfrm>
            <a:off x="620640" y="6012000"/>
            <a:ext cx="873360" cy="84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myctrring.com/wp-content/uploads/2009/03/leg.jpg"/>
          <p:cNvPicPr/>
          <p:nvPr/>
        </p:nvPicPr>
        <p:blipFill>
          <a:blip r:embed="rId10"/>
          <a:stretch/>
        </p:blipFill>
        <p:spPr>
          <a:xfrm>
            <a:off x="692280" y="738036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5" descr="http://ngfl.northumberland.gov.uk/clipart/people/images/foot_jpg.jpg"/>
          <p:cNvPicPr/>
          <p:nvPr/>
        </p:nvPicPr>
        <p:blipFill>
          <a:blip r:embed="rId11"/>
          <a:stretch/>
        </p:blipFill>
        <p:spPr>
          <a:xfrm>
            <a:off x="3716280" y="7451640"/>
            <a:ext cx="1008000" cy="76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22360" y="8929800"/>
            <a:ext cx="45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3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773360" y="539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57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013360" y="539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73360" y="183528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57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13360" y="183528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3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3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3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773360" y="320364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57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013360" y="320364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773360" y="457200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57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013360" y="457200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773360" y="5940360"/>
            <a:ext cx="143964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57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5013360" y="5940360"/>
            <a:ext cx="1440000" cy="100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1773360" y="7308720"/>
            <a:ext cx="143964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7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013360" y="7308720"/>
            <a:ext cx="1440000" cy="10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2034360" y="8269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soi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5213880" y="334800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de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èv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5135760" y="20509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atigué(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1773360" y="3348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Je suis enhrumé(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5084640" y="4716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la grip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5429880" y="75963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9"/>
          <p:cNvSpPr/>
          <p:nvPr/>
        </p:nvSpPr>
        <p:spPr>
          <a:xfrm>
            <a:off x="1844640" y="471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suis mal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0"/>
          <p:cNvSpPr/>
          <p:nvPr/>
        </p:nvSpPr>
        <p:spPr>
          <a:xfrm>
            <a:off x="5013360" y="755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chau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1844640" y="6156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mal au ne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>
            <a:off x="1989000" y="75247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e vais mieu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961920" y="745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1844640" y="2124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J’ai fa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C:\Documents and Settings\cm8890c\Application Data\Microsoft\Media Catalog\Downloaded Clips\cl0\HM00492_.wmf"/>
          <p:cNvPicPr/>
          <p:nvPr/>
        </p:nvPicPr>
        <p:blipFill>
          <a:blip r:embed="rId1"/>
          <a:stretch/>
        </p:blipFill>
        <p:spPr>
          <a:xfrm>
            <a:off x="3860640" y="3276720"/>
            <a:ext cx="936720" cy="79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t0.gstatic.com/images?q=tbn:Fp7sFEP6Q1X7JM:http://images.clipartof.com/small/17671-Clipart-Illustration-Of-An-Ill-Bald-Middle-Aged-Caucasian-Man-Resting-His-Head-Against-A-Pillow-And-Lying-Under-A-Blanket-In-A-Green-Chair-With-Medicine-On-A-Table-Beside-Him.jpg&amp;t=1"/>
          <p:cNvPicPr/>
          <p:nvPr/>
        </p:nvPicPr>
        <p:blipFill>
          <a:blip r:embed="rId2"/>
          <a:stretch/>
        </p:blipFill>
        <p:spPr>
          <a:xfrm>
            <a:off x="3716280" y="4643280"/>
            <a:ext cx="1152720" cy="90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cm8890c\Application Data\Microsoft\Media Catalog\Downloaded Clips\cl3\PE07665_.wmf"/>
          <p:cNvPicPr/>
          <p:nvPr/>
        </p:nvPicPr>
        <p:blipFill>
          <a:blip r:embed="rId3"/>
          <a:stretch/>
        </p:blipFill>
        <p:spPr>
          <a:xfrm>
            <a:off x="549360" y="611280"/>
            <a:ext cx="863640" cy="88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t2.gstatic.com/images?q=tbn:PkwKrRIm0mj1rM:http://images.clipartof.com/small/35994-Clipart-Illustration-Of-A-Black-And-White-Thirsty-Frog-Drinking-From-A-Can.jpg&amp;t=1"/>
          <p:cNvPicPr/>
          <p:nvPr/>
        </p:nvPicPr>
        <p:blipFill>
          <a:blip r:embed="rId4"/>
          <a:stretch/>
        </p:blipFill>
        <p:spPr>
          <a:xfrm>
            <a:off x="3789360" y="684360"/>
            <a:ext cx="1008000" cy="78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www.clipartreview.com/_gallery/_TN/r_260.gif"/>
          <p:cNvPicPr/>
          <p:nvPr/>
        </p:nvPicPr>
        <p:blipFill>
          <a:blip r:embed="rId5"/>
          <a:stretch/>
        </p:blipFill>
        <p:spPr>
          <a:xfrm>
            <a:off x="549360" y="1908000"/>
            <a:ext cx="934920" cy="87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marktoon.co.uk/cartoons/blobs/blob-hungry-with-food-sign-clipart.gif"/>
          <p:cNvPicPr/>
          <p:nvPr/>
        </p:nvPicPr>
        <p:blipFill>
          <a:blip r:embed="rId6"/>
          <a:stretch/>
        </p:blipFill>
        <p:spPr>
          <a:xfrm>
            <a:off x="3789360" y="1835280"/>
            <a:ext cx="1004760" cy="93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cm8890c\Application Data\Microsoft\Media Catalog\Downloaded Clips\cl32\j0126780.wmf"/>
          <p:cNvPicPr/>
          <p:nvPr/>
        </p:nvPicPr>
        <p:blipFill>
          <a:blip r:embed="rId7"/>
          <a:stretch/>
        </p:blipFill>
        <p:spPr>
          <a:xfrm>
            <a:off x="476280" y="3276720"/>
            <a:ext cx="1152360" cy="86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Program Files\Microsoft Office\Clipart\standard\stddir4\pe02928_.wmf"/>
          <p:cNvPicPr/>
          <p:nvPr/>
        </p:nvPicPr>
        <p:blipFill>
          <a:blip r:embed="rId8"/>
          <a:stretch/>
        </p:blipFill>
        <p:spPr>
          <a:xfrm>
            <a:off x="549360" y="4643280"/>
            <a:ext cx="1085760" cy="8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Program Files\Microsoft Office\Clipart\smbusbas\pe07292_.wmf"/>
          <p:cNvPicPr/>
          <p:nvPr/>
        </p:nvPicPr>
        <p:blipFill>
          <a:blip r:embed="rId9"/>
          <a:stretch/>
        </p:blipFill>
        <p:spPr>
          <a:xfrm>
            <a:off x="404640" y="6084720"/>
            <a:ext cx="1195560" cy="7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t1.gstatic.com/images?q=tbn:TSjhM36HTYWeGM:http://img383.imageshack.us/img383/3066/ss35450qf7.jpg&amp;t=1"/>
          <p:cNvPicPr/>
          <p:nvPr/>
        </p:nvPicPr>
        <p:blipFill>
          <a:blip r:embed="rId10"/>
          <a:stretch/>
        </p:blipFill>
        <p:spPr>
          <a:xfrm>
            <a:off x="3860640" y="7451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1.gstatic.com/images?q=tbn:6B2N5w1wIc5IRM:http://www.freeclipartisland.com/clipsahoy/clipart2/as3399tn.gif&amp;t=1"/>
          <p:cNvPicPr/>
          <p:nvPr/>
        </p:nvPicPr>
        <p:blipFill>
          <a:blip r:embed="rId11"/>
          <a:stretch/>
        </p:blipFill>
        <p:spPr>
          <a:xfrm>
            <a:off x="3860640" y="6012000"/>
            <a:ext cx="762120" cy="847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1"/>
          <p:cNvSpPr/>
          <p:nvPr/>
        </p:nvSpPr>
        <p:spPr>
          <a:xfrm>
            <a:off x="5340600" y="608472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Ça 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va 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0" descr="Thumbs Down Clip Art"/>
          <p:cNvPicPr/>
          <p:nvPr/>
        </p:nvPicPr>
        <p:blipFill>
          <a:blip r:embed="rId12"/>
          <a:stretch/>
        </p:blipFill>
        <p:spPr>
          <a:xfrm>
            <a:off x="836640" y="7451640"/>
            <a:ext cx="431640" cy="7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22360" y="8929800"/>
            <a:ext cx="453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3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18:48Z</dcterms:created>
  <dc:creator>john</dc:creator>
  <dc:description/>
  <dc:language>en-US</dc:language>
  <cp:lastModifiedBy>Clare Seccombe</cp:lastModifiedBy>
  <dcterms:modified xsi:type="dcterms:W3CDTF">2011-04-04T11:07:14Z</dcterms:modified>
  <cp:revision>18</cp:revision>
  <dc:subject/>
  <dc:title>Slide 1</dc:title>
</cp:coreProperties>
</file>