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4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6EF-9873-4A53-A69A-365C8B32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946-18B6-4D95-ABF6-22D332B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FAD-8DAD-4776-9ABC-7B50EB77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4B5-488E-4FF2-82BE-78F9F5EE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27F-1BEE-43FE-B10F-D7492248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57A-0F1F-4428-B668-EA058D6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5B7-CC22-4460-B367-5CB65D51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6B9-5AC9-460D-8C3A-8426484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0FD-019D-450F-A9E4-476BF46E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32A-7EA2-4496-8FEE-774F314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6C7-11E5-4F32-AC87-5E84410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93D-4D9E-4EB8-9A03-2E3FE41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5CC0-A97E-4813-AB01-88EB958488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2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3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4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5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6" Type="http://schemas.openxmlformats.org/officeDocument/2006/relationships/hyperlink" Target="http://www.google.co.uk/imgres?imgurl=http://www.theclipartdirectory.com/clipart/Household/Living-Room/00200024172_tnb.png&amp;imgrefurl=http://www.theclipartdirectory.com/clipart/Household/Living-Room/00200024172_tnb.html&amp;usg=__bwkJY2rxYeZ6URPRku0-OPP2gfw=&amp;h=205&amp;w=350&amp;sz=44&amp;hl=en&amp;start=4&amp;zoom=0&amp;um=1&amp;itbs=1&amp;tbnid=oRYpm3470UEm9M:&amp;tbnh=70&amp;tbnw=120&amp;prev=/images?q=living+room&amp;um=1&amp;hl=en&amp;sa=X&amp;rlz=1T4GGLJ_en-GBGB340GB340&amp;tbs=isch:1,itp:clipart,ic:gray" TargetMode="External"/><Relationship Id="rId7" Type="http://schemas.openxmlformats.org/officeDocument/2006/relationships/hyperlink" Target="http://www.google.co.uk/imgres?imgurl=http://www.funfonix.com/clipart/kitchen.gif&amp;imgrefurl=http://kitchenbacksplashes.blogspot.com/2010/06/kitchen-clip-art.html&amp;usg=__8aHOtDHg9ofyKyUGOuAihfSq1kQ=&amp;h=300&amp;w=300&amp;sz=17&amp;hl=en&amp;start=1&amp;zoom=1&amp;um=1&amp;itbs=1&amp;tbnid=uDT6GI1KxHkKHM:&amp;tbnh=116&amp;tbnw=116&amp;prev=/images?q=kitchen+clipart&amp;um=1&amp;hl=en&amp;sa=X&amp;rlz=1T4GGLJ_en-GBGB340GB340&amp;ndsp=18&amp;tbs=isch:1,ic:gray,itp:clipart" TargetMode="External"/><Relationship Id="rId8" Type="http://schemas.openxmlformats.org/officeDocument/2006/relationships/hyperlink" Target="http://www.google.co.uk/imgres?imgurl=http://www.funfonix.com/clipart/kitchen.gif&amp;imgrefurl=http://kitchenbacksplashes.blogspot.com/2010/06/kitchen-clip-art.html&amp;usg=__8aHOtDHg9ofyKyUGOuAihfSq1kQ=&amp;h=300&amp;w=300&amp;sz=17&amp;hl=en&amp;start=1&amp;zoom=1&amp;um=1&amp;itbs=1&amp;tbnid=uDT6GI1KxHkKHM:&amp;tbnh=116&amp;tbnw=116&amp;prev=/images?q=kitchen+clipart&amp;um=1&amp;hl=en&amp;sa=X&amp;rlz=1T4GGLJ_en-GBGB340GB340&amp;ndsp=18&amp;tbs=isch:1,ic:gray,itp:clipart" TargetMode="External"/><Relationship Id="rId9" Type="http://schemas.openxmlformats.org/officeDocument/2006/relationships/hyperlink" Target="http://www.google.co.uk/imgres?imgurl=http://www.funfonix.com/clipart/kitchen.gif&amp;imgrefurl=http://kitchenbacksplashes.blogspot.com/2010/06/kitchen-clip-art.html&amp;h=300&amp;w=300&amp;sz=17&amp;tbnid=uDT6GI1KxHkKHM:&amp;tbnh=116&amp;tbnw=116&amp;prev=/images?q=kitchen+clipart&amp;zoom=1&amp;q=kitchen+clipart&amp;hl=en-GB&amp;usg=__expz_EFf1uPteZwLN4NjKNkEW-A=&amp;sa=X&amp;ei=SBmCTJeuMs614AbyhOnTCw&amp;ved=0CCMQ9QEwAQ" TargetMode="External"/><Relationship Id="rId10" Type="http://schemas.openxmlformats.org/officeDocument/2006/relationships/hyperlink" Target="http://www.clker.com/clipart-test-drive-a-car-1.html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www.clker.com/clipart-test-drive-a-car-1.html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clker.com/clipart-13736.html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jpe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jpe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2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3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4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pn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2064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989000" y="3952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78936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157720" y="3952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20640" y="1476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2064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2064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2064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2064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2064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989000" y="1476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989000" y="2700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989000" y="3924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989000" y="5003640"/>
            <a:ext cx="13687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989000" y="6084720"/>
            <a:ext cx="13687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989000" y="7093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3789360" y="1547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5157720" y="1547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378936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5157720" y="2700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378936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157720" y="6084720"/>
            <a:ext cx="13669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378936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5157720" y="5003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378936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157720" y="3924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62064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5157720" y="7093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>
            <a:hlinkClick r:id="rId1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>
            <a:hlinkClick r:id="rId2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6">
            <a:hlinkClick r:id="rId3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8">
            <a:hlinkClick r:id="rId4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0">
            <a:hlinkClick r:id="rId5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1989000" y="8101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5157720" y="8101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378936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378936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8"/>
          <p:cNvSpPr/>
          <p:nvPr/>
        </p:nvSpPr>
        <p:spPr>
          <a:xfrm>
            <a:off x="765000" y="539640"/>
            <a:ext cx="11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LES LOISI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>
            <a:hlinkClick r:id="rId6"/>
          </p:cNvPr>
          <p:cNvSpPr/>
          <p:nvPr/>
        </p:nvSpPr>
        <p:spPr>
          <a:xfrm>
            <a:off x="155520" y="-318960"/>
            <a:ext cx="1143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2205000" y="539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e la da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7"/>
          <p:cNvSpPr/>
          <p:nvPr/>
        </p:nvSpPr>
        <p:spPr>
          <a:xfrm>
            <a:off x="5229360" y="539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bow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8"/>
          <p:cNvSpPr/>
          <p:nvPr/>
        </p:nvSpPr>
        <p:spPr>
          <a:xfrm>
            <a:off x="2060640" y="1547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sk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9"/>
          <p:cNvSpPr/>
          <p:nvPr/>
        </p:nvSpPr>
        <p:spPr>
          <a:xfrm>
            <a:off x="5229360" y="161928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e la na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0"/>
          <p:cNvSpPr/>
          <p:nvPr/>
        </p:nvSpPr>
        <p:spPr>
          <a:xfrm>
            <a:off x="1989000" y="2771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f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1"/>
          <p:cNvSpPr/>
          <p:nvPr/>
        </p:nvSpPr>
        <p:spPr>
          <a:xfrm>
            <a:off x="5157720" y="277164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faire de la gymnast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2"/>
          <p:cNvSpPr/>
          <p:nvPr/>
        </p:nvSpPr>
        <p:spPr>
          <a:xfrm>
            <a:off x="2060640" y="3995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V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5229360" y="3924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e la planche à vo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2060640" y="5076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du pi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5229360" y="5076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les magas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60640" y="6156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ller à la pêc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5157720" y="6227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2060640" y="7164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ten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5157720" y="7164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guit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0"/>
          <p:cNvSpPr/>
          <p:nvPr/>
        </p:nvSpPr>
        <p:spPr>
          <a:xfrm>
            <a:off x="2060640" y="817236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ouer aux car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8">
            <a:hlinkClick r:id="rId7"/>
          </p:cNvPr>
          <p:cNvSpPr/>
          <p:nvPr/>
        </p:nvSpPr>
        <p:spPr>
          <a:xfrm>
            <a:off x="155520" y="-525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0">
            <a:hlinkClick r:id="rId8"/>
          </p:cNvPr>
          <p:cNvSpPr/>
          <p:nvPr/>
        </p:nvSpPr>
        <p:spPr>
          <a:xfrm>
            <a:off x="155520" y="-525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12">
            <a:hlinkClick r:id="rId9"/>
          </p:cNvPr>
          <p:cNvSpPr/>
          <p:nvPr/>
        </p:nvSpPr>
        <p:spPr>
          <a:xfrm>
            <a:off x="155520" y="-426960"/>
            <a:ext cx="895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6" descr="Test Drive A Car Clip Ar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881840" y="-17106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Test Drive A Car Clip Ar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1840" y="-17106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Oak Tree Clip Art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881840" y="-17106840"/>
            <a:ext cx="2857680" cy="2543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4"/>
          <p:cNvSpPr/>
          <p:nvPr/>
        </p:nvSpPr>
        <p:spPr>
          <a:xfrm>
            <a:off x="5155560" y="83170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owling clipart banks ball"/>
          <p:cNvPicPr/>
          <p:nvPr/>
        </p:nvPicPr>
        <p:blipFill>
          <a:blip r:embed="rId16"/>
          <a:stretch/>
        </p:blipFill>
        <p:spPr>
          <a:xfrm>
            <a:off x="1052640" y="1619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www.artvex.com/content/Clip_Art/Sports/Soccer/0016457.gif"/>
          <p:cNvPicPr/>
          <p:nvPr/>
        </p:nvPicPr>
        <p:blipFill>
          <a:blip r:embed="rId17"/>
          <a:stretch/>
        </p:blipFill>
        <p:spPr>
          <a:xfrm>
            <a:off x="4149720" y="2771640"/>
            <a:ext cx="585720" cy="64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4"/>
          <p:cNvSpPr/>
          <p:nvPr/>
        </p:nvSpPr>
        <p:spPr>
          <a:xfrm>
            <a:off x="155520" y="-372960"/>
            <a:ext cx="13431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6" descr="http://www.pacificventures.net/OurSite/Sports_files/mtn%20bike%20clip%20art.png"/>
          <p:cNvPicPr/>
          <p:nvPr/>
        </p:nvPicPr>
        <p:blipFill>
          <a:blip r:embed="rId18"/>
          <a:stretch/>
        </p:blipFill>
        <p:spPr>
          <a:xfrm>
            <a:off x="3860640" y="3995640"/>
            <a:ext cx="1224000" cy="66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Wind Surfing Clip Art"/>
          <p:cNvPicPr/>
          <p:nvPr/>
        </p:nvPicPr>
        <p:blipFill>
          <a:blip r:embed="rId19"/>
          <a:stretch/>
        </p:blipFill>
        <p:spPr>
          <a:xfrm>
            <a:off x="981000" y="5076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Piano Keys Clip Art"/>
          <p:cNvPicPr/>
          <p:nvPr/>
        </p:nvPicPr>
        <p:blipFill>
          <a:blip r:embed="rId20"/>
          <a:stretch/>
        </p:blipFill>
        <p:spPr>
          <a:xfrm>
            <a:off x="3933720" y="5076720"/>
            <a:ext cx="1079640" cy="67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http://www.cksinfo.com/clipart/household/shopping-bag-1.png"/>
          <p:cNvPicPr/>
          <p:nvPr/>
        </p:nvPicPr>
        <p:blipFill>
          <a:blip r:embed="rId21"/>
          <a:stretch/>
        </p:blipFill>
        <p:spPr>
          <a:xfrm>
            <a:off x="1052640" y="6156360"/>
            <a:ext cx="504720" cy="6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http://www.clker.com/cliparts/6/f/4/9/1206572276884769269johnny_automatic_NPS_map_pictographs_part_26.svg.med.png"/>
          <p:cNvPicPr/>
          <p:nvPr/>
        </p:nvPicPr>
        <p:blipFill>
          <a:blip r:embed="rId22"/>
          <a:stretch/>
        </p:blipFill>
        <p:spPr>
          <a:xfrm>
            <a:off x="4076640" y="6156360"/>
            <a:ext cx="792360" cy="66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basketball hoop ball clipart"/>
          <p:cNvPicPr/>
          <p:nvPr/>
        </p:nvPicPr>
        <p:blipFill>
          <a:blip r:embed="rId23"/>
          <a:stretch/>
        </p:blipFill>
        <p:spPr>
          <a:xfrm>
            <a:off x="1052640" y="7236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8" descr="http://t0.gstatic.com/images?q=tbn:zYkgn-K9UkZc7M:http://img170.imageshack.us/img170/780/tennisequipment18pz8.gif&amp;t=1"/>
          <p:cNvPicPr/>
          <p:nvPr/>
        </p:nvPicPr>
        <p:blipFill>
          <a:blip r:embed="rId24"/>
          <a:stretch/>
        </p:blipFill>
        <p:spPr>
          <a:xfrm>
            <a:off x="4221000" y="7164360"/>
            <a:ext cx="576360" cy="61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http://www.clipartheaven.com/clipart/music/instruments/guitar_-_acoustic_6.gif"/>
          <p:cNvPicPr/>
          <p:nvPr/>
        </p:nvPicPr>
        <p:blipFill>
          <a:blip r:embed="rId25"/>
          <a:stretch/>
        </p:blipFill>
        <p:spPr>
          <a:xfrm>
            <a:off x="981000" y="8172360"/>
            <a:ext cx="647640" cy="587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http://www.webdesign.org/img_articles/16586/playingcards05.gif"/>
          <p:cNvPicPr/>
          <p:nvPr/>
        </p:nvPicPr>
        <p:blipFill>
          <a:blip r:embed="rId26"/>
          <a:stretch/>
        </p:blipFill>
        <p:spPr>
          <a:xfrm>
            <a:off x="4149720" y="8172360"/>
            <a:ext cx="719280" cy="6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http://www.artvex.com/content/Clip_Art/Sports/Gymnastics/0014877.gif"/>
          <p:cNvPicPr/>
          <p:nvPr/>
        </p:nvPicPr>
        <p:blipFill>
          <a:blip r:embed="rId27"/>
          <a:stretch/>
        </p:blipFill>
        <p:spPr>
          <a:xfrm>
            <a:off x="907920" y="4067280"/>
            <a:ext cx="720720" cy="55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6" descr="Hotel Icon Swimming Pool Clip Art"/>
          <p:cNvPicPr/>
          <p:nvPr/>
        </p:nvPicPr>
        <p:blipFill>
          <a:blip r:embed="rId28"/>
          <a:stretch/>
        </p:blipFill>
        <p:spPr>
          <a:xfrm>
            <a:off x="907920" y="277164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8" descr="http://www.clipartheaven.com/clipart/entertainment/dance/dancing_-_crowd.gif"/>
          <p:cNvPicPr/>
          <p:nvPr/>
        </p:nvPicPr>
        <p:blipFill>
          <a:blip r:embed="rId29"/>
          <a:stretch/>
        </p:blipFill>
        <p:spPr>
          <a:xfrm>
            <a:off x="4005360" y="468360"/>
            <a:ext cx="936360" cy="7016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155520" y="-617400"/>
            <a:ext cx="125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http://www.fotosearch.com/bthumb/ARP/ARP115/Sktbrdng.jpg"/>
          <p:cNvPicPr/>
          <p:nvPr/>
        </p:nvPicPr>
        <p:blipFill>
          <a:blip r:embed="rId30"/>
          <a:stretch/>
        </p:blipFill>
        <p:spPr>
          <a:xfrm>
            <a:off x="4149720" y="1619280"/>
            <a:ext cx="647640" cy="663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62064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989000" y="3952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78936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157720" y="3952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20640" y="1476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2064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2064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2064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62064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2064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989000" y="1476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989000" y="2700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989000" y="3924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989000" y="5003640"/>
            <a:ext cx="13687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1989000" y="6084720"/>
            <a:ext cx="13687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1989000" y="7093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789360" y="1547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5157720" y="1547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78936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57720" y="2700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78936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157720" y="6084720"/>
            <a:ext cx="13669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378936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5157720" y="5003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78936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5157720" y="3924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2064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157720" y="7093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2">
            <a:hlinkClick r:id="rId1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4">
            <a:hlinkClick r:id="rId2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6">
            <a:hlinkClick r:id="rId3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8">
            <a:hlinkClick r:id="rId4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1989000" y="8101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5157720" y="8101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378936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378936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9"/>
          <p:cNvSpPr/>
          <p:nvPr/>
        </p:nvSpPr>
        <p:spPr>
          <a:xfrm>
            <a:off x="5157720" y="539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x éche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0"/>
          <p:cNvSpPr/>
          <p:nvPr/>
        </p:nvSpPr>
        <p:spPr>
          <a:xfrm>
            <a:off x="2060640" y="154764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ouer au ping-po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6"/>
          <p:cNvSpPr/>
          <p:nvPr/>
        </p:nvSpPr>
        <p:spPr>
          <a:xfrm>
            <a:off x="5229360" y="1619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vé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2060640" y="2771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rug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8"/>
          <p:cNvSpPr/>
          <p:nvPr/>
        </p:nvSpPr>
        <p:spPr>
          <a:xfrm>
            <a:off x="5157720" y="277164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ouer au volley-b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0"/>
          <p:cNvSpPr/>
          <p:nvPr/>
        </p:nvSpPr>
        <p:spPr>
          <a:xfrm>
            <a:off x="1989000" y="3995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bill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51"/>
          <p:cNvSpPr/>
          <p:nvPr/>
        </p:nvSpPr>
        <p:spPr>
          <a:xfrm>
            <a:off x="5229360" y="3995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e la vo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2"/>
          <p:cNvSpPr/>
          <p:nvPr/>
        </p:nvSpPr>
        <p:spPr>
          <a:xfrm>
            <a:off x="1989000" y="39528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u pat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à g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4"/>
          <p:cNvSpPr/>
          <p:nvPr/>
        </p:nvSpPr>
        <p:spPr>
          <a:xfrm>
            <a:off x="5157720" y="6156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hoc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56"/>
          <p:cNvSpPr/>
          <p:nvPr/>
        </p:nvSpPr>
        <p:spPr>
          <a:xfrm>
            <a:off x="2060640" y="7164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cano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7"/>
          <p:cNvSpPr/>
          <p:nvPr/>
        </p:nvSpPr>
        <p:spPr>
          <a:xfrm>
            <a:off x="5589720" y="8244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71"/>
          <p:cNvSpPr/>
          <p:nvPr/>
        </p:nvSpPr>
        <p:spPr>
          <a:xfrm>
            <a:off x="2060640" y="8172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flipp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http://school.discoveryeducation.com/clipart/images/chesspce.gif"/>
          <p:cNvPicPr/>
          <p:nvPr/>
        </p:nvPicPr>
        <p:blipFill>
          <a:blip r:embed="rId5"/>
          <a:stretch/>
        </p:blipFill>
        <p:spPr>
          <a:xfrm>
            <a:off x="1052640" y="1547640"/>
            <a:ext cx="431640" cy="63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ksinfo.com/clipart/sports/skating/figure/skate-ice.png"/>
          <p:cNvPicPr/>
          <p:nvPr/>
        </p:nvPicPr>
        <p:blipFill>
          <a:blip r:embed="rId6"/>
          <a:stretch/>
        </p:blipFill>
        <p:spPr>
          <a:xfrm>
            <a:off x="4076640" y="468360"/>
            <a:ext cx="79236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www.cyprusvilla1.co.uk/ski_clipart.gif"/>
          <p:cNvPicPr/>
          <p:nvPr/>
        </p:nvPicPr>
        <p:blipFill>
          <a:blip r:embed="rId7"/>
          <a:stretch/>
        </p:blipFill>
        <p:spPr>
          <a:xfrm>
            <a:off x="907920" y="465120"/>
            <a:ext cx="649440" cy="66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http://www.txwes.edu/communications/images/TableTennis1.jpg"/>
          <p:cNvPicPr/>
          <p:nvPr/>
        </p:nvPicPr>
        <p:blipFill>
          <a:blip r:embed="rId8"/>
          <a:stretch/>
        </p:blipFill>
        <p:spPr>
          <a:xfrm>
            <a:off x="4221000" y="1619280"/>
            <a:ext cx="576360" cy="58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images.all-free-download.com/images/graphicmedium/hotel_icon_cycling_clip_art_9877.jpg"/>
          <p:cNvPicPr/>
          <p:nvPr/>
        </p:nvPicPr>
        <p:blipFill>
          <a:blip r:embed="rId9"/>
          <a:stretch/>
        </p:blipFill>
        <p:spPr>
          <a:xfrm>
            <a:off x="981000" y="2771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http://previews2.nvtech.com/100/tf05043/NVTech_spor0120.jpg"/>
          <p:cNvPicPr/>
          <p:nvPr/>
        </p:nvPicPr>
        <p:blipFill>
          <a:blip r:embed="rId10"/>
          <a:stretch/>
        </p:blipFill>
        <p:spPr>
          <a:xfrm>
            <a:off x="4005360" y="2771640"/>
            <a:ext cx="95256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http://www.greensburgdecaturcounty.com/extreme/IMAGE/volleyball_clipart_4.gif"/>
          <p:cNvPicPr/>
          <p:nvPr/>
        </p:nvPicPr>
        <p:blipFill>
          <a:blip r:embed="rId11"/>
          <a:stretch/>
        </p:blipFill>
        <p:spPr>
          <a:xfrm>
            <a:off x="981000" y="399564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http://www.aperfectworld.org/clipart/sports/sailing.png"/>
          <p:cNvPicPr/>
          <p:nvPr/>
        </p:nvPicPr>
        <p:blipFill>
          <a:blip r:embed="rId12"/>
          <a:stretch/>
        </p:blipFill>
        <p:spPr>
          <a:xfrm>
            <a:off x="907920" y="5076720"/>
            <a:ext cx="720720" cy="639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http://www.clipartguide.com/_thumbs/1552-0908-0301-2143.jpg"/>
          <p:cNvPicPr/>
          <p:nvPr/>
        </p:nvPicPr>
        <p:blipFill>
          <a:blip r:embed="rId13"/>
          <a:stretch/>
        </p:blipFill>
        <p:spPr>
          <a:xfrm>
            <a:off x="4076640" y="3995640"/>
            <a:ext cx="792360" cy="641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6"/>
          <p:cNvSpPr/>
          <p:nvPr/>
        </p:nvSpPr>
        <p:spPr>
          <a:xfrm>
            <a:off x="1955520" y="507672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’equi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6" descr="http://www.chumpysclipart.com/images/illustrations/thumbnail/355_stylized_drawing_of_a_man_riding_english_style_on_a_running_horse_in_a_competition.jpg"/>
          <p:cNvPicPr/>
          <p:nvPr/>
        </p:nvPicPr>
        <p:blipFill>
          <a:blip r:embed="rId14"/>
          <a:stretch/>
        </p:blipFill>
        <p:spPr>
          <a:xfrm>
            <a:off x="4005360" y="5076720"/>
            <a:ext cx="936360" cy="669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89"/>
          <p:cNvSpPr/>
          <p:nvPr/>
        </p:nvSpPr>
        <p:spPr>
          <a:xfrm>
            <a:off x="5229360" y="5076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go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90"/>
          <p:cNvSpPr/>
          <p:nvPr/>
        </p:nvSpPr>
        <p:spPr>
          <a:xfrm>
            <a:off x="2081160" y="6156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u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8" descr="http://chlha.com/chlha/upld_files/hoa0444/f0029_golf_clipart.gif"/>
          <p:cNvPicPr/>
          <p:nvPr/>
        </p:nvPicPr>
        <p:blipFill>
          <a:blip r:embed="rId15"/>
          <a:stretch/>
        </p:blipFill>
        <p:spPr>
          <a:xfrm>
            <a:off x="907920" y="615636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0" descr="http://3.bp.blogspot.com/_ypalM7eSBEQ/SuiJX_1pIhI/AAAAAAAABG4/PrELqAZ1Ty4/s320/kick_clip_art-martial-arts.jpg"/>
          <p:cNvPicPr/>
          <p:nvPr/>
        </p:nvPicPr>
        <p:blipFill>
          <a:blip r:embed="rId16"/>
          <a:stretch/>
        </p:blipFill>
        <p:spPr>
          <a:xfrm>
            <a:off x="4149720" y="6156360"/>
            <a:ext cx="719280" cy="64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2" descr="http://static0.arttoday.com/thm/thm3/CL/gc5/gcorp/modsport/fieldhoc.thm.jpg"/>
          <p:cNvPicPr/>
          <p:nvPr/>
        </p:nvPicPr>
        <p:blipFill>
          <a:blip r:embed="rId17"/>
          <a:stretch/>
        </p:blipFill>
        <p:spPr>
          <a:xfrm>
            <a:off x="981000" y="7164360"/>
            <a:ext cx="576360" cy="646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4" descr="http://en.clipart-fr.com/data/clipart/boats/boat_001.gif"/>
          <p:cNvPicPr/>
          <p:nvPr/>
        </p:nvPicPr>
        <p:blipFill>
          <a:blip r:embed="rId18"/>
          <a:stretch/>
        </p:blipFill>
        <p:spPr>
          <a:xfrm>
            <a:off x="3933720" y="7236000"/>
            <a:ext cx="1008000" cy="498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5"/>
          <p:cNvSpPr/>
          <p:nvPr/>
        </p:nvSpPr>
        <p:spPr>
          <a:xfrm>
            <a:off x="5157720" y="7164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de 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atter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6" descr="http://www.clipartguide.com/_named_clipart_images/0511-0901-1902-3530_Simple_Drum_Set_clipart_image.jpg"/>
          <p:cNvPicPr/>
          <p:nvPr/>
        </p:nvPicPr>
        <p:blipFill>
          <a:blip r:embed="rId19"/>
          <a:stretch/>
        </p:blipFill>
        <p:spPr>
          <a:xfrm>
            <a:off x="907920" y="8172360"/>
            <a:ext cx="865440" cy="642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8" descr="http://www.clipartpal.com/_thumbs/handspinball_004874_tnb.png"/>
          <p:cNvPicPr/>
          <p:nvPr/>
        </p:nvPicPr>
        <p:blipFill>
          <a:blip r:embed="rId20"/>
          <a:stretch/>
        </p:blipFill>
        <p:spPr>
          <a:xfrm>
            <a:off x="4076640" y="8172360"/>
            <a:ext cx="865080" cy="679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8:09Z</dcterms:modified>
  <cp:revision>29</cp:revision>
  <dc:subject/>
  <dc:title>Slide 1</dc:title>
</cp:coreProperties>
</file>