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90A-DB26-4D80-81E6-38284311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418-5AEE-44B7-849B-A2F8C9A2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DB0-8075-412D-9398-9D9D5D4B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DE4-4E04-4625-9B9A-63F6B634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D71-0054-4830-A25C-CA0C293F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F12-9BEA-4473-8695-81F80DA1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171-FD80-4B5E-ACCD-1E63680B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8CA-8782-47A6-AA03-8A10940D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089-F965-4C2F-B622-E8A8408F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69D-DB5F-47F6-B1D7-7ED6F9A1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409-D0F9-4B5C-82CC-C4A58564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DD8-B072-4077-BD97-13FC7BD5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73D2-8DF2-4551-88BF-2C5F19F6D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5280" y="549360"/>
          <a:ext cx="8424720" cy="5904000"/>
        </p:xfrm>
        <a:graphic>
          <a:graphicData uri="http://schemas.openxmlformats.org/drawingml/2006/table">
            <a:tbl>
              <a:tblPr/>
              <a:tblGrid>
                <a:gridCol w="2232000"/>
                <a:gridCol w="1081080"/>
                <a:gridCol w="1079640"/>
                <a:gridCol w="1079280"/>
                <a:gridCol w="1009800"/>
                <a:gridCol w="1008000"/>
                <a:gridCol w="93492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Je por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5b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45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987640" y="98100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1268280"/>
            <a:ext cx="28872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69228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19640" y="98100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8720" y="1341360"/>
            <a:ext cx="288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62064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43640" y="134136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0360" y="134136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69228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69228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51640" y="134136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134136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64360" y="98100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51640" y="69228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69228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8360" y="141300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8360" y="105264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8360" y="69228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56720" y="1413000"/>
            <a:ext cx="288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956720" y="1052640"/>
            <a:ext cx="288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56720" y="692280"/>
            <a:ext cx="288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576360" cy="107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51280" y="1989000"/>
            <a:ext cx="790560" cy="6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865080" cy="779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940360" y="2060640"/>
            <a:ext cx="865080" cy="687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948360" y="2060640"/>
            <a:ext cx="863640" cy="647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7956720" y="2060640"/>
            <a:ext cx="782640" cy="657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2700360" y="4292640"/>
            <a:ext cx="957240" cy="819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3780000" y="4149720"/>
            <a:ext cx="865080" cy="1098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4859280" y="4365720"/>
            <a:ext cx="936720" cy="758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5940360" y="4325760"/>
            <a:ext cx="792360" cy="776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6948360" y="4149720"/>
            <a:ext cx="920880" cy="100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7956720" y="4221000"/>
            <a:ext cx="7920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1:28:29Z</dcterms:created>
  <dc:creator>CSeccombe</dc:creator>
  <dc:description/>
  <dc:language>en-US</dc:language>
  <cp:lastModifiedBy>CSeccombe</cp:lastModifiedBy>
  <dcterms:modified xsi:type="dcterms:W3CDTF">2005-04-05T20:42:40Z</dcterms:modified>
  <cp:revision>4</cp:revision>
  <dc:subject/>
  <dc:title>Slide 1</dc:title>
</cp:coreProperties>
</file>