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AAB1-9330-4E80-B246-706A4829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D1EB-C9D4-4D2A-8674-29CB4316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AD5F-EF90-4E32-863C-F2B9210D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7F29-5D45-4566-9274-7CE2BB8B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104-286B-42EC-A259-CBF0CB4F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C204-8AE5-4296-8891-2E65266A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03D6-81B1-406E-B856-D0587B38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459C-26D0-40D4-AD8E-67E584C7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63AC-EBE4-4FC1-9BFF-9DA50E8F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3E4F-C46D-4F6E-BF61-3716EB0E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25F-CFE4-46FD-BA84-1EBA2B49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6061-67FA-4531-9A59-21E2221D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DF32-25CF-4045-820A-C0D346A4A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95280" y="549360"/>
          <a:ext cx="8424720" cy="5904000"/>
        </p:xfrm>
        <a:graphic>
          <a:graphicData uri="http://schemas.openxmlformats.org/drawingml/2006/table">
            <a:tbl>
              <a:tblPr/>
              <a:tblGrid>
                <a:gridCol w="2232000"/>
                <a:gridCol w="1081080"/>
                <a:gridCol w="1079640"/>
                <a:gridCol w="1079280"/>
                <a:gridCol w="1009800"/>
                <a:gridCol w="1008000"/>
                <a:gridCol w="93492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Je port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5b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</a:tr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e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5451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603ab"/>
                        </a:gs>
                        <a:gs pos="100000">
                          <a:srgbClr val="a603ab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987640" y="98100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1268280"/>
            <a:ext cx="288720" cy="28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51280" y="69228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19640" y="98100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08720" y="1341360"/>
            <a:ext cx="28872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59280" y="62064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43640" y="134136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0360" y="134136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69228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0360" y="69228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51640" y="134136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134136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164360" y="98100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51640" y="69228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48360" y="69228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8360" y="141300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8360" y="105264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8360" y="69228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56720" y="1413000"/>
            <a:ext cx="28872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956720" y="1052640"/>
            <a:ext cx="28872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956720" y="692280"/>
            <a:ext cx="28872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43280" y="1773360"/>
            <a:ext cx="576360" cy="1079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851280" y="1989000"/>
            <a:ext cx="790560" cy="69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859280" y="1989000"/>
            <a:ext cx="865080" cy="779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940360" y="2060640"/>
            <a:ext cx="865080" cy="687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948360" y="2060640"/>
            <a:ext cx="863640" cy="647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7956720" y="2060640"/>
            <a:ext cx="782640" cy="657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2700360" y="4292640"/>
            <a:ext cx="957240" cy="819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3780000" y="4149720"/>
            <a:ext cx="865080" cy="1098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4859280" y="4365720"/>
            <a:ext cx="936720" cy="758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5940360" y="4325760"/>
            <a:ext cx="792360" cy="776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1"/>
          <a:stretch/>
        </p:blipFill>
        <p:spPr>
          <a:xfrm>
            <a:off x="6948360" y="4149720"/>
            <a:ext cx="920880" cy="100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2"/>
          <a:stretch/>
        </p:blipFill>
        <p:spPr>
          <a:xfrm>
            <a:off x="7956720" y="4221000"/>
            <a:ext cx="7920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1:28:29Z</dcterms:created>
  <dc:creator>CSeccombe</dc:creator>
  <dc:description/>
  <dc:language>en-US</dc:language>
  <cp:lastModifiedBy>CSeccombe</cp:lastModifiedBy>
  <dcterms:modified xsi:type="dcterms:W3CDTF">2005-04-05T20:42:40Z</dcterms:modified>
  <cp:revision>4</cp:revision>
  <dc:subject/>
  <dc:title>Slide 1</dc:title>
</cp:coreProperties>
</file>