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A86-444B-4E3E-B351-2551CF94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B0C-6CAB-4A21-A97E-714781F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B5F-CF4B-408B-A805-BBE2C147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4EA-9826-4BAE-9EF4-9B674D48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A7-D28D-4B50-99C8-AAB9426C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6A-05FF-4EC5-B043-E69E2689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70A-F35B-4680-AA6B-8FA94CE9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8DC-135A-4C4A-B2AA-1D7AC7B5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91B-0461-4BF7-B9F0-E4E7F74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D08-8184-410B-8B28-96493523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DBF-D71E-49FD-B4C2-E9B679A6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149-6696-4702-9F9A-3555376F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D1E-4C8F-47A8-A0E9-EF99B5AA30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42280" y="900000"/>
            <a:ext cx="16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LA NOURRI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805760" y="90000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fro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189760" y="900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fr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00280" y="2124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ou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21240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ois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492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via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5253840" y="34196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p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1917720" y="48592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oeu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5155200" y="4859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fr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2010960" y="61563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g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110920" y="6227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jam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773360" y="745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es pommes de ter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1"/>
          <p:cNvSpPr/>
          <p:nvPr/>
        </p:nvSpPr>
        <p:spPr>
          <a:xfrm>
            <a:off x="5048280" y="7596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s céré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deliciousdiets.co.uk/clipartfood/cheese.gif"/>
          <p:cNvPicPr/>
          <p:nvPr/>
        </p:nvPicPr>
        <p:blipFill>
          <a:blip r:embed="rId1"/>
          <a:stretch/>
        </p:blipFill>
        <p:spPr>
          <a:xfrm>
            <a:off x="3860640" y="611280"/>
            <a:ext cx="946440" cy="86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www.clker.com/cliparts/7/f/4/e/11954350521543504364Machovka_chips.svg.hi.png"/>
          <p:cNvPicPr/>
          <p:nvPr/>
        </p:nvPicPr>
        <p:blipFill>
          <a:blip r:embed="rId2"/>
          <a:stretch/>
        </p:blipFill>
        <p:spPr>
          <a:xfrm>
            <a:off x="692280" y="1908000"/>
            <a:ext cx="720720" cy="90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ngfl.northumberland.gov.uk/dt/dtclip/food_alb/images/chicken%20col_JPG.jpg"/>
          <p:cNvPicPr/>
          <p:nvPr/>
        </p:nvPicPr>
        <p:blipFill>
          <a:blip r:embed="rId3"/>
          <a:stretch/>
        </p:blipFill>
        <p:spPr>
          <a:xfrm>
            <a:off x="3645000" y="1979640"/>
            <a:ext cx="1152360" cy="74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www.jointcare.org/fish_clipart.gif"/>
          <p:cNvPicPr/>
          <p:nvPr/>
        </p:nvPicPr>
        <p:blipFill>
          <a:blip r:embed="rId4"/>
          <a:stretch/>
        </p:blipFill>
        <p:spPr>
          <a:xfrm>
            <a:off x="549360" y="3268800"/>
            <a:ext cx="993600" cy="88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www.clipartpal.com/_thumbs/food_meat_113706_tns.png"/>
          <p:cNvPicPr/>
          <p:nvPr/>
        </p:nvPicPr>
        <p:blipFill>
          <a:blip r:embed="rId5"/>
          <a:stretch/>
        </p:blipFill>
        <p:spPr>
          <a:xfrm>
            <a:off x="3860640" y="3348000"/>
            <a:ext cx="863640" cy="77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Loaf Of Bread Clip Art"/>
          <p:cNvPicPr/>
          <p:nvPr/>
        </p:nvPicPr>
        <p:blipFill>
          <a:blip r:embed="rId6"/>
          <a:stretch/>
        </p:blipFill>
        <p:spPr>
          <a:xfrm>
            <a:off x="476280" y="4788000"/>
            <a:ext cx="1152360" cy="61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Fried Eggs Clip Art"/>
          <p:cNvPicPr/>
          <p:nvPr/>
        </p:nvPicPr>
        <p:blipFill>
          <a:blip r:embed="rId7"/>
          <a:stretch/>
        </p:blipFill>
        <p:spPr>
          <a:xfrm>
            <a:off x="3860640" y="4716360"/>
            <a:ext cx="863640" cy="72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http://www.dailyclipart.net/wp-content/uploads/medium/clipart0262.jpg"/>
          <p:cNvPicPr/>
          <p:nvPr/>
        </p:nvPicPr>
        <p:blipFill>
          <a:blip r:embed="rId8"/>
          <a:stretch/>
        </p:blipFill>
        <p:spPr>
          <a:xfrm>
            <a:off x="476280" y="6084720"/>
            <a:ext cx="1152360" cy="79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http://motoki-y.sakura.ne.jp/illust/food/ice/02.gif"/>
          <p:cNvPicPr/>
          <p:nvPr/>
        </p:nvPicPr>
        <p:blipFill>
          <a:blip r:embed="rId9"/>
          <a:stretch/>
        </p:blipFill>
        <p:spPr>
          <a:xfrm>
            <a:off x="3716280" y="6084720"/>
            <a:ext cx="1152720" cy="7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http://www.hasslefreeclipart.com/clipart_food/misc/ham.gif"/>
          <p:cNvPicPr/>
          <p:nvPr/>
        </p:nvPicPr>
        <p:blipFill>
          <a:blip r:embed="rId10"/>
          <a:stretch/>
        </p:blipFill>
        <p:spPr>
          <a:xfrm>
            <a:off x="476280" y="7380360"/>
            <a:ext cx="1052640" cy="79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http://www.dailyclipart.net/wp-content/uploads/medium/clipart0268.jpg"/>
          <p:cNvPicPr/>
          <p:nvPr/>
        </p:nvPicPr>
        <p:blipFill>
          <a:blip r:embed="rId11"/>
          <a:stretch/>
        </p:blipFill>
        <p:spPr>
          <a:xfrm>
            <a:off x="3645000" y="7451640"/>
            <a:ext cx="1258920" cy="79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889640" y="8269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sal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169600" y="33480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j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’o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350320" y="2124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caf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492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th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1700280" y="622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co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5013360" y="4859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la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vin blan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0"/>
          <p:cNvSpPr/>
          <p:nvPr/>
        </p:nvSpPr>
        <p:spPr>
          <a:xfrm>
            <a:off x="5084640" y="82692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e chocolat chau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2"/>
          <p:cNvSpPr/>
          <p:nvPr/>
        </p:nvSpPr>
        <p:spPr>
          <a:xfrm>
            <a:off x="5084640" y="6227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biè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3"/>
          <p:cNvSpPr/>
          <p:nvPr/>
        </p:nvSpPr>
        <p:spPr>
          <a:xfrm>
            <a:off x="1916280" y="7451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vin rou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1844640" y="2124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e pain gril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www.hasslefreeclipart.com/clipart_food/breakfast/cereal.gif"/>
          <p:cNvPicPr/>
          <p:nvPr/>
        </p:nvPicPr>
        <p:blipFill>
          <a:blip r:embed="rId1"/>
          <a:stretch/>
        </p:blipFill>
        <p:spPr>
          <a:xfrm>
            <a:off x="620640" y="611280"/>
            <a:ext cx="912960" cy="79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clipartmountain.com/clip7/salad2s.gif"/>
          <p:cNvPicPr/>
          <p:nvPr/>
        </p:nvPicPr>
        <p:blipFill>
          <a:blip r:embed="rId2"/>
          <a:stretch/>
        </p:blipFill>
        <p:spPr>
          <a:xfrm>
            <a:off x="3789360" y="611280"/>
            <a:ext cx="1079640" cy="83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t3.gstatic.com/images?q=tbn:p8lzd6RiHOZtOM:http://images.clipartof.com/thumbnails/40091-Clipart-Illustration-Of-A-Smiling-Marshmallow-Floating-In-Hot-Chocolate.jpg&amp;t=1"/>
          <p:cNvPicPr/>
          <p:nvPr/>
        </p:nvPicPr>
        <p:blipFill>
          <a:blip r:embed="rId3"/>
          <a:stretch/>
        </p:blipFill>
        <p:spPr>
          <a:xfrm>
            <a:off x="620640" y="1908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www.picturesof.net/_images/two_slices_toast_with_butter_royalty_free_080907-210578-820048.jpg"/>
          <p:cNvPicPr/>
          <p:nvPr/>
        </p:nvPicPr>
        <p:blipFill>
          <a:blip r:embed="rId4"/>
          <a:stretch/>
        </p:blipFill>
        <p:spPr>
          <a:xfrm>
            <a:off x="3860640" y="1908000"/>
            <a:ext cx="863640" cy="87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www.cksinfo.com/clipart/food/beveragesdrinks/coffee/coffe-mug2.png"/>
          <p:cNvPicPr/>
          <p:nvPr/>
        </p:nvPicPr>
        <p:blipFill>
          <a:blip r:embed="rId5"/>
          <a:stretch/>
        </p:blipFill>
        <p:spPr>
          <a:xfrm>
            <a:off x="692280" y="3276720"/>
            <a:ext cx="765000" cy="90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ea Kettle And Cup Clip Art"/>
          <p:cNvPicPr/>
          <p:nvPr/>
        </p:nvPicPr>
        <p:blipFill>
          <a:blip r:embed="rId6"/>
          <a:stretch/>
        </p:blipFill>
        <p:spPr>
          <a:xfrm>
            <a:off x="3860640" y="327672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http://clipart.m-y-d-s.com/drinks/orange_juice/a.gif"/>
          <p:cNvPicPr/>
          <p:nvPr/>
        </p:nvPicPr>
        <p:blipFill>
          <a:blip r:embed="rId7"/>
          <a:stretch/>
        </p:blipFill>
        <p:spPr>
          <a:xfrm>
            <a:off x="620640" y="471636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6"/>
          <p:cNvSpPr/>
          <p:nvPr/>
        </p:nvSpPr>
        <p:spPr>
          <a:xfrm>
            <a:off x="155520" y="-601560"/>
            <a:ext cx="7430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8" descr="http://images.musthavemenus.com/images/13/m2800799aa/img_m2800799aa1.jpg"/>
          <p:cNvPicPr/>
          <p:nvPr/>
        </p:nvPicPr>
        <p:blipFill>
          <a:blip r:embed="rId8"/>
          <a:stretch/>
        </p:blipFill>
        <p:spPr>
          <a:xfrm>
            <a:off x="3860640" y="4643280"/>
            <a:ext cx="720720" cy="849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http://ngfl.northumberland.gov.uk/clipart/food/images/milk%20bottles%20col_jpg.jpg"/>
          <p:cNvPicPr/>
          <p:nvPr/>
        </p:nvPicPr>
        <p:blipFill>
          <a:blip r:embed="rId9"/>
          <a:stretch/>
        </p:blipFill>
        <p:spPr>
          <a:xfrm>
            <a:off x="692280" y="6084720"/>
            <a:ext cx="576000" cy="7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http://images.musthavemenus.com/images/13/m2800299aa/img_m2800299aa1.jpg"/>
          <p:cNvPicPr/>
          <p:nvPr/>
        </p:nvPicPr>
        <p:blipFill>
          <a:blip r:embed="rId10"/>
          <a:stretch/>
        </p:blipFill>
        <p:spPr>
          <a:xfrm>
            <a:off x="3789360" y="7380360"/>
            <a:ext cx="1004760" cy="79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http://www.public-domain-photos.com/free-cliparts-4/food/beverages/beer.png"/>
          <p:cNvPicPr/>
          <p:nvPr/>
        </p:nvPicPr>
        <p:blipFill>
          <a:blip r:embed="rId11"/>
          <a:stretch/>
        </p:blipFill>
        <p:spPr>
          <a:xfrm>
            <a:off x="549360" y="7380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  cartoon cola drink "/>
          <p:cNvPicPr/>
          <p:nvPr/>
        </p:nvPicPr>
        <p:blipFill>
          <a:blip r:embed="rId12"/>
          <a:stretch/>
        </p:blipFill>
        <p:spPr>
          <a:xfrm>
            <a:off x="3716280" y="6084720"/>
            <a:ext cx="1143000" cy="64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9:13Z</dcterms:modified>
  <cp:revision>18</cp:revision>
  <dc:subject/>
  <dc:title>Slide 1</dc:title>
</cp:coreProperties>
</file>