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0F6F-8B57-46E6-B6F6-E16200A6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8587-CAA1-4036-8859-12BFE05F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ACD5-33D1-4AF5-A25A-4104313C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8BEB-4E38-43F6-8AD1-C4753784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83FF-E007-4287-9C43-1069CBEF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0023-BF31-458C-A73A-FEEAE8CE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4E3D-089E-4E54-B01B-84E638E3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1F96-2D6E-4A98-829A-C0AE0FA3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E4F4-BABD-4799-A7F4-585C7667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00C9-FCA0-46A2-BFF2-5C0B1EB3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F32-8CCE-436F-A89B-410DEF37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24DA-5FC0-441D-932A-EFA45940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01E8-7C51-4247-A1D3-B0438A61F89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14200" y="214200"/>
          <a:ext cx="8572680" cy="61437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  <a:gridCol w="1714680"/>
              </a:tblGrid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’ai les yeux bleu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’ai les cheveux noi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’ai les cheveux ondulé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’ai les cheveux raid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 suis petit(e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’ai les yeux marr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 suis grand(e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 suis de taille moyen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’ai les cheveux brun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 suis symp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 frère a les cheveux blon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 soeur a les yeux ver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 frè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 gourman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 soeur est bavard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 frère a les cheveux cour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4500720" y="6597720"/>
            <a:ext cx="45352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/MConnolly 2011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14200" y="214200"/>
          <a:ext cx="8572680" cy="61437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  <a:gridCol w="1714680"/>
              </a:tblGrid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 soeur a les cheveux long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 frè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 gourman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 soeur est sportiv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 frère est paresseux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 soeur est timid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4500720" y="6597720"/>
            <a:ext cx="45352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/MConnolly 2011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9:01:54Z</dcterms:created>
  <dc:creator>john</dc:creator>
  <dc:description/>
  <dc:language>en-US</dc:language>
  <cp:lastModifiedBy>Clare Seccombe</cp:lastModifiedBy>
  <dcterms:modified xsi:type="dcterms:W3CDTF">2011-04-04T11:10:06Z</dcterms:modified>
  <cp:revision>15</cp:revision>
  <dc:subject/>
  <dc:title>Slide 1</dc:title>
</cp:coreProperties>
</file>