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1D2-DB77-4AA0-B484-C148343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54A-06B0-4EAB-8760-C985CD10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35B-36EE-45EF-8D11-AC13CE26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425-F444-45E1-BF38-199CEEF7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D71-B2C3-49A0-B935-CBACD1D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CC4-1646-4EE1-98C1-A677AB8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144-995B-4EFC-8C07-1A36556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A65-2203-4F4D-B3BD-9E28EC6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27C-9EFA-4B37-A70C-D314A4F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E51-BC43-4152-A705-2FEB5CC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D7D-CB6E-48C6-8140-31990BF2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A95-C097-4AC2-8F90-CCA2AAF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1326-B395-4AF0-8BE7-6C21E95C07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yeux bleu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noi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ondulé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rai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petit(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yeux marr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grand(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de taille moyen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’ai les cheveux bru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 suis symp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a les cheveux blo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a les yeux ve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gourm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bavar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a les cheveux cour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4200" y="214200"/>
          <a:ext cx="8572680" cy="61437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a les cheveux long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gourm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sporti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 frère est paresseux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 soeur est tim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500720" y="6597720"/>
            <a:ext cx="4535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MFL Sunderland/MConnolly 2011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9:01:54Z</dcterms:created>
  <dc:creator>john</dc:creator>
  <dc:description/>
  <dc:language>en-US</dc:language>
  <cp:lastModifiedBy>Clare Seccombe</cp:lastModifiedBy>
  <dcterms:modified xsi:type="dcterms:W3CDTF">2011-04-04T11:10:06Z</dcterms:modified>
  <cp:revision>15</cp:revision>
  <dc:subject/>
  <dc:title>Slide 1</dc:title>
</cp:coreProperties>
</file>